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5.wmf" ContentType="image/x-wmf"/>
  <Override PartName="/ppt/media/image16.wmf" ContentType="image/x-wmf"/>
  <Override PartName="/ppt/media/image55.png" ContentType="image/png"/>
  <Override PartName="/ppt/media/image8.png" ContentType="image/png"/>
  <Override PartName="/ppt/media/image41.wmf" ContentType="image/x-wmf"/>
  <Override PartName="/ppt/media/image12.wmf" ContentType="image/x-wmf"/>
  <Override PartName="/ppt/media/image49.wmf" ContentType="image/x-wmf"/>
  <Override PartName="/ppt/media/image7.jpeg" ContentType="image/jpeg"/>
  <Override PartName="/ppt/media/image31.wmf" ContentType="image/x-wmf"/>
  <Override PartName="/ppt/media/image35.wmf" ContentType="image/x-wmf"/>
  <Override PartName="/ppt/media/image37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36.wmf" ContentType="image/x-wmf"/>
  <Override PartName="/ppt/media/image48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52.wmf" ContentType="image/x-wmf"/>
  <Override PartName="/ppt/media/image53.wmf" ContentType="image/x-wmf"/>
  <Override PartName="/ppt/media/image54.wmf" ContentType="image/x-wmf"/>
  <Override PartName="/ppt/media/image17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9.png" ContentType="image/png"/>
  <Override PartName="/ppt/media/image42.wmf" ContentType="image/x-wmf"/>
  <Override PartName="/ppt/media/image39.png" ContentType="image/png"/>
  <Override PartName="/ppt/media/image51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4.jpeg" ContentType="image/jpeg"/>
  <Override PartName="/ppt/media/image40.png" ContentType="image/png"/>
  <Override PartName="/ppt/media/image3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87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4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FA69804-CDBB-4245-AFEE-18E9A556DD8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01AC38-96F8-4891-BD9E-4C73687E9F1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F047-D1DE-495F-B92A-CBA5DACE4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F7BB-C1EA-46B2-9A5B-337CAC80E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EB04-A6BC-457E-9D1A-4808FB186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502A3-7709-4E6E-B81F-F6658CAB91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1BAE-BAF8-4136-857C-50797B820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F0B7-E1F0-4FB8-BF4D-ADBFD6959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814A-91D2-4017-96F8-5864E43B2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AE54-1806-447B-92EC-03E9D8F2A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86AE-DFED-4473-AA36-7AF288445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AB35-520F-426D-BBDF-AD1920B4A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7348-7F7C-4E84-BFC1-4B1BA8F11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8809-CC55-4EB2-979B-BA00054D7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5280" y="6351480"/>
            <a:ext cx="8229600" cy="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93560" y="6453360"/>
            <a:ext cx="2627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820800"/>
            <a:chOff x="0" y="0"/>
            <a:chExt cx="9144000" cy="8208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2760840" y="1440"/>
              <a:ext cx="638316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050920" cy="8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5435640" y="4437000"/>
            <a:ext cx="324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Événement  - date</a:t>
            </a:r>
            <a:endParaRPr b="0" lang="en-US" sz="1300" spc="-1" strike="noStrike">
              <a:solidFill>
                <a:srgbClr val="01488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539640" y="6383160"/>
            <a:ext cx="517680" cy="408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2052720" y="6541920"/>
            <a:ext cx="831600" cy="1447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3102120" y="6496200"/>
            <a:ext cx="687240" cy="285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1332000" y="639756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3924360" y="6451560"/>
            <a:ext cx="43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049e"/>
                </a:solidFill>
                <a:latin typeface="Arial"/>
                <a:ea typeface="Times New Roman"/>
              </a:rPr>
              <a:t>MEA’10, December 09</a:t>
            </a:r>
            <a:r>
              <a:rPr b="1" lang="en-US" sz="1400" spc="-1" strike="noStrike" baseline="30000">
                <a:solidFill>
                  <a:srgbClr val="29049e"/>
                </a:solidFill>
                <a:latin typeface="Arial"/>
                <a:ea typeface="Times New Roman"/>
              </a:rPr>
              <a:t>th</a:t>
            </a:r>
            <a:r>
              <a:rPr b="1" lang="en-US" sz="1400" spc="-1" strike="noStrike">
                <a:solidFill>
                  <a:srgbClr val="29049e"/>
                </a:solidFill>
                <a:latin typeface="Arial"/>
                <a:ea typeface="Times New Roman"/>
              </a:rPr>
              <a:t>, 2010</a:t>
            </a:r>
            <a:endParaRPr b="0" lang="en-US" sz="1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8027640" y="6408720"/>
            <a:ext cx="1042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148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16C-C492-4D08-A808-8E97A6B65531}" type="slidenum">
              <a:rPr b="1" lang="en-US" sz="1400" spc="-1" strike="noStrike">
                <a:solidFill>
                  <a:srgbClr val="0148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14880"/>
                </a:solidFill>
                <a:latin typeface="Arial"/>
              </a:rPr>
              <a:t>/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87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48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88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488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148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8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8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8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148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48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1488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1488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48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1488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148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48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1488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148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48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148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mailto:sofiane.khadraoui@femto-st.fr" TargetMode="External"/><Relationship Id="rId3" Type="http://schemas.openxmlformats.org/officeDocument/2006/relationships/hyperlink" Target="mailto:mrakoton@femto-st.fr" TargetMode="External"/><Relationship Id="rId4" Type="http://schemas.openxmlformats.org/officeDocument/2006/relationships/hyperlink" Target="mailto:plutz@femto-st.fr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8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4960" y="-33480"/>
            <a:ext cx="561672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 algn="just">
              <a:lnSpc>
                <a:spcPct val="14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9049e"/>
                </a:solidFill>
                <a:latin typeface="Arial"/>
                <a:ea typeface="Times New Roman"/>
              </a:rPr>
              <a:t>Performances analysis of controlled interval systems using H</a:t>
            </a:r>
            <a:r>
              <a:rPr b="1" lang="en-US" sz="3300" spc="-1" strike="noStrike" baseline="-25000">
                <a:solidFill>
                  <a:srgbClr val="29049e"/>
                </a:solidFill>
                <a:latin typeface="Arial"/>
                <a:ea typeface="Times New Roman"/>
              </a:rPr>
              <a:t>∞</a:t>
            </a:r>
            <a:r>
              <a:rPr b="1" lang="en-US" sz="3300" spc="-1" strike="noStrike">
                <a:solidFill>
                  <a:srgbClr val="29049e"/>
                </a:solidFill>
                <a:latin typeface="Arial"/>
                <a:ea typeface="Times New Roman"/>
              </a:rPr>
              <a:t> approach</a:t>
            </a:r>
            <a:endParaRPr b="0" lang="en-US" sz="33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565360"/>
            <a:ext cx="36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sofiane.khadraoui@femto-st.fr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mrakoton@femto-st.fr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plutz@femto-st.fr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58BD-796C-4921-B28D-A3D1A579EA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539640" y="1595520"/>
            <a:ext cx="7890480" cy="394920"/>
            <a:chOff x="539640" y="1595520"/>
            <a:chExt cx="7890480" cy="394920"/>
          </a:xfrm>
        </p:grpSpPr>
        <p:grpSp>
          <p:nvGrpSpPr>
            <p:cNvPr id="199" name=""/>
            <p:cNvGrpSpPr/>
            <p:nvPr/>
          </p:nvGrpSpPr>
          <p:grpSpPr>
            <a:xfrm>
              <a:off x="539640" y="1595520"/>
              <a:ext cx="6624720" cy="394920"/>
              <a:chOff x="539640" y="1595520"/>
              <a:chExt cx="6624720" cy="394920"/>
            </a:xfrm>
          </p:grpSpPr>
          <p:sp>
            <p:nvSpPr>
              <p:cNvPr id="200" name=""/>
              <p:cNvSpPr/>
              <p:nvPr/>
            </p:nvSpPr>
            <p:spPr>
              <a:xfrm>
                <a:off x="539640" y="1595520"/>
                <a:ext cx="23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408"/>
                    </a:solidFill>
                    <a:latin typeface="Arial"/>
                    <a:ea typeface="Times New Roman"/>
                  </a:rPr>
                  <a:t>Interval analysis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32000" y="1622160"/>
                <a:ext cx="403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408"/>
                    </a:solidFill>
                    <a:latin typeface="Arial"/>
                    <a:ea typeface="Times New Roman"/>
                  </a:rPr>
                  <a:t>replacing real numbers by intervals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98680" y="1679400"/>
                <a:ext cx="647640" cy="288720"/>
              </a:xfrm>
              <a:prstGeom prst="leftRightArrow">
                <a:avLst>
                  <a:gd name="adj1" fmla="val 50000"/>
                  <a:gd name="adj2" fmla="val 44655"/>
                </a:avLst>
              </a:prstGeom>
              <a:solidFill>
                <a:srgbClr val="ce8018"/>
              </a:solidFill>
              <a:ln w="936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6841080" y="1598400"/>
              <a:ext cx="158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593fd"/>
                  </a:solidFill>
                  <a:latin typeface="Arial"/>
                  <a:ea typeface="Arial"/>
                </a:rPr>
                <a:t>[Moore, 1966]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47640" y="836640"/>
            <a:ext cx="604692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Robust control using interval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67280" y="-27000"/>
            <a:ext cx="56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2- Robust control approaches for parametric uncertain system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2192400"/>
            <a:ext cx="8696160" cy="3628440"/>
            <a:chOff x="324000" y="2192400"/>
            <a:chExt cx="8696160" cy="3628440"/>
          </a:xfrm>
        </p:grpSpPr>
        <p:sp>
          <p:nvSpPr>
            <p:cNvPr id="207" name=""/>
            <p:cNvSpPr/>
            <p:nvPr/>
          </p:nvSpPr>
          <p:spPr>
            <a:xfrm>
              <a:off x="2943360" y="5178240"/>
              <a:ext cx="249048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408"/>
                  </a:solidFill>
                  <a:latin typeface="Arial"/>
                  <a:ea typeface="Arial"/>
                </a:rPr>
                <a:t>Guaranteed stability &amp; robust performances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24000" y="2192400"/>
              <a:ext cx="8696160" cy="2970000"/>
              <a:chOff x="324000" y="2192400"/>
              <a:chExt cx="8696160" cy="29700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324000" y="2192400"/>
                <a:ext cx="7136640" cy="393480"/>
                <a:chOff x="324000" y="2192400"/>
                <a:chExt cx="7136640" cy="39348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1657800" y="2192400"/>
                  <a:ext cx="5802840" cy="369720"/>
                  <a:chOff x="1657800" y="2192400"/>
                  <a:chExt cx="5802840" cy="3697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813120" y="2193840"/>
                    <a:ext cx="1892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800" spc="-1" strike="noStrike">
                        <a:solidFill>
                          <a:srgbClr val="0593fd"/>
                        </a:solidFill>
                        <a:latin typeface="Arial"/>
                        <a:ea typeface="Arial"/>
                      </a:rPr>
                      <a:t>[Bondia. CDC03]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655240" y="2193840"/>
                    <a:ext cx="1805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593fd"/>
                        </a:solidFill>
                        <a:latin typeface="Arial"/>
                        <a:ea typeface="Arial"/>
                      </a:rPr>
                      <a:t>[Tchen. CCE00]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657800" y="2192400"/>
                    <a:ext cx="2221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800" spc="-1" strike="noStrike">
                        <a:solidFill>
                          <a:srgbClr val="0593fd"/>
                        </a:solidFill>
                        <a:latin typeface="Arial"/>
                        <a:ea typeface="Arial"/>
                      </a:rPr>
                      <a:t>[Khadraoui. CDC10]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324000" y="2217600"/>
                  <a:ext cx="143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343080" indent="-343080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1" lang="en-US" sz="1800" spc="-1" strike="noStrike">
                      <a:solidFill>
                        <a:srgbClr val="4614c2"/>
                      </a:solidFill>
                      <a:latin typeface="Arial"/>
                      <a:ea typeface="Times New Roman"/>
                    </a:rPr>
                    <a:t>Principle: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44520" y="2825640"/>
                <a:ext cx="8675640" cy="2336760"/>
                <a:chOff x="344520" y="2825640"/>
                <a:chExt cx="8675640" cy="233676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1363680" y="2825640"/>
                  <a:ext cx="5543640" cy="2336760"/>
                  <a:chOff x="1363680" y="2825640"/>
                  <a:chExt cx="5543640" cy="23367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5251320" y="3402000"/>
                    <a:ext cx="15843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1363680" y="3330360"/>
                    <a:ext cx="223200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1506600" y="2825640"/>
                    <a:ext cx="2520720" cy="3682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408"/>
                        </a:solidFill>
                        <a:latin typeface="Arial"/>
                        <a:ea typeface="Arial"/>
                      </a:rPr>
                      <a:t>Theory of control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386240" y="2825640"/>
                    <a:ext cx="2521080" cy="3682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408"/>
                        </a:solidFill>
                        <a:latin typeface="Arial"/>
                        <a:ea typeface="Arial"/>
                      </a:rPr>
                      <a:t>Interval analysis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2673600">
                    <a:off x="2945880" y="3438360"/>
                    <a:ext cx="936720" cy="287640"/>
                  </a:xfrm>
                  <a:custGeom>
                    <a:avLst/>
                    <a:gdLst>
                      <a:gd name="textAreaLeft" fmla="*/ 117000 w 936720"/>
                      <a:gd name="textAreaRight" fmla="*/ 819720 w 936720"/>
                      <a:gd name="textAreaTop" fmla="*/ 72000 h 287640"/>
                      <a:gd name="textAreaBottom" fmla="*/ 216000 h 2876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5400"/>
                        </a:moveTo>
                        <a:lnTo>
                          <a:pt x="16200" y="5400"/>
                        </a:ln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16200" y="16200"/>
                        </a:lnTo>
                        <a:lnTo>
                          <a:pt x="0" y="16200"/>
                        </a:lnTo>
                        <a:lnTo>
                          <a:pt x="2700" y="10800"/>
                        </a:lnTo>
                        <a:lnTo>
                          <a:pt x="0" y="5400"/>
                        </a:lnTo>
                        <a:close/>
                      </a:path>
                    </a:pathLst>
                  </a:custGeom>
                  <a:solidFill>
                    <a:srgbClr val="ce8018"/>
                  </a:solidFill>
                  <a:ln w="9360">
                    <a:solidFill>
                      <a:srgbClr val="0148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7969200">
                    <a:off x="4642200" y="3440520"/>
                    <a:ext cx="925560" cy="289080"/>
                  </a:xfrm>
                  <a:custGeom>
                    <a:avLst/>
                    <a:gdLst>
                      <a:gd name="textAreaLeft" fmla="*/ 115560 w 925560"/>
                      <a:gd name="textAreaRight" fmla="*/ 810000 w 925560"/>
                      <a:gd name="textAreaTop" fmla="*/ 72000 h 289080"/>
                      <a:gd name="textAreaBottom" fmla="*/ 217080 h 289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5400"/>
                        </a:moveTo>
                        <a:lnTo>
                          <a:pt x="16200" y="5400"/>
                        </a:ln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16200" y="16200"/>
                        </a:lnTo>
                        <a:lnTo>
                          <a:pt x="0" y="16200"/>
                        </a:lnTo>
                        <a:lnTo>
                          <a:pt x="2700" y="10800"/>
                        </a:lnTo>
                        <a:lnTo>
                          <a:pt x="0" y="5400"/>
                        </a:lnTo>
                        <a:close/>
                      </a:path>
                    </a:pathLst>
                  </a:custGeom>
                  <a:solidFill>
                    <a:srgbClr val="ce8018"/>
                  </a:solidFill>
                  <a:ln w="9360">
                    <a:solidFill>
                      <a:srgbClr val="0148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73400" y="3938400"/>
                    <a:ext cx="216072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408"/>
                        </a:solidFill>
                        <a:latin typeface="Arial"/>
                        <a:ea typeface="Arial"/>
                      </a:rPr>
                      <a:t>Robust control   law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5400000">
                    <a:off x="3959280" y="4734000"/>
                    <a:ext cx="568080" cy="288720"/>
                  </a:xfrm>
                  <a:custGeom>
                    <a:avLst/>
                    <a:gdLst>
                      <a:gd name="textAreaLeft" fmla="*/ 70920 w 568080"/>
                      <a:gd name="textAreaRight" fmla="*/ 497160 w 568080"/>
                      <a:gd name="textAreaTop" fmla="*/ 72000 h 288720"/>
                      <a:gd name="textAreaBottom" fmla="*/ 216720 h 28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5400"/>
                        </a:moveTo>
                        <a:lnTo>
                          <a:pt x="16200" y="5400"/>
                        </a:ln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16200" y="16200"/>
                        </a:lnTo>
                        <a:lnTo>
                          <a:pt x="0" y="16200"/>
                        </a:lnTo>
                        <a:lnTo>
                          <a:pt x="2700" y="10800"/>
                        </a:lnTo>
                        <a:lnTo>
                          <a:pt x="0" y="5400"/>
                        </a:lnTo>
                        <a:close/>
                      </a:path>
                    </a:pathLst>
                  </a:custGeom>
                  <a:solidFill>
                    <a:srgbClr val="ce8018"/>
                  </a:solidFill>
                  <a:ln w="9360">
                    <a:solidFill>
                      <a:srgbClr val="0148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344520" y="2937600"/>
                  <a:ext cx="8675640" cy="1157760"/>
                  <a:chOff x="344520" y="2937600"/>
                  <a:chExt cx="8675640" cy="11577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6786720" y="3390840"/>
                    <a:ext cx="223344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408"/>
                        </a:solidFill>
                        <a:latin typeface="Arial"/>
                        <a:ea typeface="Arial"/>
                      </a:rPr>
                      <a:t>Parametric uncertainty Modeling</a:t>
                    </a:r>
                    <a:endParaRPr b="0" lang="en-US" sz="16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44520" y="3514680"/>
                    <a:ext cx="151272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408"/>
                        </a:solidFill>
                        <a:latin typeface="Arial"/>
                        <a:ea typeface="Arial"/>
                      </a:rPr>
                      <a:t>Required specification</a:t>
                    </a:r>
                    <a:endParaRPr b="0" lang="en-US" sz="16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/>
                  <p:nvPr/>
                </p:nvCxnSpPr>
                <p:spPr>
                  <a:xfrm flipV="1" rot="16200000">
                    <a:off x="7156800" y="2757240"/>
                    <a:ext cx="432360" cy="936000"/>
                  </a:xfrm>
                  <a:prstGeom prst="curvedConnector2">
                    <a:avLst/>
                  </a:prstGeom>
                  <a:ln w="3816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9" name=""/>
                  <p:cNvCxnSpPr/>
                  <p:nvPr/>
                </p:nvCxnSpPr>
                <p:spPr>
                  <a:xfrm flipV="1">
                    <a:off x="920880" y="2937600"/>
                    <a:ext cx="597600" cy="577080"/>
                  </a:xfrm>
                  <a:prstGeom prst="curvedConnector5">
                    <a:avLst>
                      <a:gd name="adj1" fmla="val 26582"/>
                      <a:gd name="adj2" fmla="val 50000"/>
                      <a:gd name="adj3" fmla="val 26582"/>
                    </a:avLst>
                  </a:prstGeom>
                  <a:ln w="38160">
                    <a:solidFill>
                      <a:srgbClr val="009999"/>
                    </a:solidFill>
                    <a:miter/>
                    <a:tailEnd len="med" type="triangle" w="med"/>
                  </a:ln>
                </p:spPr>
              </p:cxnSp>
            </p:grpSp>
          </p:grpSp>
        </p:grpSp>
      </p:grpSp>
      <p:grpSp>
        <p:nvGrpSpPr>
          <p:cNvPr id="230" name=""/>
          <p:cNvGrpSpPr/>
          <p:nvPr/>
        </p:nvGrpSpPr>
        <p:grpSpPr>
          <a:xfrm>
            <a:off x="1692000" y="3680640"/>
            <a:ext cx="5217120" cy="1491120"/>
            <a:chOff x="1692000" y="3680640"/>
            <a:chExt cx="5217120" cy="1491120"/>
          </a:xfrm>
        </p:grpSpPr>
        <p:cxnSp>
          <p:nvCxnSpPr>
            <p:cNvPr id="231" name=""/>
            <p:cNvCxnSpPr/>
            <p:nvPr/>
          </p:nvCxnSpPr>
          <p:spPr>
            <a:xfrm rot="10800000">
              <a:off x="1691640" y="4090320"/>
              <a:ext cx="1224720" cy="1081800"/>
            </a:xfrm>
            <a:prstGeom prst="curvedConnector5">
              <a:avLst>
                <a:gd name="adj1" fmla="val 49926"/>
                <a:gd name="adj2" fmla="val 50000"/>
                <a:gd name="adj3" fmla="val 49926"/>
              </a:avLst>
            </a:prstGeom>
            <a:ln w="57240">
              <a:solidFill>
                <a:srgbClr val="0593fd"/>
              </a:solidFill>
              <a:prstDash val="dashDot"/>
              <a:miter/>
              <a:tailEnd len="med" type="triangle" w="med"/>
            </a:ln>
          </p:spPr>
        </p:cxnSp>
        <p:cxnSp>
          <p:nvCxnSpPr>
            <p:cNvPr id="232" name=""/>
            <p:cNvCxnSpPr/>
            <p:nvPr/>
          </p:nvCxnSpPr>
          <p:spPr>
            <a:xfrm flipV="1">
              <a:off x="5435280" y="3680640"/>
              <a:ext cx="1351800" cy="842040"/>
            </a:xfrm>
            <a:prstGeom prst="curvedConnector5">
              <a:avLst>
                <a:gd name="adj1" fmla="val 49920"/>
                <a:gd name="adj2" fmla="val 50000"/>
                <a:gd name="adj3" fmla="val 49920"/>
              </a:avLst>
            </a:prstGeom>
            <a:ln w="57240">
              <a:solidFill>
                <a:srgbClr val="0593fd"/>
              </a:solidFill>
              <a:prstDash val="dashDot"/>
              <a:miter/>
              <a:tailEnd len="med" type="triangle" w="med"/>
            </a:ln>
          </p:spPr>
        </p:cxnSp>
        <p:sp>
          <p:nvSpPr>
            <p:cNvPr id="233" name=""/>
            <p:cNvSpPr/>
            <p:nvPr/>
          </p:nvSpPr>
          <p:spPr>
            <a:xfrm>
              <a:off x="5806440" y="4294080"/>
              <a:ext cx="11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593fd"/>
                  </a:solidFill>
                  <a:latin typeface="Arial"/>
                  <a:ea typeface="Arial"/>
                </a:rPr>
                <a:t>Accounts</a:t>
              </a:r>
              <a:endParaRPr b="0" lang="en-US" sz="16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26160" y="1941120"/>
            <a:ext cx="8434440" cy="4545360"/>
            <a:chOff x="326160" y="1941120"/>
            <a:chExt cx="8434440" cy="4545360"/>
          </a:xfrm>
        </p:grpSpPr>
        <p:sp>
          <p:nvSpPr>
            <p:cNvPr id="235" name=""/>
            <p:cNvSpPr/>
            <p:nvPr/>
          </p:nvSpPr>
          <p:spPr>
            <a:xfrm rot="21043800">
              <a:off x="539280" y="2565000"/>
              <a:ext cx="8007480" cy="32972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17800" y="3641760"/>
              <a:ext cx="47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e0000"/>
                  </a:solidFill>
                  <a:latin typeface="Arial"/>
                  <a:ea typeface="Arial"/>
                </a:rPr>
                <a:t>- Reduced order controllers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73160" y="4187880"/>
              <a:ext cx="511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e0000"/>
                  </a:solidFill>
                  <a:latin typeface="Arial"/>
                  <a:ea typeface="Arial"/>
                </a:rPr>
                <a:t>- Natural modeling of parametric uncertainties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2CBB-F67F-40CB-859C-AEFB3EADB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197316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Robust control approaches for (parametric) uncertain system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osteriori performances analysis</a:t>
            </a: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Example with the control of piezoelectric cantilever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0B83F-2C35-4B04-B429-373B02B3ED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40000" y="907920"/>
            <a:ext cx="438624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Objective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589720"/>
            <a:ext cx="84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tandard, verify if the controll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nsures required specifications. 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9280" y="1741320"/>
            <a:ext cx="5422680" cy="1255320"/>
            <a:chOff x="179280" y="1741320"/>
            <a:chExt cx="5422680" cy="1255320"/>
          </a:xfrm>
        </p:grpSpPr>
        <p:sp>
          <p:nvSpPr>
            <p:cNvPr id="243" name=""/>
            <p:cNvSpPr/>
            <p:nvPr/>
          </p:nvSpPr>
          <p:spPr>
            <a:xfrm>
              <a:off x="4425840" y="2035080"/>
              <a:ext cx="11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79280" y="1741320"/>
              <a:ext cx="4712400" cy="1255320"/>
              <a:chOff x="179280" y="1741320"/>
              <a:chExt cx="4712400" cy="1255320"/>
            </a:xfrm>
          </p:grpSpPr>
          <p:sp>
            <p:nvSpPr>
              <p:cNvPr id="245" name=""/>
              <p:cNvSpPr/>
              <p:nvPr/>
            </p:nvSpPr>
            <p:spPr>
              <a:xfrm>
                <a:off x="179280" y="204156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79480" y="1814400"/>
                <a:ext cx="725400" cy="503280"/>
              </a:xfrm>
              <a:prstGeom prst="rect">
                <a:avLst/>
              </a:prstGeom>
              <a:noFill/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1106280" y="2261880"/>
                <a:ext cx="0" cy="73476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99800" y="2982960"/>
                <a:ext cx="349092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582800" y="2061720"/>
                <a:ext cx="0" cy="93492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504160" y="2082600"/>
                <a:ext cx="52236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41400" y="1865160"/>
                <a:ext cx="65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C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(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)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5840" y="2076480"/>
                <a:ext cx="54000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77640" y="2074680"/>
                <a:ext cx="50328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54160" y="1885680"/>
                <a:ext cx="147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[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G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](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,[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],[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])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09600" y="1824120"/>
                <a:ext cx="1346400" cy="504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928440" y="1901880"/>
                <a:ext cx="360360" cy="358560"/>
                <a:chOff x="928440" y="1901880"/>
                <a:chExt cx="360360" cy="3585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928440" y="1901880"/>
                  <a:ext cx="360360" cy="3585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984240" y="1939680"/>
                  <a:ext cx="252360" cy="27432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957240" y="1973160"/>
                  <a:ext cx="288720" cy="22968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352040" y="2071440"/>
                <a:ext cx="53964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11000" y="17413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66520" y="211932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333800" y="197964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57440" y="2027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5288040" y="1844640"/>
            <a:ext cx="3709800" cy="368280"/>
            <a:chOff x="5288040" y="1844640"/>
            <a:chExt cx="3709800" cy="368280"/>
          </a:xfrm>
        </p:grpSpPr>
        <p:sp>
          <p:nvSpPr>
            <p:cNvPr id="266" name=""/>
            <p:cNvSpPr/>
            <p:nvPr/>
          </p:nvSpPr>
          <p:spPr>
            <a:xfrm>
              <a:off x="5288040" y="1844640"/>
              <a:ext cx="37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                 : an interval system,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aphicFrame>
          <p:nvGraphicFramePr>
            <p:cNvPr id="267" name=""/>
            <p:cNvGraphicFramePr/>
            <p:nvPr/>
          </p:nvGraphicFramePr>
          <p:xfrm>
            <a:off x="5508720" y="1849680"/>
            <a:ext cx="1111320" cy="35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08720" y="1849680"/>
                      <a:ext cx="1111320" cy="35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9" name=""/>
          <p:cNvGrpSpPr/>
          <p:nvPr/>
        </p:nvGrpSpPr>
        <p:grpSpPr>
          <a:xfrm>
            <a:off x="539640" y="2538360"/>
            <a:ext cx="8463240" cy="2640600"/>
            <a:chOff x="539640" y="2538360"/>
            <a:chExt cx="8463240" cy="2640600"/>
          </a:xfrm>
        </p:grpSpPr>
        <p:sp>
          <p:nvSpPr>
            <p:cNvPr id="270" name=""/>
            <p:cNvSpPr/>
            <p:nvPr/>
          </p:nvSpPr>
          <p:spPr>
            <a:xfrm>
              <a:off x="5292720" y="2538360"/>
              <a:ext cx="371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: a given controller computed with interval control method.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39640" y="3467160"/>
              <a:ext cx="3527280" cy="1711800"/>
              <a:chOff x="539640" y="3467160"/>
              <a:chExt cx="3527280" cy="171180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539640" y="3467160"/>
                <a:ext cx="3527280" cy="1369440"/>
                <a:chOff x="539640" y="3467160"/>
                <a:chExt cx="3527280" cy="13694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9640" y="3467160"/>
                  <a:ext cx="2004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Specifications: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913680" y="3848400"/>
                  <a:ext cx="3153240" cy="988200"/>
                  <a:chOff x="913680" y="3848400"/>
                  <a:chExt cx="3153240" cy="9882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921960" y="4187880"/>
                    <a:ext cx="3144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- Settling time tr 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≤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</a:t>
                    </a:r>
                    <a:endParaRPr b="0" lang="en-US" sz="14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913680" y="4499280"/>
                    <a:ext cx="3052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- Static error 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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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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≤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</a:t>
                    </a:r>
                    <a:endParaRPr b="0" lang="en-US" sz="16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921960" y="3848400"/>
                    <a:ext cx="3144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- No (or small) overshoot</a:t>
                    </a:r>
                    <a:endParaRPr b="0" lang="en-US" sz="14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8" name=""/>
              <p:cNvSpPr/>
              <p:nvPr/>
            </p:nvSpPr>
            <p:spPr>
              <a:xfrm>
                <a:off x="905400" y="4871880"/>
                <a:ext cx="2004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 etc…</a:t>
                </a:r>
                <a:endParaRPr b="0" lang="en-US" sz="14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cxnSp>
        <p:nvCxnSpPr>
          <p:cNvPr id="279" name=""/>
          <p:cNvCxnSpPr/>
          <p:nvPr/>
        </p:nvCxnSpPr>
        <p:spPr>
          <a:xfrm flipV="1" rot="10800000">
            <a:off x="3563280" y="3158640"/>
            <a:ext cx="3674160" cy="1369440"/>
          </a:xfrm>
          <a:prstGeom prst="curvedConnector5">
            <a:avLst>
              <a:gd name="adj1" fmla="val 49995"/>
              <a:gd name="adj2" fmla="val 49986"/>
              <a:gd name="adj3" fmla="val 49995"/>
            </a:avLst>
          </a:prstGeom>
          <a:ln w="57240">
            <a:solidFill>
              <a:srgbClr val="0593fd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8101080" y="38624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20606"/>
                </a:solidFill>
                <a:latin typeface="Arial"/>
                <a:ea typeface="Times New Roman"/>
              </a:rPr>
              <a:t>?</a:t>
            </a:r>
            <a:endParaRPr b="0" lang="en-US" sz="6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4013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controller ensures the required specifications. 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C7486-62A5-499D-A100-BB979609D4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004840" y="890640"/>
            <a:ext cx="504036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Reminding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H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  <a:ea typeface="Arial"/>
              </a:rPr>
              <a:t>∞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principle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633400" y="2060640"/>
            <a:ext cx="4035600" cy="2444040"/>
            <a:chOff x="2633400" y="2060640"/>
            <a:chExt cx="4035600" cy="2444040"/>
          </a:xfrm>
        </p:grpSpPr>
        <p:sp>
          <p:nvSpPr>
            <p:cNvPr id="284" name=""/>
            <p:cNvSpPr/>
            <p:nvPr/>
          </p:nvSpPr>
          <p:spPr>
            <a:xfrm flipV="1">
              <a:off x="3411360" y="2671920"/>
              <a:ext cx="0" cy="1440000"/>
            </a:xfrm>
            <a:prstGeom prst="line">
              <a:avLst/>
            </a:prstGeom>
            <a:ln w="28440">
              <a:solidFill>
                <a:srgbClr val="0004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80560" y="2489400"/>
              <a:ext cx="539640" cy="0"/>
            </a:xfrm>
            <a:prstGeom prst="line">
              <a:avLst/>
            </a:prstGeom>
            <a:ln w="28440">
              <a:solidFill>
                <a:srgbClr val="0004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233880" y="2314800"/>
              <a:ext cx="360360" cy="358920"/>
              <a:chOff x="3233880" y="2314800"/>
              <a:chExt cx="360360" cy="358920"/>
            </a:xfrm>
          </p:grpSpPr>
          <p:sp>
            <p:nvSpPr>
              <p:cNvPr id="287" name=""/>
              <p:cNvSpPr/>
              <p:nvPr/>
            </p:nvSpPr>
            <p:spPr>
              <a:xfrm>
                <a:off x="3233880" y="2314800"/>
                <a:ext cx="360360" cy="35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289680" y="2352600"/>
                <a:ext cx="252360" cy="27468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62680" y="2386440"/>
                <a:ext cx="288720" cy="23004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016080" y="215460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171960" y="25322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06840" y="409896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583800" y="2237040"/>
              <a:ext cx="3063240" cy="2149200"/>
              <a:chOff x="3583800" y="2237040"/>
              <a:chExt cx="3063240" cy="2149200"/>
            </a:xfrm>
          </p:grpSpPr>
          <p:sp>
            <p:nvSpPr>
              <p:cNvPr id="294" name=""/>
              <p:cNvSpPr/>
              <p:nvPr/>
            </p:nvSpPr>
            <p:spPr>
              <a:xfrm>
                <a:off x="5016600" y="2480040"/>
                <a:ext cx="73800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37320" y="2481480"/>
                <a:ext cx="0" cy="147492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583800" y="2237040"/>
                <a:ext cx="1443600" cy="504720"/>
                <a:chOff x="3583800" y="2237040"/>
                <a:chExt cx="1443600" cy="504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583800" y="2497320"/>
                  <a:ext cx="539640" cy="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179600" y="2298960"/>
                  <a:ext cx="792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T</a:t>
                  </a:r>
                  <a:r>
                    <a:rPr b="0" i="1" lang="en-US" sz="1800" spc="-1" strike="noStrike" baseline="-25000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1</a:t>
                  </a:r>
                  <a:r>
                    <a:rPr b="0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s</a:t>
                  </a:r>
                  <a:r>
                    <a:rPr b="0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120920" y="2237040"/>
                  <a:ext cx="906480" cy="504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 flipH="1">
                <a:off x="5927760" y="4132440"/>
                <a:ext cx="71928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5567400" y="3954600"/>
                <a:ext cx="360360" cy="358920"/>
                <a:chOff x="5567400" y="3954600"/>
                <a:chExt cx="360360" cy="3589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67400" y="3954600"/>
                  <a:ext cx="360360" cy="35892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5623200" y="3992400"/>
                  <a:ext cx="252360" cy="27468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596200" y="4026240"/>
                  <a:ext cx="288720" cy="23004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4114800" y="3881520"/>
                <a:ext cx="1447560" cy="504720"/>
                <a:chOff x="4114800" y="3881520"/>
                <a:chExt cx="1447560" cy="50472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5022720" y="4141800"/>
                  <a:ext cx="539640" cy="144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154400" y="3927600"/>
                  <a:ext cx="792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T</a:t>
                  </a:r>
                  <a:r>
                    <a:rPr b="0" i="1" lang="en-US" sz="1800" spc="-1" strike="noStrike" baseline="-25000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2</a:t>
                  </a:r>
                  <a:r>
                    <a:rPr b="0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s</a:t>
                  </a:r>
                  <a:r>
                    <a:rPr b="0" lang="en-US" sz="1800" spc="-1" strike="noStrike">
                      <a:solidFill>
                        <a:srgbClr val="000408"/>
                      </a:solidFill>
                      <a:latin typeface="Times New Roman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114800" y="3881520"/>
                  <a:ext cx="906480" cy="504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5481720" y="361980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13280" y="37515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91920" y="4119840"/>
              <a:ext cx="709560" cy="0"/>
            </a:xfrm>
            <a:prstGeom prst="line">
              <a:avLst/>
            </a:prstGeom>
            <a:ln w="28440">
              <a:solidFill>
                <a:srgbClr val="000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400" y="244188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41400" y="20955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54120" y="37386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38360" y="206064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98480" y="37008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38200" y="1628640"/>
            <a:ext cx="3083760" cy="408600"/>
            <a:chOff x="538200" y="1628640"/>
            <a:chExt cx="3083760" cy="408600"/>
          </a:xfrm>
        </p:grpSpPr>
        <p:sp>
          <p:nvSpPr>
            <p:cNvPr id="318" name=""/>
            <p:cNvSpPr/>
            <p:nvPr/>
          </p:nvSpPr>
          <p:spPr>
            <a:xfrm>
              <a:off x="538200" y="163836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 Stability: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81080" y="162864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593fd"/>
                  </a:solidFill>
                  <a:latin typeface="Arial"/>
                  <a:ea typeface="Arial"/>
                </a:rPr>
                <a:t>[Zames. 1966]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21" name=""/>
          <p:cNvGrpSpPr/>
          <p:nvPr/>
        </p:nvGrpSpPr>
        <p:grpSpPr>
          <a:xfrm>
            <a:off x="2195640" y="4941720"/>
            <a:ext cx="4813200" cy="703800"/>
            <a:chOff x="2195640" y="4941720"/>
            <a:chExt cx="4813200" cy="703800"/>
          </a:xfrm>
        </p:grpSpPr>
        <p:sp>
          <p:nvSpPr>
            <p:cNvPr id="322" name=""/>
            <p:cNvSpPr/>
            <p:nvPr/>
          </p:nvSpPr>
          <p:spPr>
            <a:xfrm>
              <a:off x="5783400" y="4941720"/>
              <a:ext cx="12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bility ensured 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2195640" y="4992480"/>
                  <a:ext cx="2560680" cy="56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4978440" y="5038560"/>
              <a:ext cx="647640" cy="505080"/>
            </a:xfrm>
            <a:prstGeom prst="rightArrow">
              <a:avLst>
                <a:gd name="adj1" fmla="val 50000"/>
                <a:gd name="adj2" fmla="val 3205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52360" y="4400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mall gain theorem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47560" y="5786280"/>
            <a:ext cx="7624800" cy="522360"/>
            <a:chOff x="547560" y="5786280"/>
            <a:chExt cx="7624800" cy="522360"/>
          </a:xfrm>
        </p:grpSpPr>
        <p:sp>
          <p:nvSpPr>
            <p:cNvPr id="328" name=""/>
            <p:cNvSpPr/>
            <p:nvPr/>
          </p:nvSpPr>
          <p:spPr>
            <a:xfrm>
              <a:off x="547560" y="5816520"/>
              <a:ext cx="526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rm of a SISO system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defined by: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5724360" y="5786280"/>
                  <a:ext cx="2448000" cy="5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=</m:t>
                      </m:r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sup</m:t>
                          </m:r>
                        </m:e>
                        <m:lim>
                          <m:r>
                            <m:t xml:space="preserve">w</m:t>
                          </m:r>
                          <m:r>
                            <m:t xml:space="preserve">∈</m:t>
                          </m:r>
                          <m:r>
                            <m:t xml:space="preserve">ℜ</m:t>
                          </m:r>
                        </m:lim>
                      </m:limLow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jw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89FE-AEA1-4C45-BF7B-5462963935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004840" y="890640"/>
            <a:ext cx="504036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Reminding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H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  <a:ea typeface="Arial"/>
              </a:rPr>
              <a:t>∞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principle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83880" y="1523880"/>
            <a:ext cx="229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∞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9960" y="1560600"/>
            <a:ext cx="27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93fd"/>
                </a:solidFill>
                <a:latin typeface="Arial"/>
                <a:ea typeface="Arial"/>
              </a:rPr>
              <a:t>[Doyle and Glover. 1989]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3635280" y="2201760"/>
            <a:ext cx="5616360" cy="1899720"/>
            <a:chOff x="3635280" y="2201760"/>
            <a:chExt cx="5616360" cy="1899720"/>
          </a:xfrm>
        </p:grpSpPr>
        <p:grpSp>
          <p:nvGrpSpPr>
            <p:cNvPr id="335" name=""/>
            <p:cNvGrpSpPr/>
            <p:nvPr/>
          </p:nvGrpSpPr>
          <p:grpSpPr>
            <a:xfrm>
              <a:off x="3635280" y="2201760"/>
              <a:ext cx="5616360" cy="1899720"/>
              <a:chOff x="3635280" y="2201760"/>
              <a:chExt cx="5616360" cy="189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8675640" y="245880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endParaRPr b="0" lang="en-US" sz="20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650080" y="2288880"/>
                <a:ext cx="111240" cy="730440"/>
              </a:xfrm>
              <a:custGeom>
                <a:avLst/>
                <a:gdLst>
                  <a:gd name="textAreaLeft" fmla="*/ 0 w 111240"/>
                  <a:gd name="textAreaRight" fmla="*/ 39960 w 111240"/>
                  <a:gd name="textAreaTop" fmla="*/ 18720 h 730440"/>
                  <a:gd name="textAreaBottom" fmla="*/ 711720 h 73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35280" y="2560320"/>
                <a:ext cx="5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81280" y="2201760"/>
                <a:ext cx="936720" cy="368280"/>
              </a:xfrm>
              <a:prstGeom prst="rect">
                <a:avLst/>
              </a:prstGeom>
              <a:solidFill>
                <a:srgbClr val="d1d1d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1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4120" y="2885760"/>
                <a:ext cx="157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40680" y="2215800"/>
                <a:ext cx="576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z1</a:t>
                </a:r>
                <a:endParaRPr b="0" lang="en-US" sz="20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138880" y="2681280"/>
                <a:ext cx="57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z2</a:t>
                </a:r>
                <a:endParaRPr b="0" lang="en-US" sz="20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20880" y="3103560"/>
                <a:ext cx="107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.S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410080" y="2400120"/>
                <a:ext cx="2763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4097160" y="2391840"/>
                <a:ext cx="0" cy="170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097160" y="239220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644800" y="2681280"/>
                <a:ext cx="936720" cy="368280"/>
              </a:xfrm>
              <a:prstGeom prst="rect">
                <a:avLst/>
              </a:prstGeom>
              <a:solidFill>
                <a:srgbClr val="d1d1d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2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19360" y="2881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2874960"/>
                <a:ext cx="0" cy="11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626160" y="3263760"/>
              <a:ext cx="2131920" cy="398880"/>
              <a:chOff x="6626160" y="3263760"/>
              <a:chExt cx="2131920" cy="39888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7088040" y="3263760"/>
                <a:ext cx="1670040" cy="398880"/>
                <a:chOff x="7088040" y="3263760"/>
                <a:chExt cx="1670040" cy="3988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7088040" y="3276360"/>
                  <a:ext cx="936720" cy="368280"/>
                </a:xfrm>
                <a:prstGeom prst="rect">
                  <a:avLst/>
                </a:prstGeom>
                <a:solidFill>
                  <a:srgbClr val="d1d1d1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W3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181720" y="3263760"/>
                  <a:ext cx="576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0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8024760" y="3479400"/>
                  <a:ext cx="324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 flipH="1">
                <a:off x="6626160" y="3479400"/>
                <a:ext cx="44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852640" y="3328920"/>
            <a:ext cx="4476960" cy="1584360"/>
            <a:chOff x="2852640" y="3328920"/>
            <a:chExt cx="4476960" cy="1584360"/>
          </a:xfrm>
        </p:grpSpPr>
        <p:sp>
          <p:nvSpPr>
            <p:cNvPr id="357" name=""/>
            <p:cNvSpPr/>
            <p:nvPr/>
          </p:nvSpPr>
          <p:spPr>
            <a:xfrm>
              <a:off x="6931080" y="4048200"/>
              <a:ext cx="3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2852640" y="3754440"/>
              <a:ext cx="4394160" cy="1158840"/>
              <a:chOff x="2852640" y="3754440"/>
              <a:chExt cx="4394160" cy="1158840"/>
            </a:xfrm>
          </p:grpSpPr>
          <p:sp>
            <p:nvSpPr>
              <p:cNvPr id="359" name=""/>
              <p:cNvSpPr/>
              <p:nvPr/>
            </p:nvSpPr>
            <p:spPr>
              <a:xfrm>
                <a:off x="4386240" y="3884760"/>
                <a:ext cx="741240" cy="368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(s)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586480" y="3872160"/>
                <a:ext cx="739800" cy="368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(s)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487680" y="3922920"/>
                <a:ext cx="317520" cy="341280"/>
              </a:xfrm>
              <a:prstGeom prst="flowChartSummingJunction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81440" y="4094280"/>
                <a:ext cx="60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05200" y="4094280"/>
                <a:ext cx="58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46800" y="4073760"/>
                <a:ext cx="9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3640320" y="4236840"/>
                <a:ext cx="0" cy="66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52640" y="3773520"/>
                <a:ext cx="26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79720" y="40482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18040" y="4048200"/>
                <a:ext cx="63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17960" y="3754440"/>
                <a:ext cx="63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222720" y="4151520"/>
                <a:ext cx="63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127480" y="4073760"/>
                <a:ext cx="460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23160" y="4067280"/>
                <a:ext cx="0" cy="83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619080" y="4913280"/>
                <a:ext cx="331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6585840" y="3654360"/>
              <a:ext cx="3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40560" y="3489480"/>
              <a:ext cx="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09720" y="3760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30960" y="33289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"/>
            <a:stretch/>
          </p:blipFill>
          <p:spPr>
            <a:xfrm>
              <a:off x="6524640" y="3917880"/>
              <a:ext cx="24768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9" name=""/>
          <p:cNvGrpSpPr/>
          <p:nvPr/>
        </p:nvGrpSpPr>
        <p:grpSpPr>
          <a:xfrm>
            <a:off x="250920" y="2103480"/>
            <a:ext cx="3385440" cy="2954880"/>
            <a:chOff x="250920" y="2103480"/>
            <a:chExt cx="3385440" cy="2954880"/>
          </a:xfrm>
        </p:grpSpPr>
        <p:sp>
          <p:nvSpPr>
            <p:cNvPr id="380" name=""/>
            <p:cNvSpPr/>
            <p:nvPr/>
          </p:nvSpPr>
          <p:spPr>
            <a:xfrm>
              <a:off x="250920" y="2103480"/>
              <a:ext cx="20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pecifications: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68360" y="3141720"/>
              <a:ext cx="3168000" cy="1916640"/>
              <a:chOff x="468360" y="3141720"/>
              <a:chExt cx="3168000" cy="191664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482400" y="3141720"/>
                <a:ext cx="3153960" cy="957960"/>
                <a:chOff x="482400" y="3141720"/>
                <a:chExt cx="3153960" cy="957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90680" y="348120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Settling time/bandwidth </a:t>
                  </a:r>
                  <a:endParaRPr b="0" lang="en-US" sz="14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82400" y="3792600"/>
                  <a:ext cx="305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Static error/static gain</a:t>
                  </a:r>
                  <a:endParaRPr b="0" lang="en-US" sz="14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90680" y="3141720"/>
                  <a:ext cx="3145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No (or small) overshoot</a:t>
                  </a:r>
                  <a:endParaRPr b="0" lang="en-US" sz="14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474480" y="4321080"/>
                <a:ext cx="2003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 Control moderation </a:t>
                </a:r>
                <a:endParaRPr b="0" lang="en-US" sz="14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68360" y="4751280"/>
                <a:ext cx="230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 Disturbances rejection</a:t>
                </a:r>
                <a:endParaRPr b="0" lang="en-US" sz="14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480600" y="2662200"/>
              <a:ext cx="985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tability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19120" y="2057400"/>
            <a:ext cx="4989600" cy="2069640"/>
            <a:chOff x="519120" y="2057400"/>
            <a:chExt cx="4989600" cy="2069640"/>
          </a:xfrm>
        </p:grpSpPr>
        <p:sp>
          <p:nvSpPr>
            <p:cNvPr id="391" name=""/>
            <p:cNvSpPr/>
            <p:nvPr/>
          </p:nvSpPr>
          <p:spPr>
            <a:xfrm>
              <a:off x="519120" y="3119040"/>
              <a:ext cx="2252520" cy="1008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56000" y="2057400"/>
              <a:ext cx="1152720" cy="647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96800" y="2560680"/>
            <a:ext cx="6164280" cy="2112840"/>
            <a:chOff x="496800" y="2560680"/>
            <a:chExt cx="6164280" cy="2112840"/>
          </a:xfrm>
        </p:grpSpPr>
        <p:sp>
          <p:nvSpPr>
            <p:cNvPr id="394" name=""/>
            <p:cNvSpPr/>
            <p:nvPr/>
          </p:nvSpPr>
          <p:spPr>
            <a:xfrm>
              <a:off x="5508720" y="2560680"/>
              <a:ext cx="1152360" cy="647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6800" y="4264200"/>
              <a:ext cx="1914480" cy="409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93560" y="3137040"/>
            <a:ext cx="7653600" cy="2014560"/>
            <a:chOff x="493560" y="3137040"/>
            <a:chExt cx="7653600" cy="2014560"/>
          </a:xfrm>
        </p:grpSpPr>
        <p:sp>
          <p:nvSpPr>
            <p:cNvPr id="397" name=""/>
            <p:cNvSpPr/>
            <p:nvPr/>
          </p:nvSpPr>
          <p:spPr>
            <a:xfrm>
              <a:off x="493560" y="4741920"/>
              <a:ext cx="2206800" cy="409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94440" y="3137040"/>
              <a:ext cx="1152720" cy="6476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708360" y="2637000"/>
            <a:ext cx="1693800" cy="2938320"/>
            <a:chOff x="3708360" y="2637000"/>
            <a:chExt cx="1693800" cy="2938320"/>
          </a:xfrm>
        </p:grpSpPr>
        <p:sp>
          <p:nvSpPr>
            <p:cNvPr id="400" name=""/>
            <p:cNvSpPr/>
            <p:nvPr/>
          </p:nvSpPr>
          <p:spPr>
            <a:xfrm>
              <a:off x="3817800" y="5072040"/>
              <a:ext cx="158436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08360" y="2637000"/>
              <a:ext cx="432000" cy="287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aphicFrame>
        <p:nvGraphicFramePr>
          <p:cNvPr id="402" name=""/>
          <p:cNvGraphicFramePr/>
          <p:nvPr/>
        </p:nvGraphicFramePr>
        <p:xfrm>
          <a:off x="3276720" y="5775480"/>
          <a:ext cx="3483000" cy="4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5775480"/>
                    <a:ext cx="34830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3851280" y="3116160"/>
            <a:ext cx="1873080" cy="3205440"/>
            <a:chOff x="3851280" y="3116160"/>
            <a:chExt cx="1873080" cy="3205440"/>
          </a:xfrm>
        </p:grpSpPr>
        <p:sp>
          <p:nvSpPr>
            <p:cNvPr id="405" name=""/>
            <p:cNvSpPr/>
            <p:nvPr/>
          </p:nvSpPr>
          <p:spPr>
            <a:xfrm>
              <a:off x="3851280" y="5673600"/>
              <a:ext cx="1873080" cy="648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0600" y="3116160"/>
              <a:ext cx="503280" cy="358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292560" y="5084640"/>
                <a:ext cx="3427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⋅</m:t>
                    </m:r>
                    <m:r>
                      <m:t xml:space="preserve">G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6634-7B9B-457C-A165-FA1C3C8DCF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004840" y="890640"/>
            <a:ext cx="537552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Choice of the Weighting function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24360" y="2422440"/>
            <a:ext cx="0" cy="31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314172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593040" y="1925640"/>
            <a:ext cx="2287080" cy="1433520"/>
            <a:chOff x="6593040" y="1925640"/>
            <a:chExt cx="2287080" cy="1433520"/>
          </a:xfrm>
        </p:grpSpPr>
        <p:sp>
          <p:nvSpPr>
            <p:cNvPr id="412" name=""/>
            <p:cNvSpPr/>
            <p:nvPr/>
          </p:nvSpPr>
          <p:spPr>
            <a:xfrm>
              <a:off x="7019280" y="2925720"/>
              <a:ext cx="158040" cy="433440"/>
            </a:xfrm>
            <a:prstGeom prst="ellipse">
              <a:avLst/>
            </a:prstGeom>
            <a:noFill/>
            <a:ln w="28440">
              <a:solidFill>
                <a:srgbClr val="0593f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93040" y="1925640"/>
              <a:ext cx="22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andwidth (min)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112880" y="2367000"/>
              <a:ext cx="2379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138200" y="2421000"/>
            <a:ext cx="3026160" cy="576360"/>
            <a:chOff x="4138200" y="2421000"/>
            <a:chExt cx="3026160" cy="576360"/>
          </a:xfrm>
        </p:grpSpPr>
        <p:sp>
          <p:nvSpPr>
            <p:cNvPr id="416" name=""/>
            <p:cNvSpPr/>
            <p:nvPr/>
          </p:nvSpPr>
          <p:spPr>
            <a:xfrm>
              <a:off x="5724360" y="2997360"/>
              <a:ext cx="1440000" cy="0"/>
            </a:xfrm>
            <a:prstGeom prst="line">
              <a:avLst/>
            </a:prstGeom>
            <a:ln w="28440">
              <a:solidFill>
                <a:srgbClr val="0593fd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38200" y="2421000"/>
              <a:ext cx="159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vershoot (max)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16640" y="270828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898800" y="4221000"/>
            <a:ext cx="2400480" cy="649440"/>
            <a:chOff x="3898800" y="4221000"/>
            <a:chExt cx="2400480" cy="649440"/>
          </a:xfrm>
        </p:grpSpPr>
        <p:sp>
          <p:nvSpPr>
            <p:cNvPr id="420" name=""/>
            <p:cNvSpPr/>
            <p:nvPr/>
          </p:nvSpPr>
          <p:spPr>
            <a:xfrm>
              <a:off x="5651640" y="4705200"/>
              <a:ext cx="647640" cy="165240"/>
            </a:xfrm>
            <a:prstGeom prst="ellipse">
              <a:avLst/>
            </a:prstGeom>
            <a:noFill/>
            <a:ln w="28440">
              <a:solidFill>
                <a:srgbClr val="0593f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98800" y="4221000"/>
              <a:ext cx="20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c error (max)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80000" y="451008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68360" y="2349360"/>
            <a:ext cx="2952720" cy="3380040"/>
            <a:chOff x="468360" y="2349360"/>
            <a:chExt cx="2952720" cy="3380040"/>
          </a:xfrm>
        </p:grpSpPr>
        <p:graphicFrame>
          <p:nvGraphicFramePr>
            <p:cNvPr id="424" name=""/>
            <p:cNvGraphicFramePr/>
            <p:nvPr/>
          </p:nvGraphicFramePr>
          <p:xfrm>
            <a:off x="468360" y="2349360"/>
            <a:ext cx="2952720" cy="130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2349360"/>
                      <a:ext cx="2952720" cy="130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6" name=""/>
            <p:cNvGraphicFramePr/>
            <p:nvPr/>
          </p:nvGraphicFramePr>
          <p:xfrm>
            <a:off x="684360" y="4076640"/>
            <a:ext cx="2039760" cy="79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360" y="4076640"/>
                      <a:ext cx="2039760" cy="79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8" name=""/>
            <p:cNvGraphicFramePr/>
            <p:nvPr/>
          </p:nvGraphicFramePr>
          <p:xfrm>
            <a:off x="611280" y="5157720"/>
            <a:ext cx="265752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1280" y="5157720"/>
                      <a:ext cx="265752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0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1920" y="1498680"/>
            <a:ext cx="186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eighting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1" i="1" lang="en-US" sz="1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5724360" y="2878200"/>
            <a:ext cx="2448000" cy="2557440"/>
            <a:chOff x="5724360" y="2878200"/>
            <a:chExt cx="2448000" cy="2557440"/>
          </a:xfrm>
        </p:grpSpPr>
        <p:grpSp>
          <p:nvGrpSpPr>
            <p:cNvPr id="433" name=""/>
            <p:cNvGrpSpPr/>
            <p:nvPr/>
          </p:nvGrpSpPr>
          <p:grpSpPr>
            <a:xfrm>
              <a:off x="5724360" y="2997360"/>
              <a:ext cx="2448000" cy="2438280"/>
              <a:chOff x="5724360" y="2997360"/>
              <a:chExt cx="2448000" cy="2438280"/>
            </a:xfrm>
          </p:grpSpPr>
          <p:grpSp>
            <p:nvGrpSpPr>
              <p:cNvPr id="434" name=""/>
              <p:cNvGrpSpPr/>
              <p:nvPr/>
            </p:nvGrpSpPr>
            <p:grpSpPr>
              <a:xfrm>
                <a:off x="6660720" y="4005360"/>
                <a:ext cx="1273680" cy="1430280"/>
                <a:chOff x="6660720" y="4005360"/>
                <a:chExt cx="1273680" cy="1430280"/>
              </a:xfrm>
            </p:grpSpPr>
            <p:sp>
              <p:nvSpPr>
                <p:cNvPr id="435" name=""/>
                <p:cNvSpPr/>
                <p:nvPr/>
              </p:nvSpPr>
              <p:spPr>
                <a:xfrm flipH="1" flipV="1">
                  <a:off x="6660720" y="4005360"/>
                  <a:ext cx="28908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36" name=""/>
                    <p:cNvSpPr txBox="1"/>
                    <p:nvPr/>
                  </p:nvSpPr>
                  <p:spPr>
                    <a:xfrm>
                      <a:off x="7020000" y="4365720"/>
                      <a:ext cx="914400" cy="1069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37" name=""/>
              <p:cNvSpPr/>
              <p:nvPr/>
            </p:nvSpPr>
            <p:spPr>
              <a:xfrm>
                <a:off x="5724360" y="4797360"/>
                <a:ext cx="503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6227640" y="2997360"/>
                <a:ext cx="936720" cy="180000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64360" y="2997360"/>
                <a:ext cx="10080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 flipH="1" flipV="1">
              <a:off x="6372360" y="4248000"/>
              <a:ext cx="7272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6262200" y="4464000"/>
              <a:ext cx="7308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6135840" y="4672080"/>
              <a:ext cx="7272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866920" y="4680000"/>
              <a:ext cx="7308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6494040" y="3998880"/>
              <a:ext cx="7308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6625800" y="3782880"/>
              <a:ext cx="7308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6719400" y="3556080"/>
              <a:ext cx="7308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flipV="1">
              <a:off x="6854400" y="3319560"/>
              <a:ext cx="7308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6973560" y="3090960"/>
              <a:ext cx="7308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254720" y="2878200"/>
              <a:ext cx="6984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524720" y="2878200"/>
              <a:ext cx="6984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812000" y="2878200"/>
              <a:ext cx="6984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8078760" y="2878200"/>
              <a:ext cx="69840" cy="108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795640" y="3067920"/>
            <a:ext cx="2640240" cy="1873440"/>
            <a:chOff x="5795640" y="3067920"/>
            <a:chExt cx="2640240" cy="1873440"/>
          </a:xfrm>
        </p:grpSpPr>
        <p:cxnSp>
          <p:nvCxnSpPr>
            <p:cNvPr id="454" name=""/>
            <p:cNvCxnSpPr/>
            <p:nvPr/>
          </p:nvCxnSpPr>
          <p:spPr>
            <a:xfrm flipV="1">
              <a:off x="5795640" y="3067920"/>
              <a:ext cx="2377080" cy="1873800"/>
            </a:xfrm>
            <a:prstGeom prst="curvedConnector5">
              <a:avLst>
                <a:gd name="adj1" fmla="val 44016"/>
                <a:gd name="adj2" fmla="val 50000"/>
                <a:gd name="adj3" fmla="val 44016"/>
              </a:avLst>
            </a:prstGeom>
            <a:ln w="28440">
              <a:solidFill>
                <a:srgbClr val="013861"/>
              </a:solidFill>
              <a:miter/>
            </a:ln>
          </p:spPr>
        </p:cxnSp>
        <p:sp>
          <p:nvSpPr>
            <p:cNvPr id="455" name=""/>
            <p:cNvSpPr/>
            <p:nvPr/>
          </p:nvSpPr>
          <p:spPr>
            <a:xfrm flipH="1" flipV="1">
              <a:off x="7164360" y="342864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aphicFrame>
          <p:nvGraphicFramePr>
            <p:cNvPr id="456" name=""/>
            <p:cNvGraphicFramePr/>
            <p:nvPr/>
          </p:nvGraphicFramePr>
          <p:xfrm>
            <a:off x="7772400" y="3683160"/>
            <a:ext cx="663480" cy="52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72400" y="3683160"/>
                      <a:ext cx="66348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32F9-F0BA-4D9A-B8C2-BC15C37812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004840" y="890640"/>
            <a:ext cx="537552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Choice of the Weighting function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1920" y="1498680"/>
            <a:ext cx="1863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eighting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1" i="1" lang="en-US" sz="1800" spc="-1" strike="noStrike" u="sng" baseline="-25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292720" y="1628640"/>
            <a:ext cx="3108240" cy="3911760"/>
            <a:chOff x="5292720" y="1628640"/>
            <a:chExt cx="3108240" cy="3911760"/>
          </a:xfrm>
        </p:grpSpPr>
        <p:sp>
          <p:nvSpPr>
            <p:cNvPr id="462" name=""/>
            <p:cNvSpPr/>
            <p:nvPr/>
          </p:nvSpPr>
          <p:spPr>
            <a:xfrm flipV="1">
              <a:off x="5724360" y="1628640"/>
              <a:ext cx="0" cy="316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92720" y="2665440"/>
              <a:ext cx="302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745240" y="2219400"/>
              <a:ext cx="2521080" cy="2055600"/>
              <a:chOff x="5745240" y="2219400"/>
              <a:chExt cx="2521080" cy="2055600"/>
            </a:xfrm>
          </p:grpSpPr>
          <p:cxnSp>
            <p:nvCxnSpPr>
              <p:cNvPr id="465" name=""/>
              <p:cNvCxnSpPr/>
              <p:nvPr/>
            </p:nvCxnSpPr>
            <p:spPr>
              <a:xfrm>
                <a:off x="5745240" y="2219400"/>
                <a:ext cx="2521440" cy="1800720"/>
              </a:xfrm>
              <a:prstGeom prst="curvedConnector5">
                <a:avLst>
                  <a:gd name="adj1" fmla="val 57046"/>
                  <a:gd name="adj2" fmla="val 49990"/>
                  <a:gd name="adj3" fmla="val 57046"/>
                </a:avLst>
              </a:prstGeom>
              <a:ln w="28440">
                <a:solidFill>
                  <a:srgbClr val="013861"/>
                </a:solidFill>
                <a:miter/>
              </a:ln>
            </p:spPr>
          </p:cxnSp>
          <p:sp>
            <p:nvSpPr>
              <p:cNvPr id="466" name=""/>
              <p:cNvSpPr/>
              <p:nvPr/>
            </p:nvSpPr>
            <p:spPr>
              <a:xfrm flipV="1">
                <a:off x="6689880" y="3240000"/>
                <a:ext cx="50472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aphicFrame>
            <p:nvGraphicFramePr>
              <p:cNvPr id="467" name=""/>
              <p:cNvGraphicFramePr/>
              <p:nvPr/>
            </p:nvGraphicFramePr>
            <p:xfrm>
              <a:off x="5962680" y="3744720"/>
              <a:ext cx="1195200" cy="530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6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962680" y="3744720"/>
                        <a:ext cx="1195200" cy="530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69" name=""/>
            <p:cNvGrpSpPr/>
            <p:nvPr/>
          </p:nvGrpSpPr>
          <p:grpSpPr>
            <a:xfrm>
              <a:off x="5724360" y="1944720"/>
              <a:ext cx="2676600" cy="3595680"/>
              <a:chOff x="5724360" y="1944720"/>
              <a:chExt cx="2676600" cy="3595680"/>
            </a:xfrm>
          </p:grpSpPr>
          <p:sp>
            <p:nvSpPr>
              <p:cNvPr id="470" name=""/>
              <p:cNvSpPr/>
              <p:nvPr/>
            </p:nvSpPr>
            <p:spPr>
              <a:xfrm flipV="1">
                <a:off x="7334280" y="3562200"/>
                <a:ext cx="358920" cy="115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aphicFrame>
            <p:nvGraphicFramePr>
              <p:cNvPr id="471" name=""/>
              <p:cNvGraphicFramePr/>
              <p:nvPr/>
            </p:nvGraphicFramePr>
            <p:xfrm>
              <a:off x="6843600" y="4611600"/>
              <a:ext cx="835200" cy="92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843600" y="4611600"/>
                        <a:ext cx="835200" cy="92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473" name=""/>
              <p:cNvGrpSpPr/>
              <p:nvPr/>
            </p:nvGrpSpPr>
            <p:grpSpPr>
              <a:xfrm>
                <a:off x="5724360" y="1944720"/>
                <a:ext cx="2676600" cy="1955880"/>
                <a:chOff x="5724360" y="1944720"/>
                <a:chExt cx="2676600" cy="19558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897680" y="3889440"/>
                  <a:ext cx="5032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724360" y="2063880"/>
                  <a:ext cx="10083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V="1">
                  <a:off x="7989840" y="3772080"/>
                  <a:ext cx="71640" cy="1080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6757200" y="2015640"/>
                  <a:ext cx="59760" cy="648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6735600" y="2049120"/>
                  <a:ext cx="1198800" cy="1845360"/>
                  <a:chOff x="6735600" y="2049120"/>
                  <a:chExt cx="1198800" cy="1845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6735600" y="2049120"/>
                    <a:ext cx="1179360" cy="184536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V="1">
                    <a:off x="7025760" y="2471400"/>
                    <a:ext cx="140040" cy="13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flipV="1">
                    <a:off x="6882840" y="2249280"/>
                    <a:ext cx="140040" cy="13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196040" y="2723400"/>
                    <a:ext cx="140040" cy="13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7329240" y="2966400"/>
                    <a:ext cx="140040" cy="13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V="1">
                    <a:off x="7480800" y="3171240"/>
                    <a:ext cx="140040" cy="13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V="1">
                    <a:off x="7642800" y="3435480"/>
                    <a:ext cx="140040" cy="13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7794360" y="3673800"/>
                    <a:ext cx="140040" cy="136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"/>
                <p:cNvSpPr/>
                <p:nvPr/>
              </p:nvSpPr>
              <p:spPr>
                <a:xfrm flipV="1">
                  <a:off x="5815080" y="1944720"/>
                  <a:ext cx="69840" cy="1080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6084720" y="1944720"/>
                  <a:ext cx="69840" cy="1080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V="1">
                  <a:off x="6372360" y="1944720"/>
                  <a:ext cx="69840" cy="1080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6638760" y="1944720"/>
                  <a:ext cx="69840" cy="1080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8210520" y="3792600"/>
                  <a:ext cx="71640" cy="10800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</p:grpSp>
        <p:graphicFrame>
          <p:nvGraphicFramePr>
            <p:cNvPr id="492" name=""/>
            <p:cNvGraphicFramePr/>
            <p:nvPr/>
          </p:nvGraphicFramePr>
          <p:xfrm>
            <a:off x="5321160" y="1628640"/>
            <a:ext cx="470160" cy="7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21160" y="1628640"/>
                      <a:ext cx="47016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4" name=""/>
          <p:cNvGrpSpPr/>
          <p:nvPr/>
        </p:nvGrpSpPr>
        <p:grpSpPr>
          <a:xfrm>
            <a:off x="544680" y="5013360"/>
            <a:ext cx="3160440" cy="936720"/>
            <a:chOff x="544680" y="5013360"/>
            <a:chExt cx="3160440" cy="936720"/>
          </a:xfrm>
        </p:grpSpPr>
        <p:graphicFrame>
          <p:nvGraphicFramePr>
            <p:cNvPr id="495" name=""/>
            <p:cNvGraphicFramePr/>
            <p:nvPr/>
          </p:nvGraphicFramePr>
          <p:xfrm>
            <a:off x="1908000" y="5613480"/>
            <a:ext cx="1797120" cy="336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8000" y="5613480"/>
                      <a:ext cx="179712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7" name=""/>
            <p:cNvSpPr/>
            <p:nvPr/>
          </p:nvSpPr>
          <p:spPr>
            <a:xfrm>
              <a:off x="544680" y="5013360"/>
              <a:ext cx="1863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Weighting </a:t>
              </a: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W</a:t>
              </a:r>
              <a:r>
                <a:rPr b="1" i="1" lang="en-US" sz="1800" spc="-1" strike="noStrike" u="sng" baseline="-25000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3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(</a:t>
              </a: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s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aphicFrame>
        <p:nvGraphicFramePr>
          <p:cNvPr id="498" name=""/>
          <p:cNvGraphicFramePr/>
          <p:nvPr/>
        </p:nvGraphicFramePr>
        <p:xfrm>
          <a:off x="539640" y="2060640"/>
          <a:ext cx="2995560" cy="65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2060640"/>
                    <a:ext cx="2995560" cy="6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0" name=""/>
          <p:cNvGrpSpPr/>
          <p:nvPr/>
        </p:nvGrpSpPr>
        <p:grpSpPr>
          <a:xfrm>
            <a:off x="684360" y="3009960"/>
            <a:ext cx="2027160" cy="1643040"/>
            <a:chOff x="684360" y="3009960"/>
            <a:chExt cx="2027160" cy="1643040"/>
          </a:xfrm>
        </p:grpSpPr>
        <p:graphicFrame>
          <p:nvGraphicFramePr>
            <p:cNvPr id="501" name=""/>
            <p:cNvGraphicFramePr/>
            <p:nvPr/>
          </p:nvGraphicFramePr>
          <p:xfrm>
            <a:off x="1044720" y="3009960"/>
            <a:ext cx="1666800" cy="69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044720" y="3009960"/>
                      <a:ext cx="166680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684360" y="4306680"/>
                  <a:ext cx="83808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&gt;</m:t>
                      </m:r>
                      <m:r>
                        <m:t xml:space="preserve">β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04" name=""/>
            <p:cNvGrpSpPr/>
            <p:nvPr/>
          </p:nvGrpSpPr>
          <p:grpSpPr>
            <a:xfrm>
              <a:off x="684360" y="3801960"/>
              <a:ext cx="792360" cy="320760"/>
              <a:chOff x="684360" y="3801960"/>
              <a:chExt cx="792360" cy="320760"/>
            </a:xfrm>
          </p:grpSpPr>
          <mc:AlternateContent>
            <mc:Choice xmlns:a14="http://schemas.microsoft.com/office/drawing/2010/main" Requires="a14">
              <p:sp>
                <p:nvSpPr>
                  <p:cNvPr id="505" name=""/>
                  <p:cNvSpPr txBox="1"/>
                  <p:nvPr/>
                </p:nvSpPr>
                <p:spPr>
                  <a:xfrm>
                    <a:off x="684360" y="3848040"/>
                    <a:ext cx="312840" cy="271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α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6" name=""/>
                  <p:cNvSpPr txBox="1"/>
                  <p:nvPr/>
                </p:nvSpPr>
                <p:spPr>
                  <a:xfrm>
                    <a:off x="1240200" y="3801960"/>
                    <a:ext cx="182520" cy="32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7" name=""/>
                  <p:cNvSpPr txBox="1"/>
                  <p:nvPr/>
                </p:nvSpPr>
                <p:spPr>
                  <a:xfrm>
                    <a:off x="905040" y="3873600"/>
                    <a:ext cx="571680" cy="21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08" name=""/>
            <p:cNvGrpSpPr/>
            <p:nvPr/>
          </p:nvGrpSpPr>
          <p:grpSpPr>
            <a:xfrm>
              <a:off x="1403640" y="3743280"/>
              <a:ext cx="1144440" cy="419040"/>
              <a:chOff x="1403640" y="3743280"/>
              <a:chExt cx="1144440" cy="419040"/>
            </a:xfrm>
          </p:grpSpPr>
          <mc:AlternateContent>
            <mc:Choice xmlns:a14="http://schemas.microsoft.com/office/drawing/2010/main" Requires="a14">
              <p:sp>
                <p:nvSpPr>
                  <p:cNvPr id="509" name=""/>
                  <p:cNvSpPr txBox="1"/>
                  <p:nvPr/>
                </p:nvSpPr>
                <p:spPr>
                  <a:xfrm>
                    <a:off x="1403640" y="3743280"/>
                    <a:ext cx="67788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m>
                          <m:mr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β</m:t>
                              </m:r>
                            </m:e>
                          </m:mr>
                        </m:m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10" name=""/>
                  <p:cNvSpPr txBox="1"/>
                  <p:nvPr/>
                </p:nvSpPr>
                <p:spPr>
                  <a:xfrm>
                    <a:off x="2311560" y="3770280"/>
                    <a:ext cx="182520" cy="32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11" name=""/>
                  <p:cNvSpPr txBox="1"/>
                  <p:nvPr/>
                </p:nvSpPr>
                <p:spPr>
                  <a:xfrm>
                    <a:off x="1976760" y="3841560"/>
                    <a:ext cx="571320" cy="21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6FB3-8734-4009-9141-4C6FCBFE31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6054840" y="1287360"/>
            <a:ext cx="2503440" cy="2175480"/>
            <a:chOff x="6054840" y="1287360"/>
            <a:chExt cx="2503440" cy="2175480"/>
          </a:xfrm>
        </p:grpSpPr>
        <p:sp>
          <p:nvSpPr>
            <p:cNvPr id="513" name=""/>
            <p:cNvSpPr/>
            <p:nvPr/>
          </p:nvSpPr>
          <p:spPr>
            <a:xfrm>
              <a:off x="6054840" y="1287360"/>
              <a:ext cx="2503440" cy="21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88120" y="3022200"/>
              <a:ext cx="2016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F</a:t>
              </a:r>
              <a:r>
                <a:rPr b="1" i="1" lang="fr-FR" sz="2000" spc="-1" strike="noStrike" baseline="-25000">
                  <a:solidFill>
                    <a:srgbClr val="8e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P</a:t>
              </a:r>
              <a:r>
                <a:rPr b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(s),</a:t>
              </a:r>
              <a:r>
                <a:rPr b="1" i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s</a:t>
              </a:r>
              <a:r>
                <a:rPr b="1" lang="fr-FR" sz="2000" spc="-1" strike="noStrike">
                  <a:solidFill>
                    <a:srgbClr val="8e0000"/>
                  </a:solidFill>
                  <a:latin typeface="Times New Roman"/>
                  <a:ea typeface="Times New Roman"/>
                </a:rPr>
                <a:t>))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95280" y="4645080"/>
            <a:ext cx="8569440" cy="1484280"/>
            <a:chOff x="395280" y="4645080"/>
            <a:chExt cx="8569440" cy="1484280"/>
          </a:xfrm>
        </p:grpSpPr>
        <p:sp>
          <p:nvSpPr>
            <p:cNvPr id="516" name=""/>
            <p:cNvSpPr/>
            <p:nvPr/>
          </p:nvSpPr>
          <p:spPr>
            <a:xfrm>
              <a:off x="395280" y="4645080"/>
              <a:ext cx="85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408"/>
                  </a:solidFill>
                  <a:uFillTx/>
                  <a:latin typeface="Times New Roman"/>
                  <a:ea typeface="Times New Roman"/>
                </a:rPr>
                <a:t>H</a:t>
              </a:r>
              <a:r>
                <a:rPr b="1" i="1" lang="en-US" sz="2400" spc="-1" strike="noStrike" baseline="-25000">
                  <a:solidFill>
                    <a:srgbClr val="000408"/>
                  </a:solidFill>
                  <a:latin typeface="Times New Roman"/>
                  <a:ea typeface="Times New Roman"/>
                </a:rPr>
                <a:t>∞</a:t>
              </a:r>
              <a:r>
                <a:rPr b="1" lang="en-US" sz="2400" spc="-1" strike="noStrike" u="sng">
                  <a:solidFill>
                    <a:srgbClr val="000408"/>
                  </a:solidFill>
                  <a:uFillTx/>
                  <a:latin typeface="Arial"/>
                  <a:ea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standard problem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Compute the controll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such as: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558880" y="5720040"/>
              <a:ext cx="3525840" cy="409320"/>
              <a:chOff x="2558880" y="5720040"/>
              <a:chExt cx="3525840" cy="409320"/>
            </a:xfrm>
          </p:grpSpPr>
          <p:graphicFrame>
            <p:nvGraphicFramePr>
              <p:cNvPr id="518" name=""/>
              <p:cNvGraphicFramePr/>
              <p:nvPr/>
            </p:nvGraphicFramePr>
            <p:xfrm>
              <a:off x="2558880" y="5753160"/>
              <a:ext cx="1722600" cy="376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58880" y="5753160"/>
                        <a:ext cx="1722600" cy="37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520" name=""/>
              <p:cNvGrpSpPr/>
              <p:nvPr/>
            </p:nvGrpSpPr>
            <p:grpSpPr>
              <a:xfrm>
                <a:off x="4965840" y="5720040"/>
                <a:ext cx="1118880" cy="369360"/>
                <a:chOff x="4965840" y="5720040"/>
                <a:chExt cx="1118880" cy="369360"/>
              </a:xfrm>
            </p:grpSpPr>
            <p:grpSp>
              <p:nvGrpSpPr>
                <p:cNvPr id="521" name=""/>
                <p:cNvGrpSpPr/>
                <p:nvPr/>
              </p:nvGrpSpPr>
              <p:grpSpPr>
                <a:xfrm>
                  <a:off x="4965840" y="5720040"/>
                  <a:ext cx="1118880" cy="368280"/>
                  <a:chOff x="4965840" y="5720040"/>
                  <a:chExt cx="1118880" cy="36828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4965840" y="5720040"/>
                    <a:ext cx="1118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         ) 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523" name=""/>
                  <p:cNvGraphicFramePr/>
                  <p:nvPr/>
                </p:nvGraphicFramePr>
                <p:xfrm>
                  <a:off x="5316120" y="5774040"/>
                  <a:ext cx="191880" cy="28728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524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5316120" y="5774040"/>
                            <a:ext cx="191880" cy="2872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graphicFrame>
              <p:nvGraphicFramePr>
                <p:cNvPr id="525" name=""/>
                <p:cNvGraphicFramePr/>
                <p:nvPr/>
              </p:nvGraphicFramePr>
              <p:xfrm>
                <a:off x="5230800" y="5780160"/>
                <a:ext cx="450360" cy="30924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526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230800" y="5780160"/>
                          <a:ext cx="450360" cy="309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527" name=""/>
            <p:cNvSpPr/>
            <p:nvPr/>
          </p:nvSpPr>
          <p:spPr>
            <a:xfrm>
              <a:off x="2197080" y="5149800"/>
              <a:ext cx="1311120" cy="9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bility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1488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-36360" y="1025640"/>
            <a:ext cx="4999680" cy="2646360"/>
            <a:chOff x="-36360" y="1025640"/>
            <a:chExt cx="4999680" cy="2646360"/>
          </a:xfrm>
        </p:grpSpPr>
        <p:grpSp>
          <p:nvGrpSpPr>
            <p:cNvPr id="530" name=""/>
            <p:cNvGrpSpPr/>
            <p:nvPr/>
          </p:nvGrpSpPr>
          <p:grpSpPr>
            <a:xfrm>
              <a:off x="3678120" y="2087640"/>
              <a:ext cx="1285200" cy="398880"/>
              <a:chOff x="3678120" y="2087640"/>
              <a:chExt cx="1285200" cy="398880"/>
            </a:xfrm>
          </p:grpSpPr>
          <p:sp>
            <p:nvSpPr>
              <p:cNvPr id="531" name=""/>
              <p:cNvSpPr/>
              <p:nvPr/>
            </p:nvSpPr>
            <p:spPr>
              <a:xfrm>
                <a:off x="3678120" y="2099880"/>
                <a:ext cx="721080" cy="368280"/>
              </a:xfrm>
              <a:prstGeom prst="rect">
                <a:avLst/>
              </a:prstGeom>
              <a:solidFill>
                <a:srgbClr val="d1d1d1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3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521240" y="2087640"/>
                <a:ext cx="4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4399200" y="229212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flipH="1">
              <a:off x="3487320" y="2305080"/>
              <a:ext cx="17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70280" y="2832120"/>
              <a:ext cx="3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55400" y="2675160"/>
              <a:ext cx="70308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(s)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93720" y="2662200"/>
              <a:ext cx="70308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(s)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2920" y="2711520"/>
              <a:ext cx="299880" cy="330120"/>
            </a:xfrm>
            <a:prstGeom prst="flowChartSummingJunc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3720" y="2890800"/>
              <a:ext cx="36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03160" y="2878200"/>
              <a:ext cx="55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16240" y="2857680"/>
              <a:ext cx="85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47640" y="3016080"/>
              <a:ext cx="0" cy="64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-36360" y="2808360"/>
              <a:ext cx="5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74440" y="2832120"/>
              <a:ext cx="34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55520" y="2832120"/>
              <a:ext cx="60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0480" y="254808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0560" y="2932200"/>
              <a:ext cx="60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58840" y="2857680"/>
              <a:ext cx="436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62000" y="2851200"/>
              <a:ext cx="0" cy="81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26400" y="3672000"/>
              <a:ext cx="314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42320" y="2451240"/>
              <a:ext cx="3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93800" y="2290680"/>
              <a:ext cx="0" cy="41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80600" y="25542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00040" y="21351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pic>
          <p:nvPicPr>
            <p:cNvPr id="555" name="" descr=""/>
            <p:cNvPicPr/>
            <p:nvPr/>
          </p:nvPicPr>
          <p:blipFill>
            <a:blip r:embed="rId7"/>
            <a:stretch/>
          </p:blipFill>
          <p:spPr>
            <a:xfrm>
              <a:off x="3384360" y="2706840"/>
              <a:ext cx="23472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615600" y="1419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79440" y="1079640"/>
              <a:ext cx="720360" cy="368280"/>
            </a:xfrm>
            <a:prstGeom prst="rect">
              <a:avLst/>
            </a:prstGeom>
            <a:solidFill>
              <a:srgbClr val="d1d1d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1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996840" y="1260360"/>
              <a:ext cx="0" cy="161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83880" y="1260720"/>
              <a:ext cx="27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12720" y="1933560"/>
              <a:ext cx="8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.S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15960" y="1533600"/>
              <a:ext cx="720360" cy="368280"/>
            </a:xfrm>
            <a:prstGeom prst="rect">
              <a:avLst/>
            </a:prstGeom>
            <a:solidFill>
              <a:srgbClr val="d1d1d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2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65040" y="1722600"/>
              <a:ext cx="23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66840" y="1717920"/>
              <a:ext cx="0" cy="11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76680" y="1305000"/>
              <a:ext cx="37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59040" y="1144800"/>
              <a:ext cx="72720" cy="691920"/>
            </a:xfrm>
            <a:custGeom>
              <a:avLst/>
              <a:gdLst>
                <a:gd name="textAreaLeft" fmla="*/ 0 w 72720"/>
                <a:gd name="textAreaRight" fmla="*/ 26280 w 72720"/>
                <a:gd name="textAreaTop" fmla="*/ 18000 h 691920"/>
                <a:gd name="textAreaBottom" fmla="*/ 673920 h 69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79600" y="1025640"/>
              <a:ext cx="479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993680" y="1263600"/>
              <a:ext cx="231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22280" y="1736640"/>
              <a:ext cx="115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89320" y="1500120"/>
              <a:ext cx="480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69080" y="1320840"/>
            <a:ext cx="9185400" cy="3206880"/>
            <a:chOff x="469080" y="1320840"/>
            <a:chExt cx="9185400" cy="3206880"/>
          </a:xfrm>
        </p:grpSpPr>
        <p:grpSp>
          <p:nvGrpSpPr>
            <p:cNvPr id="571" name=""/>
            <p:cNvGrpSpPr/>
            <p:nvPr/>
          </p:nvGrpSpPr>
          <p:grpSpPr>
            <a:xfrm>
              <a:off x="469080" y="1415880"/>
              <a:ext cx="9185400" cy="3111840"/>
              <a:chOff x="469080" y="1415880"/>
              <a:chExt cx="9185400" cy="3111840"/>
            </a:xfrm>
          </p:grpSpPr>
          <p:sp>
            <p:nvSpPr>
              <p:cNvPr id="572" name=""/>
              <p:cNvSpPr/>
              <p:nvPr/>
            </p:nvSpPr>
            <p:spPr>
              <a:xfrm>
                <a:off x="469080" y="4128840"/>
                <a:ext cx="2683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s):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ugmented system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5335560" y="1415880"/>
                <a:ext cx="4318920" cy="2637720"/>
                <a:chOff x="5335560" y="1415880"/>
                <a:chExt cx="4318920" cy="263772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5335560" y="1415880"/>
                  <a:ext cx="4318920" cy="2637720"/>
                  <a:chOff x="5335560" y="1415880"/>
                  <a:chExt cx="4318920" cy="263772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335560" y="1415880"/>
                    <a:ext cx="4318920" cy="1541160"/>
                    <a:chOff x="5335560" y="1415880"/>
                    <a:chExt cx="4318920" cy="1541160"/>
                  </a:xfrm>
                </p:grpSpPr>
                <p:grpSp>
                  <p:nvGrpSpPr>
                    <p:cNvPr id="576" name=""/>
                    <p:cNvGrpSpPr/>
                    <p:nvPr/>
                  </p:nvGrpSpPr>
                  <p:grpSpPr>
                    <a:xfrm>
                      <a:off x="5335560" y="1415880"/>
                      <a:ext cx="4318920" cy="1541160"/>
                      <a:chOff x="5335560" y="1415880"/>
                      <a:chExt cx="4318920" cy="1541160"/>
                    </a:xfrm>
                  </p:grpSpPr>
                  <p:grpSp>
                    <p:nvGrpSpPr>
                      <p:cNvPr id="577" name=""/>
                      <p:cNvGrpSpPr/>
                      <p:nvPr/>
                    </p:nvGrpSpPr>
                    <p:grpSpPr>
                      <a:xfrm>
                        <a:off x="6156360" y="1947600"/>
                        <a:ext cx="2321640" cy="1009440"/>
                        <a:chOff x="6156360" y="1947600"/>
                        <a:chExt cx="2321640" cy="1009440"/>
                      </a:xfrm>
                    </p:grpSpPr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7951320" y="1948680"/>
                          <a:ext cx="526680" cy="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0408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1488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79" name=""/>
                        <p:cNvGrpSpPr/>
                        <p:nvPr/>
                      </p:nvGrpSpPr>
                      <p:grpSpPr>
                        <a:xfrm>
                          <a:off x="6156360" y="1947600"/>
                          <a:ext cx="2312640" cy="1009440"/>
                          <a:chOff x="6156360" y="1947600"/>
                          <a:chExt cx="2312640" cy="1009440"/>
                        </a:xfrm>
                      </p:grpSpPr>
                      <p:sp>
                        <p:nvSpPr>
                          <p:cNvPr id="580" name=""/>
                          <p:cNvSpPr/>
                          <p:nvPr/>
                        </p:nvSpPr>
                        <p:spPr>
                          <a:xfrm>
                            <a:off x="6693840" y="2336400"/>
                            <a:ext cx="1116720" cy="620640"/>
                          </a:xfrm>
                          <a:prstGeom prst="rect">
                            <a:avLst/>
                          </a:prstGeom>
                          <a:noFill/>
                          <a:ln w="28440">
                            <a:solidFill>
                              <a:srgbClr val="00040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spAutoFit/>
                          </a:bodyPr>
                          <a:p>
                            <a:endParaRPr b="0" lang="en-US" sz="1800" spc="-1" strike="noStrike">
                              <a:solidFill>
                                <a:srgbClr val="01488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1" name=""/>
                          <p:cNvSpPr/>
                          <p:nvPr/>
                        </p:nvSpPr>
                        <p:spPr>
                          <a:xfrm flipH="1">
                            <a:off x="7810560" y="2647440"/>
                            <a:ext cx="65808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408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1488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2" name=""/>
                          <p:cNvSpPr/>
                          <p:nvPr/>
                        </p:nvSpPr>
                        <p:spPr>
                          <a:xfrm flipV="1">
                            <a:off x="8469000" y="1947600"/>
                            <a:ext cx="0" cy="70632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40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1488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3" name=""/>
                          <p:cNvSpPr/>
                          <p:nvPr/>
                        </p:nvSpPr>
                        <p:spPr>
                          <a:xfrm>
                            <a:off x="6168600" y="2647440"/>
                            <a:ext cx="52524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40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1488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 flipV="1">
                            <a:off x="6168600" y="1947600"/>
                            <a:ext cx="0" cy="70632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408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1488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5" name=""/>
                          <p:cNvSpPr/>
                          <p:nvPr/>
                        </p:nvSpPr>
                        <p:spPr>
                          <a:xfrm>
                            <a:off x="6156360" y="1960200"/>
                            <a:ext cx="393480" cy="0"/>
                          </a:xfrm>
                          <a:prstGeom prst="line">
                            <a:avLst/>
                          </a:prstGeom>
                          <a:ln w="28440">
                            <a:solidFill>
                              <a:srgbClr val="000408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1488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6" name=""/>
                          <p:cNvSpPr/>
                          <p:nvPr/>
                        </p:nvSpPr>
                        <p:spPr>
                          <a:xfrm>
                            <a:off x="6989040" y="2464920"/>
                            <a:ext cx="590040" cy="368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i="1" lang="en-US" sz="1800" spc="-1" strike="noStrike">
                                <a:solidFill>
                                  <a:srgbClr val="000408"/>
                                </a:solidFill>
                                <a:latin typeface="Times New Roman"/>
                                <a:ea typeface="Arial"/>
                              </a:rPr>
                              <a:t>C</a:t>
                            </a:r>
                            <a:r>
                              <a:rPr b="0" lang="en-US" sz="1800" spc="-1" strike="noStrike">
                                <a:solidFill>
                                  <a:srgbClr val="000408"/>
                                </a:solidFill>
                                <a:latin typeface="Times New Roman"/>
                                <a:ea typeface="Arial"/>
                              </a:rPr>
                              <a:t>(</a:t>
                            </a:r>
                            <a:r>
                              <a:rPr b="0" i="1" lang="en-US" sz="1800" spc="-1" strike="noStrike">
                                <a:solidFill>
                                  <a:srgbClr val="000408"/>
                                </a:solidFill>
                                <a:latin typeface="Times New Roman"/>
                                <a:ea typeface="Arial"/>
                              </a:rPr>
                              <a:t>s</a:t>
                            </a:r>
                            <a:r>
                              <a:rPr b="0" lang="en-US" sz="1800" spc="-1" strike="noStrike">
                                <a:solidFill>
                                  <a:srgbClr val="000408"/>
                                </a:solidFill>
                                <a:latin typeface="Times New Roman"/>
                                <a:ea typeface="Arial"/>
                              </a:rPr>
                              <a:t>)</a:t>
                            </a:r>
                            <a:endParaRPr b="0" lang="en-US" sz="1800" spc="-1" strike="noStrike">
                              <a:solidFill>
                                <a:srgbClr val="01488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8601840" y="1587240"/>
                        <a:ext cx="10526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i="1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Times New Roman"/>
                          </a:rPr>
                          <a:t>  </a:t>
                        </a:r>
                        <a:endParaRPr b="0" lang="en-US" sz="1800" spc="-1" strike="noStrike">
                          <a:solidFill>
                            <a:srgbClr val="01488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6539040" y="1415880"/>
                        <a:ext cx="1402920" cy="757080"/>
                      </a:xfrm>
                      <a:prstGeom prst="rect">
                        <a:avLst/>
                      </a:prstGeom>
                      <a:noFill/>
                      <a:ln w="28440">
                        <a:solidFill>
                          <a:srgbClr val="000408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1800" spc="-1" strike="noStrike">
                          <a:solidFill>
                            <a:srgbClr val="01488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5553360" y="1645920"/>
                        <a:ext cx="9990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408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1488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7936920" y="1633320"/>
                        <a:ext cx="99900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0408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1488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6513840" y="1595160"/>
                        <a:ext cx="14749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en-US" sz="2000" spc="-1" strike="noStrike">
                            <a:solidFill>
                              <a:srgbClr val="000408"/>
                            </a:solidFill>
                            <a:latin typeface="Times New Roman"/>
                            <a:ea typeface="Arial"/>
                          </a:rPr>
                          <a:t>P</a:t>
                        </a:r>
                        <a:r>
                          <a:rPr b="0" lang="en-US" sz="2000" spc="-1" strike="noStrike">
                            <a:solidFill>
                              <a:srgbClr val="000408"/>
                            </a:solidFill>
                            <a:latin typeface="Times New Roman"/>
                            <a:ea typeface="Arial"/>
                          </a:rPr>
                          <a:t>(</a:t>
                        </a:r>
                        <a:r>
                          <a:rPr b="0" i="1" lang="en-US" sz="2000" spc="-1" strike="noStrike">
                            <a:solidFill>
                              <a:srgbClr val="000408"/>
                            </a:solidFill>
                            <a:latin typeface="Times New Roman"/>
                            <a:ea typeface="Arial"/>
                          </a:rPr>
                          <a:t>s</a:t>
                        </a:r>
                        <a:r>
                          <a:rPr b="0" lang="en-US" sz="2000" spc="-1" strike="noStrike">
                            <a:solidFill>
                              <a:srgbClr val="000408"/>
                            </a:solidFill>
                            <a:latin typeface="Times New Roman"/>
                            <a:ea typeface="Arial"/>
                          </a:rPr>
                          <a:t>)</a:t>
                        </a:r>
                        <a:endParaRPr b="0" lang="en-US" sz="2000" spc="-1" strike="noStrike">
                          <a:solidFill>
                            <a:srgbClr val="01488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5335560" y="1604520"/>
                        <a:ext cx="77472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1488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7959600" y="2328840"/>
                      <a:ext cx="28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6248520" y="2340000"/>
                      <a:ext cx="307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5" name=""/>
                  <p:cNvSpPr/>
                  <p:nvPr/>
                </p:nvSpPr>
                <p:spPr>
                  <a:xfrm>
                    <a:off x="5985720" y="3647880"/>
                    <a:ext cx="263700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800" spc="-1" strike="noStrike">
                        <a:solidFill>
                          <a:srgbClr val="000408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r>
                      <a:rPr b="1" i="1" lang="en-US" sz="1800" spc="-1" strike="noStrike" baseline="-25000">
                        <a:solidFill>
                          <a:srgbClr val="000408"/>
                        </a:solidFill>
                        <a:latin typeface="Times New Roman"/>
                        <a:ea typeface="Times New Roman"/>
                      </a:rPr>
                      <a:t>∞</a:t>
                    </a:r>
                    <a:r>
                      <a:rPr b="1" lang="en-US" sz="1800" spc="-1" strike="noStrike">
                        <a:solidFill>
                          <a:srgbClr val="000408"/>
                        </a:solidFill>
                        <a:latin typeface="Arial"/>
                        <a:ea typeface="Times New Roman"/>
                      </a:rPr>
                      <a:t> standard formalism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596" name=""/>
                    <p:cNvSpPr txBox="1"/>
                    <p:nvPr/>
                  </p:nvSpPr>
                  <p:spPr>
                    <a:xfrm>
                      <a:off x="5478480" y="1752480"/>
                      <a:ext cx="576360" cy="539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e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r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d</m:t>
                                    </m:r>
                                  </m:e>
                                </m:mr>
                              </m:m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597" name=""/>
                    <p:cNvSpPr txBox="1"/>
                    <p:nvPr/>
                  </p:nvSpPr>
                  <p:spPr>
                    <a:xfrm>
                      <a:off x="8504280" y="1681200"/>
                      <a:ext cx="574560" cy="5760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598" name=""/>
            <p:cNvSpPr/>
            <p:nvPr/>
          </p:nvSpPr>
          <p:spPr>
            <a:xfrm>
              <a:off x="5102280" y="1320840"/>
              <a:ext cx="287280" cy="2447640"/>
            </a:xfrm>
            <a:prstGeom prst="rightArrow">
              <a:avLst>
                <a:gd name="adj1" fmla="val 45917"/>
                <a:gd name="adj2" fmla="val 6906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049F-9546-4BF8-9129-18EBDCC0CE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79640" y="857160"/>
            <a:ext cx="5688000" cy="79236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Arial"/>
                <a:ea typeface="Arial"/>
              </a:rPr>
              <a:t>Interval closed-loop performances analysis via  </a:t>
            </a:r>
            <a:r>
              <a:rPr b="1" i="1" lang="en-US" sz="2200" spc="-1" strike="noStrike">
                <a:solidFill>
                  <a:srgbClr val="f8f8f8"/>
                </a:solidFill>
                <a:latin typeface="Times New Roman"/>
                <a:ea typeface="Arial"/>
              </a:rPr>
              <a:t>H</a:t>
            </a:r>
            <a:r>
              <a:rPr b="1" i="1" lang="en-US" sz="2200" spc="-1" strike="noStrike" baseline="-25000">
                <a:solidFill>
                  <a:srgbClr val="f8f8f8"/>
                </a:solidFill>
                <a:latin typeface="Times New Roman"/>
                <a:ea typeface="Arial"/>
              </a:rPr>
              <a:t>∞</a:t>
            </a:r>
            <a:r>
              <a:rPr b="1" lang="en-US" sz="2200" spc="-1" strike="noStrike">
                <a:solidFill>
                  <a:srgbClr val="f8f8f8"/>
                </a:solidFill>
                <a:latin typeface="Arial"/>
                <a:ea typeface="Arial"/>
              </a:rPr>
              <a:t> -standard approach </a:t>
            </a:r>
            <a:endParaRPr b="0" lang="en-US" sz="22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66560" y="2079720"/>
            <a:ext cx="3527280" cy="1709280"/>
            <a:chOff x="466560" y="2079720"/>
            <a:chExt cx="3527280" cy="1709280"/>
          </a:xfrm>
        </p:grpSpPr>
        <p:grpSp>
          <p:nvGrpSpPr>
            <p:cNvPr id="601" name=""/>
            <p:cNvGrpSpPr/>
            <p:nvPr/>
          </p:nvGrpSpPr>
          <p:grpSpPr>
            <a:xfrm>
              <a:off x="466560" y="2079720"/>
              <a:ext cx="3527280" cy="1369440"/>
              <a:chOff x="466560" y="2079720"/>
              <a:chExt cx="3527280" cy="1369440"/>
            </a:xfrm>
          </p:grpSpPr>
          <p:sp>
            <p:nvSpPr>
              <p:cNvPr id="602" name=""/>
              <p:cNvSpPr/>
              <p:nvPr/>
            </p:nvSpPr>
            <p:spPr>
              <a:xfrm>
                <a:off x="466560" y="2079720"/>
                <a:ext cx="2004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Specifications: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pSp>
            <p:nvGrpSpPr>
              <p:cNvPr id="603" name=""/>
              <p:cNvGrpSpPr/>
              <p:nvPr/>
            </p:nvGrpSpPr>
            <p:grpSpPr>
              <a:xfrm>
                <a:off x="840600" y="2460960"/>
                <a:ext cx="3153240" cy="988200"/>
                <a:chOff x="840600" y="2460960"/>
                <a:chExt cx="3153240" cy="98820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848880" y="2800440"/>
                  <a:ext cx="3144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Settling time tr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≤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4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40600" y="3111840"/>
                  <a:ext cx="3052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Static error 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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≤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</a:t>
                  </a:r>
                  <a:endParaRPr b="0" lang="en-US" sz="16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48880" y="2460960"/>
                  <a:ext cx="3144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- No (or small) overshoot</a:t>
                  </a:r>
                  <a:endParaRPr b="0" lang="en-US" sz="14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7" name=""/>
            <p:cNvSpPr/>
            <p:nvPr/>
          </p:nvSpPr>
          <p:spPr>
            <a:xfrm>
              <a:off x="832320" y="3484440"/>
              <a:ext cx="2004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99880" y="4437000"/>
            <a:ext cx="8656200" cy="1658880"/>
            <a:chOff x="299880" y="4437000"/>
            <a:chExt cx="8656200" cy="1658880"/>
          </a:xfrm>
        </p:grpSpPr>
        <p:sp>
          <p:nvSpPr>
            <p:cNvPr id="609" name=""/>
            <p:cNvSpPr/>
            <p:nvPr/>
          </p:nvSpPr>
          <p:spPr>
            <a:xfrm>
              <a:off x="299880" y="4437000"/>
              <a:ext cx="72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iven a controll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, If the controller satisfies: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0840" y="5727600"/>
              <a:ext cx="86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n, the required specifications are ensured defined in terms of weighting functions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1619280" y="4844880"/>
              <a:ext cx="5628240" cy="790560"/>
              <a:chOff x="1619280" y="4844880"/>
              <a:chExt cx="5628240" cy="79056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6490800" y="5024520"/>
                <a:ext cx="756720" cy="368280"/>
                <a:chOff x="6490800" y="5024520"/>
                <a:chExt cx="756720" cy="3682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6490800" y="5024520"/>
                  <a:ext cx="75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        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614" name=""/>
                <p:cNvGraphicFramePr/>
                <p:nvPr/>
              </p:nvGraphicFramePr>
              <p:xfrm>
                <a:off x="6848280" y="5081400"/>
                <a:ext cx="192240" cy="286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1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848280" y="5081400"/>
                          <a:ext cx="192240" cy="286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616" name=""/>
              <p:cNvGraphicFramePr/>
              <p:nvPr/>
            </p:nvGraphicFramePr>
            <p:xfrm>
              <a:off x="1619280" y="5024520"/>
              <a:ext cx="1801800" cy="407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619280" y="5024520"/>
                        <a:ext cx="1801800" cy="40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18" name=""/>
              <p:cNvSpPr/>
              <p:nvPr/>
            </p:nvSpPr>
            <p:spPr>
              <a:xfrm>
                <a:off x="3505320" y="5135400"/>
                <a:ext cx="433080" cy="216000"/>
              </a:xfrm>
              <a:prstGeom prst="leftRightArrow">
                <a:avLst>
                  <a:gd name="adj1" fmla="val 50000"/>
                  <a:gd name="adj2" fmla="val 3991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aphicFrame>
            <p:nvGraphicFramePr>
              <p:cNvPr id="619" name=""/>
              <p:cNvGraphicFramePr/>
              <p:nvPr/>
            </p:nvGraphicFramePr>
            <p:xfrm>
              <a:off x="4054320" y="4844880"/>
              <a:ext cx="1994040" cy="790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2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054320" y="4844880"/>
                        <a:ext cx="1994040" cy="79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21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324000" y="3772080"/>
          <a:ext cx="364320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3772080"/>
                    <a:ext cx="3643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4" name=""/>
          <p:cNvGrpSpPr/>
          <p:nvPr/>
        </p:nvGrpSpPr>
        <p:grpSpPr>
          <a:xfrm>
            <a:off x="3957480" y="2639880"/>
            <a:ext cx="4862520" cy="1255680"/>
            <a:chOff x="3957480" y="2639880"/>
            <a:chExt cx="4862520" cy="1255680"/>
          </a:xfrm>
        </p:grpSpPr>
        <p:sp>
          <p:nvSpPr>
            <p:cNvPr id="625" name=""/>
            <p:cNvSpPr/>
            <p:nvPr/>
          </p:nvSpPr>
          <p:spPr>
            <a:xfrm>
              <a:off x="8317080" y="2948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3957480" y="2639880"/>
              <a:ext cx="4584960" cy="1255680"/>
              <a:chOff x="3957480" y="2639880"/>
              <a:chExt cx="4584960" cy="1255680"/>
            </a:xfrm>
          </p:grpSpPr>
          <p:sp>
            <p:nvSpPr>
              <p:cNvPr id="627" name=""/>
              <p:cNvSpPr/>
              <p:nvPr/>
            </p:nvSpPr>
            <p:spPr>
              <a:xfrm>
                <a:off x="3957480" y="2939760"/>
                <a:ext cx="8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0680" y="2723760"/>
                <a:ext cx="687600" cy="503280"/>
              </a:xfrm>
              <a:prstGeom prst="rect">
                <a:avLst/>
              </a:prstGeom>
              <a:noFill/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884840" y="3160440"/>
                <a:ext cx="0" cy="73512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78360" y="3881160"/>
                <a:ext cx="334656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8215200" y="2960280"/>
                <a:ext cx="0" cy="93528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27640" y="2982600"/>
                <a:ext cx="43200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54800" y="2785680"/>
                <a:ext cx="65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C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(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)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153680" y="2974680"/>
                <a:ext cx="53964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068080" y="2976120"/>
                <a:ext cx="46836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66040" y="2784240"/>
                <a:ext cx="152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[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G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](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s,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[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a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]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,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[</a:t>
                </a:r>
                <a:r>
                  <a:rPr b="0" i="1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b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Times New Roman"/>
                    <a:ea typeface="Arial"/>
                  </a:rPr>
                  <a:t>])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659640" y="2722320"/>
                <a:ext cx="1346040" cy="504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pSp>
            <p:nvGrpSpPr>
              <p:cNvPr id="638" name=""/>
              <p:cNvGrpSpPr/>
              <p:nvPr/>
            </p:nvGrpSpPr>
            <p:grpSpPr>
              <a:xfrm>
                <a:off x="4707000" y="2800080"/>
                <a:ext cx="360360" cy="358920"/>
                <a:chOff x="4707000" y="2800080"/>
                <a:chExt cx="360360" cy="3589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707000" y="2800080"/>
                  <a:ext cx="360360" cy="35892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4762800" y="2837880"/>
                  <a:ext cx="252360" cy="27468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735800" y="2871720"/>
                  <a:ext cx="288720" cy="230040"/>
                </a:xfrm>
                <a:prstGeom prst="line">
                  <a:avLst/>
                </a:prstGeom>
                <a:ln w="28440">
                  <a:solidFill>
                    <a:srgbClr val="0004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"/>
              <p:cNvSpPr/>
              <p:nvPr/>
            </p:nvSpPr>
            <p:spPr>
              <a:xfrm>
                <a:off x="8002440" y="2971440"/>
                <a:ext cx="54000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89560" y="263988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645080" y="3017520"/>
                <a:ext cx="2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088600" y="2881080"/>
                <a:ext cx="27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62920" y="2885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grpSp>
        <p:nvGrpSpPr>
          <p:cNvPr id="647" name=""/>
          <p:cNvGrpSpPr/>
          <p:nvPr/>
        </p:nvGrpSpPr>
        <p:grpSpPr>
          <a:xfrm>
            <a:off x="5208480" y="2023920"/>
            <a:ext cx="4113360" cy="963720"/>
            <a:chOff x="5208480" y="2023920"/>
            <a:chExt cx="4113360" cy="963720"/>
          </a:xfrm>
        </p:grpSpPr>
        <p:sp>
          <p:nvSpPr>
            <p:cNvPr id="648" name=""/>
            <p:cNvSpPr/>
            <p:nvPr/>
          </p:nvSpPr>
          <p:spPr>
            <a:xfrm flipV="1">
              <a:off x="5219640" y="2268360"/>
              <a:ext cx="0" cy="719280"/>
            </a:xfrm>
            <a:prstGeom prst="line">
              <a:avLst/>
            </a:prstGeom>
            <a:ln w="28440">
              <a:solidFill>
                <a:srgbClr val="000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145360" y="2252520"/>
              <a:ext cx="11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8480" y="2274840"/>
              <a:ext cx="1889280" cy="0"/>
            </a:xfrm>
            <a:prstGeom prst="line">
              <a:avLst/>
            </a:prstGeom>
            <a:ln w="28440">
              <a:solidFill>
                <a:srgbClr val="0004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048440" y="2085840"/>
              <a:ext cx="814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W</a:t>
              </a:r>
              <a:r>
                <a:rPr b="0" i="1" lang="en-US" sz="1800" spc="-1" strike="noStrike" baseline="-25000">
                  <a:solidFill>
                    <a:srgbClr val="000408"/>
                  </a:solidFill>
                  <a:latin typeface="Times New Roman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18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)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3080" y="2023920"/>
              <a:ext cx="703080" cy="50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07320" y="2273040"/>
              <a:ext cx="719280" cy="0"/>
            </a:xfrm>
            <a:prstGeom prst="line">
              <a:avLst/>
            </a:prstGeom>
            <a:ln w="28440">
              <a:solidFill>
                <a:srgbClr val="0004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D89BD-4592-44EF-8A1D-758D07C4E4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038240" y="907920"/>
            <a:ext cx="720072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  <a:ea typeface="Arial"/>
              </a:rPr>
              <a:t>∞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 norm of the sensitivity of an interval system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50920" y="1569960"/>
            <a:ext cx="8785080" cy="822960"/>
            <a:chOff x="250920" y="1569960"/>
            <a:chExt cx="8785080" cy="822960"/>
          </a:xfrm>
        </p:grpSpPr>
        <p:sp>
          <p:nvSpPr>
            <p:cNvPr id="656" name=""/>
            <p:cNvSpPr/>
            <p:nvPr/>
          </p:nvSpPr>
          <p:spPr>
            <a:xfrm>
              <a:off x="250920" y="1569960"/>
              <a:ext cx="878508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iven an interval system, the maximal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rm of its sensitivity function is achieved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 twelve (out of sixteen) Kharitonov vertices.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22640" y="1968480"/>
              <a:ext cx="21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593fd"/>
                  </a:solidFill>
                  <a:latin typeface="Arial"/>
                  <a:ea typeface="Times New Roman"/>
                </a:rPr>
                <a:t>[Long Wang, 2002]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228600" y="2438280"/>
            <a:ext cx="8785080" cy="1567080"/>
            <a:chOff x="228600" y="2438280"/>
            <a:chExt cx="8785080" cy="1567080"/>
          </a:xfrm>
        </p:grpSpPr>
        <p:graphicFrame>
          <p:nvGraphicFramePr>
            <p:cNvPr id="659" name=""/>
            <p:cNvGraphicFramePr/>
            <p:nvPr/>
          </p:nvGraphicFramePr>
          <p:xfrm>
            <a:off x="1562040" y="3257640"/>
            <a:ext cx="2330640" cy="718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62040" y="3257640"/>
                      <a:ext cx="2330640" cy="71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61" name=""/>
            <p:cNvGrpSpPr/>
            <p:nvPr/>
          </p:nvGrpSpPr>
          <p:grpSpPr>
            <a:xfrm>
              <a:off x="4792680" y="3213000"/>
              <a:ext cx="3169800" cy="792360"/>
              <a:chOff x="4792680" y="3213000"/>
              <a:chExt cx="3169800" cy="792360"/>
            </a:xfrm>
          </p:grpSpPr>
          <p:graphicFrame>
            <p:nvGraphicFramePr>
              <p:cNvPr id="662" name=""/>
              <p:cNvGraphicFramePr/>
              <p:nvPr/>
            </p:nvGraphicFramePr>
            <p:xfrm>
              <a:off x="4863960" y="3213000"/>
              <a:ext cx="3098520" cy="792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6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63960" y="3213000"/>
                        <a:ext cx="3098520" cy="79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64" name=""/>
              <p:cNvSpPr/>
              <p:nvPr/>
            </p:nvSpPr>
            <p:spPr>
              <a:xfrm>
                <a:off x="4792680" y="3213000"/>
                <a:ext cx="71280" cy="79236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20520 h 792360"/>
                  <a:gd name="textAreaBottom" fmla="*/ 77184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228600" y="2438280"/>
              <a:ext cx="8785080" cy="574920"/>
              <a:chOff x="228600" y="2438280"/>
              <a:chExt cx="8785080" cy="574920"/>
            </a:xfrm>
          </p:grpSpPr>
          <p:sp>
            <p:nvSpPr>
              <p:cNvPr id="666" name=""/>
              <p:cNvSpPr/>
              <p:nvPr/>
            </p:nvSpPr>
            <p:spPr>
              <a:xfrm>
                <a:off x="228600" y="2532240"/>
                <a:ext cx="878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t consider a sensitivity function of an open-loop interval system                        :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aphicFrame>
            <p:nvGraphicFramePr>
              <p:cNvPr id="667" name=""/>
              <p:cNvGraphicFramePr/>
              <p:nvPr/>
            </p:nvGraphicFramePr>
            <p:xfrm>
              <a:off x="6943680" y="2438280"/>
              <a:ext cx="1538280" cy="574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6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43680" y="2438280"/>
                        <a:ext cx="1538280" cy="574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669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08080" y="4233960"/>
            <a:ext cx="8637480" cy="1927080"/>
            <a:chOff x="208080" y="4233960"/>
            <a:chExt cx="8637480" cy="1927080"/>
          </a:xfrm>
        </p:grpSpPr>
        <p:graphicFrame>
          <p:nvGraphicFramePr>
            <p:cNvPr id="671" name=""/>
            <p:cNvGraphicFramePr/>
            <p:nvPr/>
          </p:nvGraphicFramePr>
          <p:xfrm>
            <a:off x="395280" y="4719600"/>
            <a:ext cx="4130640" cy="144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95280" y="4719600"/>
                      <a:ext cx="4130640" cy="14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3" name=""/>
            <p:cNvSpPr/>
            <p:nvPr/>
          </p:nvSpPr>
          <p:spPr>
            <a:xfrm>
              <a:off x="208080" y="4233960"/>
              <a:ext cx="74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four Kharitonov polynomials corresponding to            and           :    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aphicFrame>
          <p:nvGraphicFramePr>
            <p:cNvPr id="674" name=""/>
            <p:cNvGraphicFramePr/>
            <p:nvPr/>
          </p:nvGraphicFramePr>
          <p:xfrm>
            <a:off x="5416560" y="4278240"/>
            <a:ext cx="673200" cy="287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16560" y="4278240"/>
                      <a:ext cx="67320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551640" y="4278240"/>
            <a:ext cx="673200" cy="287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51640" y="4278240"/>
                      <a:ext cx="67320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4957920" y="4697280"/>
            <a:ext cx="3887640" cy="1441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957920" y="4697280"/>
                      <a:ext cx="3887640" cy="14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2BFB-18FF-476C-AC12-576388722B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2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4360" y="197316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 control approaches for (parametric) uncertain system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osteriori performances analysis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with the control of piezoelectric cantilever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1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Outline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C707-ABED-4C9B-B70F-FF35267145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901440" y="3828960"/>
            <a:ext cx="6285240" cy="968400"/>
            <a:chOff x="901440" y="3828960"/>
            <a:chExt cx="6285240" cy="968400"/>
          </a:xfrm>
        </p:grpSpPr>
        <p:grpSp>
          <p:nvGrpSpPr>
            <p:cNvPr id="681" name=""/>
            <p:cNvGrpSpPr/>
            <p:nvPr/>
          </p:nvGrpSpPr>
          <p:grpSpPr>
            <a:xfrm>
              <a:off x="1836720" y="4189320"/>
              <a:ext cx="5349960" cy="608040"/>
              <a:chOff x="1836720" y="4189320"/>
              <a:chExt cx="5349960" cy="608040"/>
            </a:xfrm>
          </p:grpSpPr>
          <p:graphicFrame>
            <p:nvGraphicFramePr>
              <p:cNvPr id="682" name=""/>
              <p:cNvGraphicFramePr/>
              <p:nvPr/>
            </p:nvGraphicFramePr>
            <p:xfrm>
              <a:off x="1836720" y="4189320"/>
              <a:ext cx="5345280" cy="298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836720" y="4189320"/>
                        <a:ext cx="5345280" cy="29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84" name=""/>
              <p:cNvGraphicFramePr/>
              <p:nvPr/>
            </p:nvGraphicFramePr>
            <p:xfrm>
              <a:off x="2872080" y="4498920"/>
              <a:ext cx="4314600" cy="298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72080" y="4498920"/>
                        <a:ext cx="4314600" cy="29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686" name=""/>
            <p:cNvSpPr/>
            <p:nvPr/>
          </p:nvSpPr>
          <p:spPr>
            <a:xfrm>
              <a:off x="901440" y="382896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ith: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47640" y="1844640"/>
            <a:ext cx="7093080" cy="1681200"/>
            <a:chOff x="647640" y="1844640"/>
            <a:chExt cx="7093080" cy="1681200"/>
          </a:xfrm>
        </p:grpSpPr>
        <p:graphicFrame>
          <p:nvGraphicFramePr>
            <p:cNvPr id="688" name=""/>
            <p:cNvGraphicFramePr/>
            <p:nvPr/>
          </p:nvGraphicFramePr>
          <p:xfrm>
            <a:off x="1908000" y="2565360"/>
            <a:ext cx="4419720" cy="960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8000" y="2565360"/>
                      <a:ext cx="44197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0" name=""/>
            <p:cNvSpPr/>
            <p:nvPr/>
          </p:nvSpPr>
          <p:spPr>
            <a:xfrm>
              <a:off x="647640" y="1844640"/>
              <a:ext cx="7093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maximal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rm of the sensitivity function is defined by: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3417840" y="189000"/>
            <a:ext cx="56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3- A posteriori performances analysi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AC2F-8FE6-4E83-A1CC-DC3F51EDA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684360" y="197316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Robust control approaches for (parametric) uncertain system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A posteriori performances analysis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with the control of piezoelectric cantilever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8604-87A5-479F-AD21-4717B03119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4606920" y="-126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4- Example with the control of piezoelectric cantilever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63640" y="5513400"/>
            <a:ext cx="5545080" cy="65232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ig. 1: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Manipulation of micro-object;                             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Piezocantilever subjected to an electrical excitation</a:t>
            </a:r>
            <a:endParaRPr b="0" lang="en-US" sz="16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539640" y="1212840"/>
            <a:ext cx="4392720" cy="3932640"/>
            <a:chOff x="539640" y="1212840"/>
            <a:chExt cx="4392720" cy="3932640"/>
          </a:xfrm>
        </p:grpSpPr>
        <p:pic>
          <p:nvPicPr>
            <p:cNvPr id="696" name="" descr=""/>
            <p:cNvPicPr/>
            <p:nvPr/>
          </p:nvPicPr>
          <p:blipFill>
            <a:blip r:embed="rId1"/>
            <a:stretch/>
          </p:blipFill>
          <p:spPr>
            <a:xfrm>
              <a:off x="539640" y="1212840"/>
              <a:ext cx="439272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2486520" y="486900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a)</a:t>
              </a:r>
              <a:endParaRPr b="0" lang="en-US" sz="12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5364000" y="2276640"/>
            <a:ext cx="3313440" cy="2076480"/>
            <a:chOff x="5364000" y="2276640"/>
            <a:chExt cx="3313440" cy="2076480"/>
          </a:xfrm>
        </p:grpSpPr>
        <p:pic>
          <p:nvPicPr>
            <p:cNvPr id="699" name="" descr=""/>
            <p:cNvPicPr/>
            <p:nvPr/>
          </p:nvPicPr>
          <p:blipFill>
            <a:blip r:embed="rId2"/>
            <a:stretch/>
          </p:blipFill>
          <p:spPr>
            <a:xfrm>
              <a:off x="5364000" y="2276640"/>
              <a:ext cx="33134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6950520" y="407664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b)</a:t>
              </a:r>
              <a:endParaRPr b="0" lang="en-US" sz="1200" spc="-1" strike="noStrike">
                <a:solidFill>
                  <a:srgbClr val="014880"/>
                </a:solidFill>
                <a:latin typeface="Arial"/>
              </a:endParaRPr>
            </a:p>
          </p:txBody>
        </p:sp>
        <p:pic>
          <p:nvPicPr>
            <p:cNvPr id="701" name="" descr=""/>
            <p:cNvPicPr/>
            <p:nvPr/>
          </p:nvPicPr>
          <p:blipFill>
            <a:blip r:embed="rId3"/>
            <a:stretch/>
          </p:blipFill>
          <p:spPr>
            <a:xfrm>
              <a:off x="6881760" y="3716280"/>
              <a:ext cx="320760" cy="2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DC66-A41F-44D6-B8D5-BA5699D35B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1890720" y="907920"/>
            <a:ext cx="554508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Interval model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068480" y="1628640"/>
            <a:ext cx="7479720" cy="2044440"/>
            <a:chOff x="1068480" y="1628640"/>
            <a:chExt cx="7479720" cy="2044440"/>
          </a:xfrm>
        </p:grpSpPr>
        <p:graphicFrame>
          <p:nvGraphicFramePr>
            <p:cNvPr id="704" name=""/>
            <p:cNvGraphicFramePr/>
            <p:nvPr/>
          </p:nvGraphicFramePr>
          <p:xfrm>
            <a:off x="1068480" y="2216160"/>
            <a:ext cx="4016160" cy="83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8480" y="2216160"/>
                      <a:ext cx="4016160" cy="83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06" name=""/>
            <p:cNvGrpSpPr/>
            <p:nvPr/>
          </p:nvGrpSpPr>
          <p:grpSpPr>
            <a:xfrm>
              <a:off x="5508720" y="1628640"/>
              <a:ext cx="3039480" cy="2044440"/>
              <a:chOff x="5508720" y="1628640"/>
              <a:chExt cx="3039480" cy="2044440"/>
            </a:xfrm>
          </p:grpSpPr>
          <p:sp>
            <p:nvSpPr>
              <p:cNvPr id="707" name=""/>
              <p:cNvSpPr/>
              <p:nvPr/>
            </p:nvSpPr>
            <p:spPr>
              <a:xfrm>
                <a:off x="5508720" y="1644480"/>
                <a:ext cx="215640" cy="2000160"/>
              </a:xfrm>
              <a:custGeom>
                <a:avLst/>
                <a:gdLst>
                  <a:gd name="textAreaLeft" fmla="*/ 137880 w 215640"/>
                  <a:gd name="textAreaRight" fmla="*/ 216000 w 215640"/>
                  <a:gd name="textAreaTop" fmla="*/ 51840 h 2000160"/>
                  <a:gd name="textAreaBottom" fmla="*/ 1948320 h 20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aphicFrame>
            <p:nvGraphicFramePr>
              <p:cNvPr id="708" name=""/>
              <p:cNvGraphicFramePr/>
              <p:nvPr/>
            </p:nvGraphicFramePr>
            <p:xfrm>
              <a:off x="5708520" y="1628640"/>
              <a:ext cx="2171160" cy="376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0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708520" y="1628640"/>
                        <a:ext cx="2171160" cy="37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10" name=""/>
              <p:cNvGraphicFramePr/>
              <p:nvPr/>
            </p:nvGraphicFramePr>
            <p:xfrm>
              <a:off x="5708520" y="2026800"/>
              <a:ext cx="2680920" cy="400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1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08520" y="2026800"/>
                        <a:ext cx="2680920" cy="40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12" name=""/>
              <p:cNvGraphicFramePr/>
              <p:nvPr/>
            </p:nvGraphicFramePr>
            <p:xfrm>
              <a:off x="5706720" y="2441160"/>
              <a:ext cx="2841480" cy="400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1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706720" y="2441160"/>
                        <a:ext cx="2841480" cy="40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14" name=""/>
              <p:cNvGraphicFramePr/>
              <p:nvPr/>
            </p:nvGraphicFramePr>
            <p:xfrm>
              <a:off x="5714640" y="3273120"/>
              <a:ext cx="2761920" cy="3999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1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14640" y="3273120"/>
                        <a:ext cx="2761920" cy="399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16" name=""/>
              <p:cNvGraphicFramePr/>
              <p:nvPr/>
            </p:nvGraphicFramePr>
            <p:xfrm>
              <a:off x="5708520" y="2852280"/>
              <a:ext cx="2680920" cy="4003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71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708520" y="2852280"/>
                        <a:ext cx="2680920" cy="400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718" name=""/>
          <p:cNvSpPr/>
          <p:nvPr/>
        </p:nvSpPr>
        <p:spPr>
          <a:xfrm>
            <a:off x="4606920" y="-126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4- Example with the control of piezoelectric cantilever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008000" y="3716280"/>
            <a:ext cx="7164360" cy="1709280"/>
            <a:chOff x="1008000" y="3716280"/>
            <a:chExt cx="7164360" cy="1709280"/>
          </a:xfrm>
        </p:grpSpPr>
        <p:grpSp>
          <p:nvGrpSpPr>
            <p:cNvPr id="720" name=""/>
            <p:cNvGrpSpPr/>
            <p:nvPr/>
          </p:nvGrpSpPr>
          <p:grpSpPr>
            <a:xfrm>
              <a:off x="1008000" y="3716280"/>
              <a:ext cx="3527280" cy="1709280"/>
              <a:chOff x="1008000" y="3716280"/>
              <a:chExt cx="3527280" cy="1709280"/>
            </a:xfrm>
          </p:grpSpPr>
          <p:grpSp>
            <p:nvGrpSpPr>
              <p:cNvPr id="721" name=""/>
              <p:cNvGrpSpPr/>
              <p:nvPr/>
            </p:nvGrpSpPr>
            <p:grpSpPr>
              <a:xfrm>
                <a:off x="1008000" y="3716280"/>
                <a:ext cx="3527280" cy="1369440"/>
                <a:chOff x="1008000" y="3716280"/>
                <a:chExt cx="3527280" cy="136944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1008000" y="3716280"/>
                  <a:ext cx="2004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Times New Roman"/>
                    </a:rPr>
                    <a:t>Specifications: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grpSp>
              <p:nvGrpSpPr>
                <p:cNvPr id="723" name=""/>
                <p:cNvGrpSpPr/>
                <p:nvPr/>
              </p:nvGrpSpPr>
              <p:grpSpPr>
                <a:xfrm>
                  <a:off x="1382040" y="4097520"/>
                  <a:ext cx="3153240" cy="988200"/>
                  <a:chOff x="1382040" y="4097520"/>
                  <a:chExt cx="3153240" cy="988200"/>
                </a:xfrm>
              </p:grpSpPr>
              <p:sp>
                <p:nvSpPr>
                  <p:cNvPr id="724" name=""/>
                  <p:cNvSpPr/>
                  <p:nvPr/>
                </p:nvSpPr>
                <p:spPr>
                  <a:xfrm>
                    <a:off x="1390320" y="4437000"/>
                    <a:ext cx="3144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- Settling time </a:t>
                    </a: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r 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≤</a:t>
                    </a:r>
                    <a:r>
                      <a:rPr b="1" i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30ms</a:t>
                    </a:r>
                    <a:endParaRPr b="0" lang="en-US" sz="14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1382040" y="4748400"/>
                    <a:ext cx="30524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- Static error 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</a:t>
                    </a: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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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≤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 </a:t>
                    </a:r>
                    <a:r>
                      <a:rPr b="1" i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%</a:t>
                    </a:r>
                    <a:endParaRPr b="0" lang="en-US" sz="16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1390320" y="4097520"/>
                    <a:ext cx="3144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- No overshoot</a:t>
                    </a:r>
                    <a:endParaRPr b="0" lang="en-US" sz="14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7" name=""/>
              <p:cNvSpPr/>
              <p:nvPr/>
            </p:nvSpPr>
            <p:spPr>
              <a:xfrm>
                <a:off x="1373760" y="5121000"/>
                <a:ext cx="2004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963240" y="4076640"/>
              <a:ext cx="4209120" cy="1206720"/>
              <a:chOff x="3963240" y="4076640"/>
              <a:chExt cx="4209120" cy="1206720"/>
            </a:xfrm>
          </p:grpSpPr>
          <p:graphicFrame>
            <p:nvGraphicFramePr>
              <p:cNvPr id="729" name=""/>
              <p:cNvGraphicFramePr/>
              <p:nvPr/>
            </p:nvGraphicFramePr>
            <p:xfrm>
              <a:off x="6108840" y="4076640"/>
              <a:ext cx="2063520" cy="723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3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108840" y="4076640"/>
                        <a:ext cx="2063520" cy="723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731" name=""/>
              <p:cNvGrpSpPr/>
              <p:nvPr/>
            </p:nvGrpSpPr>
            <p:grpSpPr>
              <a:xfrm>
                <a:off x="4308480" y="4076640"/>
                <a:ext cx="1440000" cy="865440"/>
                <a:chOff x="4308480" y="4076640"/>
                <a:chExt cx="1440000" cy="8654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308480" y="4076640"/>
                  <a:ext cx="1440000" cy="865440"/>
                </a:xfrm>
                <a:prstGeom prst="rightArrow">
                  <a:avLst>
                    <a:gd name="adj1" fmla="val 64769"/>
                    <a:gd name="adj2" fmla="val 34857"/>
                  </a:avLst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356000" y="4221360"/>
                  <a:ext cx="1224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terval Control</a:t>
                  </a:r>
                  <a:endParaRPr b="0" lang="en-US" sz="14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4" name=""/>
              <p:cNvSpPr/>
              <p:nvPr/>
            </p:nvSpPr>
            <p:spPr>
              <a:xfrm>
                <a:off x="3963240" y="491508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593fd"/>
                    </a:solidFill>
                    <a:latin typeface="Arial"/>
                    <a:ea typeface="Times New Roman"/>
                  </a:rPr>
                  <a:t>[Khadraoui, SWIM’10]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sp>
        <p:nvSpPr>
          <p:cNvPr id="735" name=""/>
          <p:cNvSpPr/>
          <p:nvPr/>
        </p:nvSpPr>
        <p:spPr>
          <a:xfrm>
            <a:off x="611280" y="5465880"/>
            <a:ext cx="82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ard, prove the robustness of the PI controller to ensure the required specificat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0A5FB-A760-4544-A930-883E671D8E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1763640" y="3164040"/>
          <a:ext cx="268596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3164040"/>
                    <a:ext cx="26859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472320" y="24433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required specification: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508720" y="2782800"/>
            <a:ext cx="2657520" cy="1582920"/>
            <a:chOff x="5508720" y="2782800"/>
            <a:chExt cx="2657520" cy="1582920"/>
          </a:xfrm>
        </p:grpSpPr>
        <p:graphicFrame>
          <p:nvGraphicFramePr>
            <p:cNvPr id="740" name=""/>
            <p:cNvGraphicFramePr/>
            <p:nvPr/>
          </p:nvGraphicFramePr>
          <p:xfrm>
            <a:off x="5526000" y="2782800"/>
            <a:ext cx="2040120" cy="79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26000" y="2782800"/>
                      <a:ext cx="2040120" cy="79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2" name=""/>
            <p:cNvGraphicFramePr/>
            <p:nvPr/>
          </p:nvGraphicFramePr>
          <p:xfrm>
            <a:off x="5508720" y="3794040"/>
            <a:ext cx="2657520" cy="571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8720" y="3794040"/>
                      <a:ext cx="265752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4" name=""/>
          <p:cNvSpPr/>
          <p:nvPr/>
        </p:nvSpPr>
        <p:spPr>
          <a:xfrm>
            <a:off x="1619280" y="885960"/>
            <a:ext cx="604836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Robustness study of the controller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C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6920" y="-126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4- Example with the control of piezoelectric cantilever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472680" y="4506840"/>
            <a:ext cx="6907680" cy="1370160"/>
            <a:chOff x="472680" y="4506840"/>
            <a:chExt cx="6907680" cy="1370160"/>
          </a:xfrm>
        </p:grpSpPr>
        <p:sp>
          <p:nvSpPr>
            <p:cNvPr id="747" name=""/>
            <p:cNvSpPr/>
            <p:nvPr/>
          </p:nvSpPr>
          <p:spPr>
            <a:xfrm>
              <a:off x="472680" y="4506840"/>
              <a:ext cx="29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fter numerical application: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aphicFrame>
          <p:nvGraphicFramePr>
            <p:cNvPr id="748" name=""/>
            <p:cNvGraphicFramePr/>
            <p:nvPr/>
          </p:nvGraphicFramePr>
          <p:xfrm>
            <a:off x="2108160" y="5175360"/>
            <a:ext cx="2567160" cy="58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08160" y="5175360"/>
                      <a:ext cx="2567160" cy="58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0" name=""/>
            <p:cNvSpPr/>
            <p:nvPr/>
          </p:nvSpPr>
          <p:spPr>
            <a:xfrm>
              <a:off x="4903920" y="5243400"/>
              <a:ext cx="504720" cy="503280"/>
            </a:xfrm>
            <a:prstGeom prst="rightArrow">
              <a:avLst>
                <a:gd name="adj1" fmla="val 50000"/>
                <a:gd name="adj2" fmla="val 25072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1" name=""/>
                <p:cNvSpPr txBox="1"/>
                <p:nvPr/>
              </p:nvSpPr>
              <p:spPr>
                <a:xfrm>
                  <a:off x="5580000" y="5106960"/>
                  <a:ext cx="180036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t xml:space="preserve">∞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2" name=""/>
          <p:cNvGrpSpPr/>
          <p:nvPr/>
        </p:nvGrpSpPr>
        <p:grpSpPr>
          <a:xfrm>
            <a:off x="468360" y="1606680"/>
            <a:ext cx="5040360" cy="598320"/>
            <a:chOff x="468360" y="1606680"/>
            <a:chExt cx="5040360" cy="598320"/>
          </a:xfrm>
        </p:grpSpPr>
        <p:sp>
          <p:nvSpPr>
            <p:cNvPr id="753" name=""/>
            <p:cNvSpPr/>
            <p:nvPr/>
          </p:nvSpPr>
          <p:spPr>
            <a:xfrm>
              <a:off x="468360" y="1606680"/>
              <a:ext cx="5040360" cy="5270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000000"/>
                  </a:solidFill>
                  <a:uFillTx/>
                  <a:latin typeface="Times New Roman"/>
                  <a:ea typeface="Arial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∞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Norm of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1979640" y="1628640"/>
                  <a:ext cx="64764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7CE2-56F0-4F06-BDB6-9FC6ABBA1E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5" name=""/>
          <p:cNvGraphicFramePr/>
          <p:nvPr/>
        </p:nvGraphicFramePr>
        <p:xfrm>
          <a:off x="1569960" y="1930320"/>
          <a:ext cx="555156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9960" y="1930320"/>
                    <a:ext cx="555156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7" name=""/>
          <p:cNvGrpSpPr/>
          <p:nvPr/>
        </p:nvGrpSpPr>
        <p:grpSpPr>
          <a:xfrm>
            <a:off x="395280" y="2689200"/>
            <a:ext cx="7201080" cy="976320"/>
            <a:chOff x="395280" y="2689200"/>
            <a:chExt cx="7201080" cy="976320"/>
          </a:xfrm>
        </p:grpSpPr>
        <p:graphicFrame>
          <p:nvGraphicFramePr>
            <p:cNvPr id="758" name=""/>
            <p:cNvGraphicFramePr/>
            <p:nvPr/>
          </p:nvGraphicFramePr>
          <p:xfrm>
            <a:off x="2946240" y="3192480"/>
            <a:ext cx="2994120" cy="47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46240" y="3192480"/>
                      <a:ext cx="299412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"/>
            <p:cNvSpPr/>
            <p:nvPr/>
          </p:nvSpPr>
          <p:spPr>
            <a:xfrm>
              <a:off x="395280" y="2689200"/>
              <a:ext cx="720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ing the method proposed in </a:t>
              </a:r>
              <a:r>
                <a:rPr b="0" lang="en-US" sz="1800" spc="-1" strike="noStrike">
                  <a:solidFill>
                    <a:srgbClr val="0593fd"/>
                  </a:solidFill>
                  <a:latin typeface="Arial"/>
                  <a:ea typeface="Times New Roman"/>
                </a:rPr>
                <a:t>[Long Wang, 2002]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we obtain: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11280" y="3754440"/>
            <a:ext cx="3154320" cy="1511280"/>
            <a:chOff x="611280" y="3754440"/>
            <a:chExt cx="3154320" cy="1511280"/>
          </a:xfrm>
        </p:grpSpPr>
        <p:graphicFrame>
          <p:nvGraphicFramePr>
            <p:cNvPr id="762" name=""/>
            <p:cNvGraphicFramePr/>
            <p:nvPr/>
          </p:nvGraphicFramePr>
          <p:xfrm>
            <a:off x="771840" y="3799080"/>
            <a:ext cx="2993760" cy="1417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71840" y="3799080"/>
                      <a:ext cx="2993760" cy="141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"/>
            <p:cNvSpPr/>
            <p:nvPr/>
          </p:nvSpPr>
          <p:spPr>
            <a:xfrm>
              <a:off x="611280" y="3754440"/>
              <a:ext cx="216000" cy="1511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9240 h 1511280"/>
                <a:gd name="textAreaBottom" fmla="*/ 147204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780000" y="4137120"/>
            <a:ext cx="3948120" cy="917640"/>
            <a:chOff x="3780000" y="4137120"/>
            <a:chExt cx="3948120" cy="917640"/>
          </a:xfrm>
        </p:grpSpPr>
        <p:sp>
          <p:nvSpPr>
            <p:cNvPr id="766" name=""/>
            <p:cNvSpPr/>
            <p:nvPr/>
          </p:nvSpPr>
          <p:spPr>
            <a:xfrm>
              <a:off x="3780000" y="4314960"/>
              <a:ext cx="504720" cy="5763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aphicFrame>
          <p:nvGraphicFramePr>
            <p:cNvPr id="767" name=""/>
            <p:cNvGraphicFramePr/>
            <p:nvPr/>
          </p:nvGraphicFramePr>
          <p:xfrm>
            <a:off x="4500720" y="4137120"/>
            <a:ext cx="3227400" cy="917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4137120"/>
                      <a:ext cx="3227400" cy="91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9" name=""/>
          <p:cNvSpPr/>
          <p:nvPr/>
        </p:nvSpPr>
        <p:spPr>
          <a:xfrm>
            <a:off x="3319560" y="5883120"/>
            <a:ext cx="30970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ations hold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5218920" y="5059440"/>
            <a:ext cx="937440" cy="830520"/>
            <a:chOff x="5218920" y="5059440"/>
            <a:chExt cx="937440" cy="830520"/>
          </a:xfrm>
        </p:grpSpPr>
        <p:cxnSp>
          <p:nvCxnSpPr>
            <p:cNvPr id="771" name=""/>
            <p:cNvCxnSpPr/>
            <p:nvPr/>
          </p:nvCxnSpPr>
          <p:spPr>
            <a:xfrm rot="5400000">
              <a:off x="5204880" y="5073120"/>
              <a:ext cx="830880" cy="803160"/>
            </a:xfrm>
            <a:prstGeom prst="curvedConnector5">
              <a:avLst>
                <a:gd name="adj1" fmla="val 49978"/>
                <a:gd name="adj2" fmla="val 50000"/>
                <a:gd name="adj3" fmla="val 49978"/>
              </a:avLst>
            </a:prstGeom>
            <a:ln w="28440">
              <a:solidFill>
                <a:srgbClr val="4614c2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/>
            <p:nvPr/>
          </p:nvCxnSpPr>
          <p:spPr>
            <a:xfrm flipH="1" flipV="1" rot="5400000">
              <a:off x="5406120" y="5102280"/>
              <a:ext cx="764280" cy="736560"/>
            </a:xfrm>
            <a:prstGeom prst="curvedConnector5">
              <a:avLst>
                <a:gd name="adj1" fmla="val 46936"/>
                <a:gd name="adj2" fmla="val 49975"/>
                <a:gd name="adj3" fmla="val 46936"/>
              </a:avLst>
            </a:prstGeom>
            <a:ln w="28440">
              <a:solidFill>
                <a:srgbClr val="4614c2"/>
              </a:solidFill>
              <a:miter/>
              <a:tailEnd len="med" type="triangle" w="med"/>
            </a:ln>
          </p:spPr>
        </p:cxnSp>
      </p:grpSp>
      <p:sp>
        <p:nvSpPr>
          <p:cNvPr id="773" name=""/>
          <p:cNvSpPr/>
          <p:nvPr/>
        </p:nvSpPr>
        <p:spPr>
          <a:xfrm>
            <a:off x="4606920" y="-126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4- Example with the control of piezoelectric cantilever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619280" y="835200"/>
            <a:ext cx="604836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Robustness study of the controller 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C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4000" y="1413000"/>
            <a:ext cx="5040000" cy="527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norm of the sensitivity function [S](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24E9-61B4-43A0-B008-0315E90F99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612720" y="112536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408"/>
                </a:solidFill>
                <a:latin typeface="Arial"/>
              </a:rPr>
              <a:t>The controller has played its role and the required specifications are satisfied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654200" y="5440320"/>
            <a:ext cx="5797440" cy="65268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g. 1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gnitudes of the sensitivity function compared to the magnitude of the weighting function</a:t>
            </a:r>
            <a:endParaRPr b="0" lang="en-US" sz="16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473200" y="1717560"/>
            <a:ext cx="4337280" cy="3498840"/>
            <a:chOff x="2473200" y="1717560"/>
            <a:chExt cx="4337280" cy="3498840"/>
          </a:xfrm>
        </p:grpSpPr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2473200" y="1717560"/>
              <a:ext cx="410364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 flipH="1" flipV="1">
              <a:off x="3664080" y="4092120"/>
              <a:ext cx="28728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841560" y="2941560"/>
              <a:ext cx="216000" cy="37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3425760" y="4446720"/>
              <a:ext cx="3384720" cy="388800"/>
              <a:chOff x="3425760" y="4446720"/>
              <a:chExt cx="3384720" cy="388800"/>
            </a:xfrm>
          </p:grpSpPr>
          <p:grpSp>
            <p:nvGrpSpPr>
              <p:cNvPr id="783" name=""/>
              <p:cNvGrpSpPr/>
              <p:nvPr/>
            </p:nvGrpSpPr>
            <p:grpSpPr>
              <a:xfrm>
                <a:off x="3425760" y="4446720"/>
                <a:ext cx="3384720" cy="377640"/>
                <a:chOff x="3425760" y="4446720"/>
                <a:chExt cx="3384720" cy="37764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3425760" y="4446720"/>
                  <a:ext cx="3384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[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](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)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= (1+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.[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(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[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,[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]))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475080" y="4464000"/>
                  <a:ext cx="0" cy="3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081680" y="4464000"/>
                  <a:ext cx="0" cy="3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289400" y="4464000"/>
                  <a:ext cx="0" cy="36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6505560" y="4475160"/>
                <a:ext cx="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049560" y="2476440"/>
              <a:ext cx="720720" cy="720000"/>
              <a:chOff x="3049560" y="2476440"/>
              <a:chExt cx="720720" cy="72000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3049560" y="2476440"/>
                <a:ext cx="720720" cy="720000"/>
                <a:chOff x="3049560" y="2476440"/>
                <a:chExt cx="720720" cy="72000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3049560" y="2790720"/>
                  <a:ext cx="7207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</a:t>
                  </a:r>
                  <a:r>
                    <a:rPr b="1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243240" y="2476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071880" y="2825640"/>
                  <a:ext cx="647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3049560" y="2508120"/>
                <a:ext cx="0" cy="61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46520" y="2509920"/>
                <a:ext cx="0" cy="611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sp>
        <p:nvSpPr>
          <p:cNvPr id="796" name=""/>
          <p:cNvSpPr/>
          <p:nvPr/>
        </p:nvSpPr>
        <p:spPr>
          <a:xfrm>
            <a:off x="4606920" y="-126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4- Example with the control of piezoelectric cantilever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A590-27B6-481F-A0E7-B9A95EF78F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979640" y="5445000"/>
            <a:ext cx="5472000" cy="65268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g. 1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xperimental results using PI controller for two piezocantilevers compared with the desired behaviors </a:t>
            </a:r>
            <a:endParaRPr b="0" lang="en-US" sz="16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06920" y="-1260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4- Example with the control of piezoelectric cantilever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1"/>
          <a:stretch/>
        </p:blipFill>
        <p:spPr>
          <a:xfrm>
            <a:off x="2195640" y="933480"/>
            <a:ext cx="4824360" cy="429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B38F-9583-4900-9B4A-B3565AD363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84360" y="197316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Robust control approaches for (parametric) uncertain system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A posteriori performances analysis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Example with the control of piezoelectric cantilever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7D3B-F4DF-4283-97CD-2B007A7217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395280" y="3686040"/>
            <a:ext cx="79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4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408"/>
                </a:solidFill>
                <a:latin typeface="Arial"/>
              </a:rPr>
              <a:t>Experimental results with piezocantilevers prove the efficiency of the proposed method,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99960" y="2492280"/>
            <a:ext cx="867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408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408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408"/>
                </a:solidFill>
                <a:latin typeface="Times New Roman"/>
                <a:ea typeface="Arial"/>
              </a:rPr>
              <a:t>∞</a:t>
            </a:r>
            <a:r>
              <a:rPr b="0" lang="en-US" sz="2000" spc="-1" strike="noStrike">
                <a:solidFill>
                  <a:srgbClr val="000408"/>
                </a:solidFill>
                <a:latin typeface="Arial"/>
              </a:rPr>
              <a:t> standard approach confirms the robustness of the computed controller,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5280" y="162864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s analysis for a controlled system with uncertainties,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95280" y="481500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4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408"/>
                </a:solidFill>
                <a:latin typeface="Arial"/>
              </a:rPr>
              <a:t>The interval analysis represents a guaranteed tools for modeling and control system with uncertainties.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04000" y="177840"/>
            <a:ext cx="23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5- Conclusion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FB27-EE0A-43DE-8F6D-322DA4C55D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4360" y="197316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Robust control approaches for (parametric) uncertain system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A posteriori performances analysis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Example with the control of piezoelectric cantilever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5A5C-7EF1-4379-95C2-AA81157E2A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050920" y="2565000"/>
            <a:ext cx="5113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487e"/>
                </a:solidFill>
                <a:latin typeface="Comic Sans MS"/>
              </a:rPr>
              <a:t>Thank You For Your Attention </a:t>
            </a:r>
            <a:endParaRPr b="1" lang="en-US" sz="4800" spc="-1" strike="noStrike">
              <a:solidFill>
                <a:srgbClr val="01487e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9269000">
            <a:off x="968400" y="263952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8360 h 1600200"/>
              <a:gd name="textAreaBottom" fmla="*/ 116892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85" stAng="-5400000" swAng="-5400000"/>
                <a:lnTo>
                  <a:pt x="0" y="11886"/>
                </a:lnTo>
                <a:arcTo wR="21600" hR="7785" stAng="10800000" swAng="-2669375"/>
                <a:lnTo>
                  <a:pt x="14160" y="21124"/>
                </a:lnTo>
                <a:lnTo>
                  <a:pt x="21600" y="17621"/>
                </a:lnTo>
                <a:lnTo>
                  <a:pt x="14160" y="13165"/>
                </a:lnTo>
                <a:lnTo>
                  <a:pt x="14160" y="15094"/>
                </a:lnTo>
                <a:arcTo wR="21600" hR="7785" stAng="8130625" swAng="2332168"/>
                <a:lnTo>
                  <a:pt x="763" y="9836"/>
                </a:lnTo>
                <a:arcTo wR="21600" hR="7785" stAng="-10462793" swAng="5062793"/>
                <a:close/>
              </a:path>
              <a:path fill="darkenLess" w="21600" h="21600">
                <a:moveTo>
                  <a:pt x="21600" y="0"/>
                </a:moveTo>
                <a:arcTo wR="21600" hR="7785" stAng="-5400000" swAng="-5400000"/>
                <a:lnTo>
                  <a:pt x="0" y="7785"/>
                </a:lnTo>
                <a:arcTo wR="21600" hR="7785" stAng="10800000" swAng="-337207"/>
                <a:lnTo>
                  <a:pt x="763" y="9836"/>
                </a:lnTo>
                <a:arcTo wR="21600" hR="7785" stAng="-10462793" swAng="5062793"/>
                <a:close/>
              </a:path>
            </a:pathLst>
          </a:custGeom>
          <a:solidFill>
            <a:srgbClr val="d2b004"/>
          </a:solidFill>
          <a:ln w="9360">
            <a:solidFill>
              <a:srgbClr val="d2b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512000">
            <a:off x="7596360" y="2565360"/>
            <a:ext cx="685800" cy="1600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2b004"/>
          </a:solidFill>
          <a:ln w="9360">
            <a:solidFill>
              <a:srgbClr val="d2b0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9EEF-373A-4CA1-97FA-1B2977CB4D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3440" y="5661000"/>
            <a:ext cx="446040" cy="709560"/>
          </a:xfrm>
          <a:custGeom>
            <a:avLst/>
            <a:gdLst/>
            <a:ahLst/>
            <a:rect l="l" t="t" r="r" b="b"/>
            <a:pathLst>
              <a:path w="281" h="447">
                <a:moveTo>
                  <a:pt x="171" y="0"/>
                </a:moveTo>
                <a:cubicBezTo>
                  <a:pt x="142" y="6"/>
                  <a:pt x="113" y="9"/>
                  <a:pt x="85" y="18"/>
                </a:cubicBezTo>
                <a:cubicBezTo>
                  <a:pt x="68" y="36"/>
                  <a:pt x="57" y="50"/>
                  <a:pt x="48" y="73"/>
                </a:cubicBezTo>
                <a:cubicBezTo>
                  <a:pt x="25" y="191"/>
                  <a:pt x="0" y="323"/>
                  <a:pt x="104" y="398"/>
                </a:cubicBezTo>
                <a:cubicBezTo>
                  <a:pt x="125" y="429"/>
                  <a:pt x="161" y="436"/>
                  <a:pt x="196" y="447"/>
                </a:cubicBezTo>
                <a:cubicBezTo>
                  <a:pt x="212" y="445"/>
                  <a:pt x="230" y="447"/>
                  <a:pt x="245" y="441"/>
                </a:cubicBezTo>
                <a:cubicBezTo>
                  <a:pt x="272" y="431"/>
                  <a:pt x="275" y="385"/>
                  <a:pt x="281" y="361"/>
                </a:cubicBezTo>
                <a:cubicBezTo>
                  <a:pt x="279" y="333"/>
                  <a:pt x="278" y="304"/>
                  <a:pt x="275" y="276"/>
                </a:cubicBezTo>
                <a:cubicBezTo>
                  <a:pt x="269" y="221"/>
                  <a:pt x="240" y="163"/>
                  <a:pt x="226" y="110"/>
                </a:cubicBezTo>
                <a:cubicBezTo>
                  <a:pt x="217" y="78"/>
                  <a:pt x="218" y="48"/>
                  <a:pt x="196" y="24"/>
                </a:cubicBezTo>
                <a:cubicBezTo>
                  <a:pt x="187" y="0"/>
                  <a:pt x="195" y="8"/>
                  <a:pt x="1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1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1- Introduction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68400" y="907920"/>
            <a:ext cx="537840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Control design requirement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833480" y="4132080"/>
            <a:ext cx="6149520" cy="1962360"/>
            <a:chOff x="1833480" y="4132080"/>
            <a:chExt cx="6149520" cy="1962360"/>
          </a:xfrm>
        </p:grpSpPr>
        <p:grpSp>
          <p:nvGrpSpPr>
            <p:cNvPr id="67" name=""/>
            <p:cNvGrpSpPr/>
            <p:nvPr/>
          </p:nvGrpSpPr>
          <p:grpSpPr>
            <a:xfrm>
              <a:off x="1833480" y="5223240"/>
              <a:ext cx="4537080" cy="871200"/>
              <a:chOff x="1833480" y="5223240"/>
              <a:chExt cx="4537080" cy="871200"/>
            </a:xfrm>
          </p:grpSpPr>
          <p:sp>
            <p:nvSpPr>
              <p:cNvPr id="68" name=""/>
              <p:cNvSpPr/>
              <p:nvPr/>
            </p:nvSpPr>
            <p:spPr>
              <a:xfrm>
                <a:off x="1833480" y="5223240"/>
                <a:ext cx="446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ood knowledge on the system  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33480" y="5726160"/>
                <a:ext cx="453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ood knowledge on its environment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H="1" rot="17494800">
              <a:off x="6550560" y="4832640"/>
              <a:ext cx="1800360" cy="431640"/>
            </a:xfrm>
            <a:custGeom>
              <a:avLst/>
              <a:gdLst>
                <a:gd name="textAreaLeft" fmla="*/ 357480 w 1800360"/>
                <a:gd name="textAreaRight" fmla="*/ 1224360 w 180036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592" hR="21600" stAng="10800000" swAng="-5400000"/>
                  <a:lnTo>
                    <a:pt x="10396" y="21600"/>
                  </a:lnTo>
                  <a:arcTo wR="8592" hR="21600" stAng="5400000" swAng="-3339333"/>
                  <a:lnTo>
                    <a:pt x="21299" y="5665"/>
                  </a:lnTo>
                  <a:lnTo>
                    <a:pt x="18085" y="0"/>
                  </a:lnTo>
                  <a:lnTo>
                    <a:pt x="14269" y="5665"/>
                  </a:lnTo>
                  <a:lnTo>
                    <a:pt x="16882" y="5665"/>
                  </a:lnTo>
                  <a:arcTo wR="8592" hR="21600" stAng="2060667" swAng="3195062"/>
                  <a:lnTo>
                    <a:pt x="9494" y="21481"/>
                  </a:lnTo>
                  <a:arcTo wR="8592" hR="21600" stAng="5544271" swAng="5255729"/>
                  <a:close/>
                </a:path>
                <a:path fill="darkenLess" w="21600" h="21600">
                  <a:moveTo>
                    <a:pt x="0" y="0"/>
                  </a:moveTo>
                  <a:arcTo wR="8592" hR="21600" stAng="10800000" swAng="-5400000"/>
                  <a:lnTo>
                    <a:pt x="10396" y="21600"/>
                  </a:lnTo>
                  <a:arcTo wR="8592" hR="21600" stAng="5400000" swAng="144271"/>
                  <a:lnTo>
                    <a:pt x="9494" y="21481"/>
                  </a:lnTo>
                  <a:arcTo wR="8592" hR="21600" stAng="5544271" swAng="5255729"/>
                  <a:close/>
                </a:path>
              </a:pathLst>
            </a:custGeom>
            <a:solidFill>
              <a:srgbClr val="7e63d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79640" y="2491920"/>
            <a:ext cx="3024720" cy="1800720"/>
            <a:chOff x="5579640" y="2491920"/>
            <a:chExt cx="3024720" cy="1800720"/>
          </a:xfrm>
        </p:grpSpPr>
        <p:grpSp>
          <p:nvGrpSpPr>
            <p:cNvPr id="72" name=""/>
            <p:cNvGrpSpPr/>
            <p:nvPr/>
          </p:nvGrpSpPr>
          <p:grpSpPr>
            <a:xfrm>
              <a:off x="5962680" y="2492280"/>
              <a:ext cx="2641680" cy="1800360"/>
              <a:chOff x="5962680" y="2492280"/>
              <a:chExt cx="2641680" cy="1800360"/>
            </a:xfrm>
          </p:grpSpPr>
          <p:sp>
            <p:nvSpPr>
              <p:cNvPr id="73" name=""/>
              <p:cNvSpPr/>
              <p:nvPr/>
            </p:nvSpPr>
            <p:spPr>
              <a:xfrm>
                <a:off x="6588360" y="2746440"/>
                <a:ext cx="2016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curate model  </a:t>
                </a:r>
                <a:endParaRPr b="0" lang="en-US" sz="32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62680" y="2492280"/>
                <a:ext cx="287280" cy="1800360"/>
              </a:xfrm>
              <a:prstGeom prst="rightArrow">
                <a:avLst>
                  <a:gd name="adj1" fmla="val 32454"/>
                  <a:gd name="adj2" fmla="val 58009"/>
                </a:avLst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rot="10800000">
              <a:off x="5579640" y="2491920"/>
              <a:ext cx="287640" cy="1800360"/>
            </a:xfrm>
            <a:prstGeom prst="rightArrow">
              <a:avLst>
                <a:gd name="adj1" fmla="val 32454"/>
                <a:gd name="adj2" fmla="val 58009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16000" y="1557360"/>
            <a:ext cx="5150520" cy="3456000"/>
            <a:chOff x="216000" y="1557360"/>
            <a:chExt cx="5150520" cy="345600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216000" y="1557360"/>
              <a:ext cx="48164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716360" y="1666800"/>
              <a:ext cx="236520" cy="2665440"/>
            </a:xfrm>
            <a:custGeom>
              <a:avLst/>
              <a:gdLst>
                <a:gd name="textAreaLeft" fmla="*/ 0 w 236520"/>
                <a:gd name="textAreaRight" fmla="*/ 85320 w 23652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6200000">
              <a:off x="3782520" y="2781360"/>
              <a:ext cx="27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ystème physique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229440" y="501480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20606"/>
                </a:solidFill>
                <a:latin typeface="Arial"/>
                <a:ea typeface="Times New Roman"/>
              </a:rPr>
              <a:t>?</a:t>
            </a:r>
            <a:endParaRPr b="0" lang="en-US" sz="60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73120" y="1628640"/>
            <a:ext cx="5692320" cy="3647880"/>
            <a:chOff x="573120" y="1628640"/>
            <a:chExt cx="5692320" cy="3647880"/>
          </a:xfrm>
        </p:grpSpPr>
        <p:sp>
          <p:nvSpPr>
            <p:cNvPr id="82" name=""/>
            <p:cNvSpPr/>
            <p:nvPr/>
          </p:nvSpPr>
          <p:spPr>
            <a:xfrm>
              <a:off x="573120" y="1628640"/>
              <a:ext cx="4032360" cy="2737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cxnSp>
          <p:nvCxnSpPr>
            <p:cNvPr id="83" name=""/>
            <p:cNvCxnSpPr/>
            <p:nvPr/>
          </p:nvCxnSpPr>
          <p:spPr>
            <a:xfrm rot="10800000">
              <a:off x="4609440" y="3763080"/>
              <a:ext cx="1656360" cy="1513800"/>
            </a:xfrm>
            <a:prstGeom prst="curvedConnector5">
              <a:avLst>
                <a:gd name="adj1" fmla="val 49934"/>
                <a:gd name="adj2" fmla="val 50000"/>
                <a:gd name="adj3" fmla="val 49934"/>
              </a:avLst>
            </a:prstGeom>
            <a:ln w="57240">
              <a:solidFill>
                <a:srgbClr val="0593fd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0C56-E2B3-4CD0-859F-EF587BC48F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13440" y="5661000"/>
            <a:ext cx="446040" cy="709560"/>
          </a:xfrm>
          <a:custGeom>
            <a:avLst/>
            <a:gdLst/>
            <a:ahLst/>
            <a:rect l="l" t="t" r="r" b="b"/>
            <a:pathLst>
              <a:path w="281" h="447">
                <a:moveTo>
                  <a:pt x="171" y="0"/>
                </a:moveTo>
                <a:cubicBezTo>
                  <a:pt x="142" y="6"/>
                  <a:pt x="113" y="9"/>
                  <a:pt x="85" y="18"/>
                </a:cubicBezTo>
                <a:cubicBezTo>
                  <a:pt x="68" y="36"/>
                  <a:pt x="57" y="50"/>
                  <a:pt x="48" y="73"/>
                </a:cubicBezTo>
                <a:cubicBezTo>
                  <a:pt x="25" y="191"/>
                  <a:pt x="0" y="323"/>
                  <a:pt x="104" y="398"/>
                </a:cubicBezTo>
                <a:cubicBezTo>
                  <a:pt x="125" y="429"/>
                  <a:pt x="161" y="436"/>
                  <a:pt x="196" y="447"/>
                </a:cubicBezTo>
                <a:cubicBezTo>
                  <a:pt x="212" y="445"/>
                  <a:pt x="230" y="447"/>
                  <a:pt x="245" y="441"/>
                </a:cubicBezTo>
                <a:cubicBezTo>
                  <a:pt x="272" y="431"/>
                  <a:pt x="275" y="385"/>
                  <a:pt x="281" y="361"/>
                </a:cubicBezTo>
                <a:cubicBezTo>
                  <a:pt x="279" y="333"/>
                  <a:pt x="278" y="304"/>
                  <a:pt x="275" y="276"/>
                </a:cubicBezTo>
                <a:cubicBezTo>
                  <a:pt x="269" y="221"/>
                  <a:pt x="240" y="163"/>
                  <a:pt x="226" y="110"/>
                </a:cubicBezTo>
                <a:cubicBezTo>
                  <a:pt x="217" y="78"/>
                  <a:pt x="218" y="48"/>
                  <a:pt x="196" y="24"/>
                </a:cubicBezTo>
                <a:cubicBezTo>
                  <a:pt x="187" y="0"/>
                  <a:pt x="195" y="8"/>
                  <a:pt x="17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1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1- Introduction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85960" y="874800"/>
            <a:ext cx="576108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Characteristics of physical system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39640" y="1773360"/>
            <a:ext cx="6048360" cy="2965320"/>
            <a:chOff x="539640" y="1773360"/>
            <a:chExt cx="6048360" cy="2965320"/>
          </a:xfrm>
        </p:grpSpPr>
        <p:sp>
          <p:nvSpPr>
            <p:cNvPr id="88" name=""/>
            <p:cNvSpPr/>
            <p:nvPr/>
          </p:nvSpPr>
          <p:spPr>
            <a:xfrm>
              <a:off x="539640" y="1773360"/>
              <a:ext cx="20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lexity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6000" y="2200320"/>
              <a:ext cx="48243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4614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linearities (hysteresis, creep: ”piezo systems”)  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4614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me varying parameters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4614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tc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00" y="3782880"/>
              <a:ext cx="48243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4614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bration, variation of the ambient temperature, etc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4614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turbance effects and imprecise measurements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buClr>
                  <a:srgbClr val="4614c2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tc  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640" y="3305160"/>
              <a:ext cx="60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nsitivity to the environmental conditions 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878440" y="1762200"/>
            <a:ext cx="2793960" cy="2736720"/>
            <a:chOff x="5878440" y="1762200"/>
            <a:chExt cx="2793960" cy="2736720"/>
          </a:xfrm>
        </p:grpSpPr>
        <p:sp>
          <p:nvSpPr>
            <p:cNvPr id="93" name=""/>
            <p:cNvSpPr/>
            <p:nvPr/>
          </p:nvSpPr>
          <p:spPr>
            <a:xfrm>
              <a:off x="6140520" y="2467080"/>
              <a:ext cx="253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ing          &amp; control difficulties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78440" y="1762200"/>
              <a:ext cx="144360" cy="273672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71280 h 2736720"/>
                <a:gd name="textAreaBottom" fmla="*/ 266544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797360" y="4269600"/>
            <a:ext cx="4041000" cy="2120400"/>
            <a:chOff x="4797360" y="4269600"/>
            <a:chExt cx="4041000" cy="2120400"/>
          </a:xfrm>
        </p:grpSpPr>
        <p:sp>
          <p:nvSpPr>
            <p:cNvPr id="96" name=""/>
            <p:cNvSpPr/>
            <p:nvPr/>
          </p:nvSpPr>
          <p:spPr>
            <a:xfrm rot="10800000">
              <a:off x="6745320" y="4435560"/>
              <a:ext cx="1284480" cy="1512720"/>
            </a:xfrm>
            <a:custGeom>
              <a:avLst/>
              <a:gdLst>
                <a:gd name="textAreaLeft" fmla="*/ 0 w 1284480"/>
                <a:gd name="textAreaRight" fmla="*/ 1284840 w 128448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ce801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97360" y="5122800"/>
              <a:ext cx="201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perfect model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7737800">
              <a:off x="7110720" y="5130360"/>
              <a:ext cx="21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mplifications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82440" y="5140440"/>
            <a:ext cx="4681440" cy="825480"/>
            <a:chOff x="82440" y="5140440"/>
            <a:chExt cx="4681440" cy="825480"/>
          </a:xfrm>
        </p:grpSpPr>
        <p:sp>
          <p:nvSpPr>
            <p:cNvPr id="100" name=""/>
            <p:cNvSpPr/>
            <p:nvPr/>
          </p:nvSpPr>
          <p:spPr>
            <a:xfrm>
              <a:off x="3828960" y="5145120"/>
              <a:ext cx="934920" cy="790560"/>
            </a:xfrm>
            <a:prstGeom prst="leftArrow">
              <a:avLst>
                <a:gd name="adj1" fmla="val 50000"/>
                <a:gd name="adj2" fmla="val 29565"/>
              </a:avLst>
            </a:prstGeom>
            <a:solidFill>
              <a:srgbClr val="ce801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440" y="5140440"/>
              <a:ext cx="388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del subject to parametric uncertainty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0191-8D15-4D2F-9522-A72CE36CB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971640" y="2619360"/>
            <a:ext cx="7343640" cy="1548360"/>
            <a:chOff x="971640" y="2619360"/>
            <a:chExt cx="7343640" cy="1548360"/>
          </a:xfrm>
        </p:grpSpPr>
        <p:sp>
          <p:nvSpPr>
            <p:cNvPr id="103" name=""/>
            <p:cNvSpPr/>
            <p:nvPr/>
          </p:nvSpPr>
          <p:spPr>
            <a:xfrm>
              <a:off x="971640" y="2959200"/>
              <a:ext cx="131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Reference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0800" y="2917800"/>
              <a:ext cx="10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Output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314520" y="2674800"/>
              <a:ext cx="1387080" cy="558720"/>
              <a:chOff x="3314520" y="2674800"/>
              <a:chExt cx="1387080" cy="558720"/>
            </a:xfrm>
          </p:grpSpPr>
          <p:sp>
            <p:nvSpPr>
              <p:cNvPr id="106" name=""/>
              <p:cNvSpPr/>
              <p:nvPr/>
            </p:nvSpPr>
            <p:spPr>
              <a:xfrm>
                <a:off x="3314520" y="2674800"/>
                <a:ext cx="1387080" cy="558720"/>
              </a:xfrm>
              <a:prstGeom prst="rect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37560" y="2721960"/>
                <a:ext cx="131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408"/>
                    </a:solidFill>
                    <a:latin typeface="Arial"/>
                    <a:ea typeface="Arial"/>
                  </a:rPr>
                  <a:t>Controller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425920" y="2691000"/>
              <a:ext cx="1388880" cy="560160"/>
              <a:chOff x="5425920" y="2691000"/>
              <a:chExt cx="1388880" cy="560160"/>
            </a:xfrm>
          </p:grpSpPr>
          <p:sp>
            <p:nvSpPr>
              <p:cNvPr id="109" name=""/>
              <p:cNvSpPr/>
              <p:nvPr/>
            </p:nvSpPr>
            <p:spPr>
              <a:xfrm>
                <a:off x="5425920" y="2691000"/>
                <a:ext cx="1388880" cy="560160"/>
              </a:xfrm>
              <a:prstGeom prst="rect">
                <a:avLst/>
              </a:prstGeom>
              <a:noFill/>
              <a:ln w="28440">
                <a:solidFill>
                  <a:srgbClr val="0148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65160" y="2732040"/>
                <a:ext cx="131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408"/>
                    </a:solidFill>
                    <a:latin typeface="Arial"/>
                    <a:ea typeface="Arial"/>
                  </a:rPr>
                  <a:t>Model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492200" y="2959200"/>
              <a:ext cx="6270120" cy="1208520"/>
              <a:chOff x="1492200" y="2959200"/>
              <a:chExt cx="6270120" cy="1208520"/>
            </a:xfrm>
          </p:grpSpPr>
          <p:sp>
            <p:nvSpPr>
              <p:cNvPr id="112" name=""/>
              <p:cNvSpPr/>
              <p:nvPr/>
            </p:nvSpPr>
            <p:spPr>
              <a:xfrm>
                <a:off x="6811920" y="2972880"/>
                <a:ext cx="950400" cy="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87200" y="2976840"/>
                <a:ext cx="735120" cy="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88760" y="2964960"/>
                <a:ext cx="735480" cy="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325640" y="2982600"/>
                <a:ext cx="0" cy="118512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475000" y="4160520"/>
                <a:ext cx="4838760" cy="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465640" y="3126600"/>
                <a:ext cx="0" cy="104112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92200" y="2959200"/>
                <a:ext cx="804240" cy="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311200" y="2780280"/>
              <a:ext cx="291960" cy="322200"/>
              <a:chOff x="2311200" y="2780280"/>
              <a:chExt cx="291960" cy="322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311200" y="2780280"/>
                <a:ext cx="291960" cy="322200"/>
              </a:xfrm>
              <a:prstGeom prst="ellipse">
                <a:avLst/>
              </a:prstGeom>
              <a:noFill/>
              <a:ln w="28440">
                <a:solidFill>
                  <a:srgbClr val="0148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384640" y="2827440"/>
                <a:ext cx="157680" cy="23796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32080" y="2868840"/>
                <a:ext cx="255960" cy="159120"/>
              </a:xfrm>
              <a:prstGeom prst="line">
                <a:avLst/>
              </a:prstGeom>
              <a:ln w="28440">
                <a:solidFill>
                  <a:srgbClr val="0148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4782960" y="295452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U</a:t>
              </a:r>
              <a:endParaRPr b="0" lang="en-US" sz="1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59040" y="28425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408"/>
                  </a:solidFill>
                  <a:latin typeface="Symbol"/>
                  <a:ea typeface="Symbol"/>
                </a:rPr>
                <a:t>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62080" y="26193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57200" y="292752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408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281560" y="1822320"/>
            <a:ext cx="1655280" cy="853200"/>
            <a:chOff x="5281560" y="1822320"/>
            <a:chExt cx="1655280" cy="853200"/>
          </a:xfrm>
        </p:grpSpPr>
        <p:sp>
          <p:nvSpPr>
            <p:cNvPr id="128" name=""/>
            <p:cNvSpPr/>
            <p:nvPr/>
          </p:nvSpPr>
          <p:spPr>
            <a:xfrm>
              <a:off x="5281560" y="1822320"/>
              <a:ext cx="165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408"/>
                  </a:solidFill>
                  <a:latin typeface="Arial"/>
                  <a:ea typeface="Times New Roman"/>
                </a:rPr>
                <a:t>uncertainties</a:t>
              </a:r>
              <a:endParaRPr b="0" lang="en-US" sz="20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536800" y="2177640"/>
              <a:ext cx="1103040" cy="497880"/>
              <a:chOff x="5536800" y="2177640"/>
              <a:chExt cx="1103040" cy="497880"/>
            </a:xfrm>
          </p:grpSpPr>
          <p:sp>
            <p:nvSpPr>
              <p:cNvPr id="130" name=""/>
              <p:cNvSpPr/>
              <p:nvPr/>
            </p:nvSpPr>
            <p:spPr>
              <a:xfrm rot="5400000">
                <a:off x="5987520" y="1726920"/>
                <a:ext cx="201600" cy="1103040"/>
              </a:xfrm>
              <a:custGeom>
                <a:avLst/>
                <a:gdLst>
                  <a:gd name="textAreaLeft" fmla="*/ 128880 w 201600"/>
                  <a:gd name="textAreaRight" fmla="*/ 201960 w 201600"/>
                  <a:gd name="textAreaTop" fmla="*/ 28440 h 1103040"/>
                  <a:gd name="textAreaBottom" fmla="*/ 1074600 h 1103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8875"/>
                    </a:lnTo>
                    <a:cubicBezTo>
                      <a:pt x="10800" y="9775"/>
                      <a:pt x="5400" y="10675"/>
                      <a:pt x="0" y="10675"/>
                    </a:cubicBezTo>
                    <a:cubicBezTo>
                      <a:pt x="5400" y="10675"/>
                      <a:pt x="10800" y="11575"/>
                      <a:pt x="10800" y="1247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5600880" y="2328120"/>
                <a:ext cx="994320" cy="347400"/>
                <a:chOff x="5600880" y="2328120"/>
                <a:chExt cx="994320" cy="3474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600880" y="2328120"/>
                  <a:ext cx="0" cy="3445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911560" y="2332440"/>
                  <a:ext cx="0" cy="343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222600" y="2332440"/>
                  <a:ext cx="0" cy="343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595200" y="2328120"/>
                  <a:ext cx="0" cy="3445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6" name=""/>
          <p:cNvSpPr/>
          <p:nvPr/>
        </p:nvSpPr>
        <p:spPr>
          <a:xfrm>
            <a:off x="1692360" y="874800"/>
            <a:ext cx="626436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Control of parametric uncertain system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04000" y="1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1- Introduction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50920" y="4941720"/>
            <a:ext cx="5270400" cy="882720"/>
            <a:chOff x="2050920" y="4941720"/>
            <a:chExt cx="5270400" cy="882720"/>
          </a:xfrm>
        </p:grpSpPr>
        <p:sp>
          <p:nvSpPr>
            <p:cNvPr id="139" name=""/>
            <p:cNvSpPr/>
            <p:nvPr/>
          </p:nvSpPr>
          <p:spPr>
            <a:xfrm>
              <a:off x="2050920" y="5074920"/>
              <a:ext cx="194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hieve robust performances</a:t>
              </a: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5086080"/>
              <a:ext cx="1008000" cy="603360"/>
            </a:xfrm>
            <a:prstGeom prst="rightArrow">
              <a:avLst>
                <a:gd name="adj1" fmla="val 50000"/>
                <a:gd name="adj2" fmla="val 41766"/>
              </a:avLst>
            </a:prstGeom>
            <a:solidFill>
              <a:srgbClr val="ce8018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964040" y="4941720"/>
              <a:ext cx="2357280" cy="882720"/>
              <a:chOff x="4964040" y="4941720"/>
              <a:chExt cx="2357280" cy="882720"/>
            </a:xfrm>
          </p:grpSpPr>
          <p:sp>
            <p:nvSpPr>
              <p:cNvPr id="142" name=""/>
              <p:cNvSpPr/>
              <p:nvPr/>
            </p:nvSpPr>
            <p:spPr>
              <a:xfrm>
                <a:off x="4964040" y="4941720"/>
                <a:ext cx="235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osed-loop control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36120" y="5456160"/>
                <a:ext cx="201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bust controller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21280" y="5184720"/>
                <a:ext cx="43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EEE2-3497-46AA-872B-0DAC642BAC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68360" y="21463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obust controller: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ler that takes into account the uncertainties during the synthesis and ensures the stability and the performances for the closed-loop.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907920"/>
            <a:ext cx="5040360" cy="5270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Definitions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351792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obust stability: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bility of the closed-loop obtained by a robust controller despite of uncertainties.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8038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obust performances: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rformances of the closed-loop ensured by a robust controller in presence of uncertainties.</a:t>
            </a:r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89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1- Introduction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631A-E04C-41FA-BC0F-E6AB0C3250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4360" y="197316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ust control approaches for (parametric) uncertain system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A posteriori performances analysis 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Example with the control of piezoelectric cantilevers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593fd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d9d9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d1d1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AC23-43A9-4C4E-8637-ECAA1A2AE7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067280" y="-27000"/>
            <a:ext cx="561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2- Robust control approaches for parametric uncertain systems 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836640"/>
            <a:ext cx="3359160" cy="649440"/>
          </a:xfrm>
          <a:prstGeom prst="roundRect">
            <a:avLst>
              <a:gd name="adj" fmla="val 16667"/>
            </a:avLst>
          </a:prstGeom>
          <a:solidFill>
            <a:srgbClr val="0593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</a:t>
            </a:r>
            <a:r>
              <a:rPr b="1" i="1" lang="en-US" sz="2400" spc="-1" strike="noStrike" baseline="-25000">
                <a:solidFill>
                  <a:srgbClr val="f8f8f8"/>
                </a:solidFill>
                <a:latin typeface="Times New Roman"/>
                <a:ea typeface="Arial"/>
              </a:rPr>
              <a:t>∞</a:t>
            </a:r>
            <a:r>
              <a:rPr b="1" i="1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  <a:ea typeface="Arial"/>
              </a:rPr>
              <a:t>approach</a:t>
            </a:r>
            <a:endParaRPr b="0" lang="en-US" sz="24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116000" y="3467160"/>
            <a:ext cx="4483080" cy="2698200"/>
            <a:chOff x="1116000" y="3467160"/>
            <a:chExt cx="4483080" cy="2698200"/>
          </a:xfrm>
        </p:grpSpPr>
        <p:grpSp>
          <p:nvGrpSpPr>
            <p:cNvPr id="154" name=""/>
            <p:cNvGrpSpPr/>
            <p:nvPr/>
          </p:nvGrpSpPr>
          <p:grpSpPr>
            <a:xfrm>
              <a:off x="1116000" y="3467160"/>
              <a:ext cx="4483080" cy="2025360"/>
              <a:chOff x="1116000" y="3467160"/>
              <a:chExt cx="4483080" cy="20253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1836000" y="4065480"/>
                <a:ext cx="2592720" cy="1427040"/>
                <a:chOff x="1836000" y="4065480"/>
                <a:chExt cx="2592720" cy="14270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124000" y="5124240"/>
                  <a:ext cx="2089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408"/>
                      </a:solidFill>
                      <a:latin typeface="Arial"/>
                      <a:ea typeface="Times New Roman"/>
                    </a:rPr>
                    <a:t> </a:t>
                  </a:r>
                  <a:r>
                    <a:rPr b="0" lang="en-US" sz="1600" spc="-1" strike="noStrike">
                      <a:solidFill>
                        <a:srgbClr val="000408"/>
                      </a:solidFill>
                      <a:latin typeface="Arial"/>
                      <a:ea typeface="Times New Roman"/>
                    </a:rPr>
                    <a:t>robust controller</a:t>
                  </a:r>
                  <a:endParaRPr b="0" lang="en-US" sz="16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836000" y="4065480"/>
                  <a:ext cx="2592720" cy="1009440"/>
                  <a:chOff x="1836000" y="4065480"/>
                  <a:chExt cx="2592720" cy="10094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3840480" y="4066560"/>
                    <a:ext cx="588240" cy="0"/>
                  </a:xfrm>
                  <a:prstGeom prst="line">
                    <a:avLst/>
                  </a:prstGeom>
                  <a:ln w="28440">
                    <a:solidFill>
                      <a:srgbClr val="0004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1836000" y="4065480"/>
                    <a:ext cx="2582640" cy="1009440"/>
                    <a:chOff x="1836000" y="4065480"/>
                    <a:chExt cx="2582640" cy="10094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36480" y="4454280"/>
                      <a:ext cx="1247400" cy="62064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4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flipH="1">
                      <a:off x="3683520" y="4765320"/>
                      <a:ext cx="734760" cy="0"/>
                    </a:xfrm>
                    <a:prstGeom prst="line">
                      <a:avLst/>
                    </a:prstGeom>
                    <a:ln w="28440">
                      <a:solidFill>
                        <a:srgbClr val="000408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 flipV="1">
                      <a:off x="4418640" y="4065480"/>
                      <a:ext cx="0" cy="706320"/>
                    </a:xfrm>
                    <a:prstGeom prst="line">
                      <a:avLst/>
                    </a:prstGeom>
                    <a:ln w="28440">
                      <a:solidFill>
                        <a:srgbClr val="0004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849680" y="4765320"/>
                      <a:ext cx="586440" cy="0"/>
                    </a:xfrm>
                    <a:prstGeom prst="line">
                      <a:avLst/>
                    </a:prstGeom>
                    <a:ln w="28440">
                      <a:solidFill>
                        <a:srgbClr val="0004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flipV="1">
                      <a:off x="1849680" y="4065480"/>
                      <a:ext cx="0" cy="706320"/>
                    </a:xfrm>
                    <a:prstGeom prst="line">
                      <a:avLst/>
                    </a:prstGeom>
                    <a:ln w="28440">
                      <a:solidFill>
                        <a:srgbClr val="00040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1836000" y="4078080"/>
                      <a:ext cx="439560" cy="0"/>
                    </a:xfrm>
                    <a:prstGeom prst="line">
                      <a:avLst/>
                    </a:prstGeom>
                    <a:ln w="28440">
                      <a:solidFill>
                        <a:srgbClr val="000408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765880" y="4582800"/>
                      <a:ext cx="6591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408"/>
                          </a:solidFill>
                          <a:latin typeface="Arial"/>
                          <a:ea typeface="Arial"/>
                        </a:rPr>
                        <a:t>K(s)</a:t>
                      </a:r>
                      <a:endParaRPr b="0" lang="en-US" sz="1800" spc="-1" strike="noStrike">
                        <a:solidFill>
                          <a:srgbClr val="01488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1116000" y="3467160"/>
                <a:ext cx="4483080" cy="757080"/>
                <a:chOff x="1116000" y="3467160"/>
                <a:chExt cx="4483080" cy="757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422600" y="3794040"/>
                  <a:ext cx="1176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put</a:t>
                  </a:r>
                  <a:endParaRPr b="0" lang="en-US" sz="1800" spc="-1" strike="noStrike">
                    <a:solidFill>
                      <a:srgbClr val="01488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1116000" y="3467160"/>
                  <a:ext cx="3825720" cy="757080"/>
                  <a:chOff x="1116000" y="3467160"/>
                  <a:chExt cx="3825720" cy="7570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2263680" y="3467160"/>
                    <a:ext cx="1566720" cy="757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4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163520" y="3850920"/>
                    <a:ext cx="1116000" cy="0"/>
                  </a:xfrm>
                  <a:prstGeom prst="line">
                    <a:avLst/>
                  </a:prstGeom>
                  <a:ln w="28440">
                    <a:solidFill>
                      <a:srgbClr val="000408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825720" y="3838320"/>
                    <a:ext cx="1116000" cy="0"/>
                  </a:xfrm>
                  <a:prstGeom prst="line">
                    <a:avLst/>
                  </a:prstGeom>
                  <a:ln w="28440">
                    <a:solidFill>
                      <a:srgbClr val="000408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2234880" y="3646440"/>
                    <a:ext cx="1648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408"/>
                        </a:solidFill>
                        <a:latin typeface="Arial"/>
                        <a:ea typeface="Arial"/>
                      </a:rPr>
                      <a:t>sy</a:t>
                    </a:r>
                    <a:r>
                      <a:rPr b="0" lang="fr-FR" sz="1800" spc="-1" strike="noStrike">
                        <a:solidFill>
                          <a:srgbClr val="000408"/>
                        </a:solidFill>
                        <a:latin typeface="Arial"/>
                        <a:ea typeface="Arial"/>
                      </a:rPr>
                      <a:t>stem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116000" y="3825720"/>
                    <a:ext cx="1176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put</a:t>
                    </a:r>
                    <a:endParaRPr b="0" lang="en-US" sz="1800" spc="-1" strike="noStrike">
                      <a:solidFill>
                        <a:srgbClr val="01488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5" name=""/>
            <p:cNvSpPr/>
            <p:nvPr/>
          </p:nvSpPr>
          <p:spPr>
            <a:xfrm>
              <a:off x="1476360" y="5798880"/>
              <a:ext cx="3384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843200" y="2193840"/>
            <a:ext cx="2592000" cy="1440720"/>
            <a:chOff x="1843200" y="2193840"/>
            <a:chExt cx="2592000" cy="1440720"/>
          </a:xfrm>
        </p:grpSpPr>
        <p:grpSp>
          <p:nvGrpSpPr>
            <p:cNvPr id="177" name=""/>
            <p:cNvGrpSpPr/>
            <p:nvPr/>
          </p:nvGrpSpPr>
          <p:grpSpPr>
            <a:xfrm>
              <a:off x="1843200" y="2614680"/>
              <a:ext cx="2592000" cy="1019880"/>
              <a:chOff x="1843200" y="2614680"/>
              <a:chExt cx="2592000" cy="1019880"/>
            </a:xfrm>
          </p:grpSpPr>
          <p:sp>
            <p:nvSpPr>
              <p:cNvPr id="178" name=""/>
              <p:cNvSpPr/>
              <p:nvPr/>
            </p:nvSpPr>
            <p:spPr>
              <a:xfrm>
                <a:off x="2432520" y="2614680"/>
                <a:ext cx="1252800" cy="620640"/>
              </a:xfrm>
              <a:prstGeom prst="rect">
                <a:avLst/>
              </a:prstGeom>
              <a:noFill/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32920" y="3617640"/>
                <a:ext cx="59076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4423680" y="2930040"/>
                <a:ext cx="0" cy="70452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698640" y="2930400"/>
                <a:ext cx="73656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3200" y="2930400"/>
                <a:ext cx="58932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843200" y="3617640"/>
                <a:ext cx="442080" cy="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843200" y="2920680"/>
                <a:ext cx="0" cy="706320"/>
              </a:xfrm>
              <a:prstGeom prst="line">
                <a:avLst/>
              </a:prstGeom>
              <a:ln w="28440">
                <a:solidFill>
                  <a:srgbClr val="0004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51840" y="2747880"/>
                <a:ext cx="66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408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000408"/>
                    </a:solidFill>
                    <a:latin typeface="Arial"/>
                    <a:ea typeface="Arial"/>
                  </a:rPr>
                  <a:t>(s)</a:t>
                </a:r>
                <a:endParaRPr b="0" lang="en-US" sz="18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1947600" y="2193840"/>
              <a:ext cx="21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408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408"/>
                  </a:solidFill>
                  <a:latin typeface="Arial"/>
                  <a:ea typeface="Arial"/>
                </a:rPr>
                <a:t>uncertainties matrix</a:t>
              </a:r>
              <a:endParaRPr b="0" lang="en-US" sz="16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rot="5400000">
            <a:off x="6624000" y="1088640"/>
            <a:ext cx="432000" cy="505080"/>
          </a:xfrm>
          <a:custGeom>
            <a:avLst/>
            <a:gdLst>
              <a:gd name="textAreaLeft" fmla="*/ 0 w 432000"/>
              <a:gd name="textAreaRight" fmla="*/ 432360 w 432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9999"/>
              </a:gs>
              <a:gs pos="100000">
                <a:srgbClr val="0593f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1488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336560" y="3753360"/>
            <a:ext cx="4790160" cy="2815560"/>
            <a:chOff x="4336560" y="3753360"/>
            <a:chExt cx="4790160" cy="2815560"/>
          </a:xfrm>
        </p:grpSpPr>
        <p:sp>
          <p:nvSpPr>
            <p:cNvPr id="189" name=""/>
            <p:cNvSpPr/>
            <p:nvPr/>
          </p:nvSpPr>
          <p:spPr>
            <a:xfrm rot="275400">
              <a:off x="4427280" y="3933720"/>
              <a:ext cx="4608360" cy="24544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148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488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788000" y="4749840"/>
              <a:ext cx="3636720" cy="712080"/>
              <a:chOff x="4788000" y="4749840"/>
              <a:chExt cx="3636720" cy="712080"/>
            </a:xfrm>
          </p:grpSpPr>
          <p:sp>
            <p:nvSpPr>
              <p:cNvPr id="191" name=""/>
              <p:cNvSpPr/>
              <p:nvPr/>
            </p:nvSpPr>
            <p:spPr>
              <a:xfrm>
                <a:off x="4788000" y="5108760"/>
                <a:ext cx="36367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- Implementation difficulties</a:t>
                </a:r>
                <a:endParaRPr b="0" lang="en-US" sz="17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54640" y="4749840"/>
                <a:ext cx="24026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- Complex controllers</a:t>
                </a:r>
                <a:endParaRPr b="0" lang="en-US" sz="1700" spc="-1" strike="noStrike">
                  <a:solidFill>
                    <a:srgbClr val="01488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6075360" y="1585800"/>
            <a:ext cx="2313000" cy="1843200"/>
            <a:chOff x="6075360" y="1585800"/>
            <a:chExt cx="2313000" cy="1843200"/>
          </a:xfrm>
        </p:grpSpPr>
        <p:sp>
          <p:nvSpPr>
            <p:cNvPr id="194" name=""/>
            <p:cNvSpPr/>
            <p:nvPr/>
          </p:nvSpPr>
          <p:spPr>
            <a:xfrm>
              <a:off x="6080760" y="2974680"/>
              <a:ext cx="2301840" cy="4543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Arial"/>
                </a:rPr>
                <a:t> </a:t>
              </a:r>
              <a:r>
                <a:rPr b="1" i="1" lang="en-US" sz="2400" spc="-1" strike="noStrike">
                  <a:solidFill>
                    <a:srgbClr val="f8f8f8"/>
                  </a:solidFill>
                  <a:latin typeface="Times New Roman"/>
                  <a:ea typeface="Arial"/>
                </a:rPr>
                <a:t>µ-synthesis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78600" y="2047680"/>
              <a:ext cx="2284920" cy="453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8f8f8"/>
                  </a:solidFill>
                  <a:latin typeface="Times New Roman"/>
                  <a:ea typeface="Arial"/>
                </a:rPr>
                <a:t>H</a:t>
              </a:r>
              <a:r>
                <a:rPr b="1" i="1" lang="en-US" sz="2400" spc="-1" strike="noStrike" baseline="-25000">
                  <a:solidFill>
                    <a:srgbClr val="f8f8f8"/>
                  </a:solidFill>
                  <a:latin typeface="Times New Roman"/>
                  <a:ea typeface="Arial"/>
                </a:rPr>
                <a:t>∞</a:t>
              </a:r>
              <a:r>
                <a:rPr b="1" i="1" lang="en-US" sz="2400" spc="-1" strike="noStrike">
                  <a:solidFill>
                    <a:srgbClr val="f8f8f8"/>
                  </a:solidFill>
                  <a:latin typeface="Times New Roman"/>
                  <a:ea typeface="Arial"/>
                </a:rPr>
                <a:t>-loopshaping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86520" y="2508120"/>
              <a:ext cx="2301840" cy="453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8f8f8"/>
                  </a:solidFill>
                  <a:latin typeface="Times New Roman"/>
                  <a:ea typeface="Arial"/>
                </a:rPr>
                <a:t>H</a:t>
              </a:r>
              <a:r>
                <a:rPr b="1" i="1" lang="en-US" sz="2400" spc="-1" strike="noStrike" baseline="-25000">
                  <a:solidFill>
                    <a:srgbClr val="f8f8f8"/>
                  </a:solidFill>
                  <a:latin typeface="Times New Roman"/>
                  <a:ea typeface="Arial"/>
                </a:rPr>
                <a:t>∞</a:t>
              </a: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Arial"/>
                </a:rPr>
                <a:t>-LPV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75360" y="1585800"/>
              <a:ext cx="2284920" cy="4539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8f8f8"/>
                  </a:solidFill>
                  <a:latin typeface="Times New Roman"/>
                  <a:ea typeface="Arial"/>
                </a:rPr>
                <a:t>H</a:t>
              </a:r>
              <a:r>
                <a:rPr b="1" i="1" lang="en-US" sz="2400" spc="-1" strike="noStrike" baseline="-25000">
                  <a:solidFill>
                    <a:srgbClr val="f8f8f8"/>
                  </a:solidFill>
                  <a:latin typeface="Times New Roman"/>
                  <a:ea typeface="Arial"/>
                </a:rPr>
                <a:t>∞  </a:t>
              </a:r>
              <a:r>
                <a:rPr b="1" lang="en-US" sz="2400" spc="-1" strike="noStrike">
                  <a:solidFill>
                    <a:srgbClr val="f8f8f8"/>
                  </a:solidFill>
                  <a:latin typeface="Arial"/>
                  <a:ea typeface="Arial"/>
                </a:rPr>
                <a:t>standard</a:t>
              </a:r>
              <a:endParaRPr b="0" lang="en-US" sz="2400" spc="-1" strike="noStrike">
                <a:solidFill>
                  <a:srgbClr val="01488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1690-DBBB-4539-B3B4-75743E4DC9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4:32:02Z</dcterms:created>
  <dc:creator>Pascal LAFON</dc:creator>
  <dc:description/>
  <dc:language>en-US</dc:language>
  <cp:lastModifiedBy>Marinador</cp:lastModifiedBy>
  <dcterms:modified xsi:type="dcterms:W3CDTF">2010-12-09T13:07:46Z</dcterms:modified>
  <cp:revision>880</cp:revision>
  <dc:subject/>
  <dc:title>Diapositive 1</dc:title>
</cp:coreProperties>
</file>