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919B-50D7-48CA-AB5D-DB1096F3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C9E-CE67-411D-9829-C4D99174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94B-E2CE-4E5A-AE2F-78A8D0F6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C57-59E3-49F5-9A16-A6A520FE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0B1D-4A75-41A6-BAD1-33162F08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E02F-E5A8-4835-AA6A-E2A7EA98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EA87-373F-4FA8-9809-4C8818A5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E6D0-E189-4868-92B6-DDC17E52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C09A-3A45-4693-89C5-A491023B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557F-D6BA-4630-B37E-299ED88D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53D1-93E8-44EA-B6EF-942622B1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2FB4-FCD5-4945-8928-CCEA5B41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24BD-AC7D-4AC5-ADA5-479433E3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DED0-5BCD-48B2-A3AE-77B2E298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C14C-CD5B-4250-923E-8150BA6B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79E8-407D-42B2-9002-F6152AE7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5BAB-6996-45A1-A2F7-113FEC82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61D-9FD3-4481-ACEA-DC5F8919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8C29-EAFD-4A4D-8552-165982AB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009-9E9C-44DB-B543-FD2B9C04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6B2E-63CB-4E83-A7F9-7A7827A6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A6F-5BD8-4CB4-BA2B-14F448C0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483-CD6F-4545-9466-0C922A11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448-434D-4B24-9621-57AF3821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8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8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8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8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8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8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0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08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08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8902-484B-4C95-B0AF-B5B496418175}" type="slidenum"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7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0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508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508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4C9D-2F93-41C9-8163-9FD74297F8EE}" type="slidenum"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8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08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508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508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508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508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508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08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508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8930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0000"/>
                </a:solidFill>
                <a:latin typeface="Arial"/>
              </a:rPr>
              <a:t>Sur le problème de la stabilité de Lyapunov des systèmes discrets non-linéaires non-stationnaires dans le cadre des ensembles asymptotiquement contractifs.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086"/>
                </a:solidFill>
                <a:latin typeface="Arial"/>
              </a:rPr>
              <a:t>Bouyekhf Rachid-Lyuboumir Gruitch</a:t>
            </a:r>
            <a:endParaRPr b="0" lang="en-US" sz="2800" spc="-1" strike="noStrike">
              <a:solidFill>
                <a:srgbClr val="00508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086"/>
                </a:solidFill>
                <a:latin typeface="Arial"/>
              </a:rPr>
              <a:t>Laboratoire SeT</a:t>
            </a:r>
            <a:endParaRPr b="0" lang="en-US" sz="2800" spc="-1" strike="noStrike">
              <a:solidFill>
                <a:srgbClr val="00508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086"/>
                </a:solidFill>
                <a:latin typeface="Arial"/>
              </a:rPr>
              <a:t>UTBM</a:t>
            </a:r>
            <a:endParaRPr b="0" lang="en-US" sz="2800" spc="-1" strike="noStrike">
              <a:solidFill>
                <a:srgbClr val="00508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208680" y="0"/>
            <a:ext cx="2893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086"/>
                </a:solidFill>
                <a:latin typeface="Arial"/>
              </a:rPr>
              <a:t>Principe : Critère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4720" y="54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5086"/>
                </a:solidFill>
                <a:latin typeface="Arial"/>
              </a:rPr>
              <a:t>On choisit une fonction définie positive</a:t>
            </a:r>
            <a:r>
              <a:rPr b="0" lang="fr-FR" sz="1800" spc="-1" strike="noStrike">
                <a:solidFill>
                  <a:srgbClr val="005086"/>
                </a:solidFill>
                <a:latin typeface="Arial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k,x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fr-FR" sz="1800" spc="-1" strike="noStrike">
                <a:solidFill>
                  <a:srgbClr val="00508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5086"/>
                </a:solidFill>
                <a:latin typeface="Arial"/>
              </a:rPr>
              <a:t>et on calcule</a:t>
            </a:r>
            <a:r>
              <a:rPr b="0" lang="fr-FR" sz="1800" spc="-1" strike="noStrike">
                <a:solidFill>
                  <a:srgbClr val="005086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,x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fr-FR" sz="1800" spc="-1" strike="noStrike">
                <a:solidFill>
                  <a:srgbClr val="00508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07600" y="1341360"/>
            <a:ext cx="6801120" cy="658800"/>
            <a:chOff x="507600" y="1341360"/>
            <a:chExt cx="6801120" cy="658800"/>
          </a:xfrm>
        </p:grpSpPr>
        <p:sp>
          <p:nvSpPr>
            <p:cNvPr id="398" name=""/>
            <p:cNvSpPr/>
            <p:nvPr/>
          </p:nvSpPr>
          <p:spPr>
            <a:xfrm>
              <a:off x="507600" y="1362240"/>
              <a:ext cx="518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5086"/>
                  </a:solidFill>
                  <a:latin typeface="Arial"/>
                </a:rPr>
                <a:t>Si</a:t>
              </a: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 </a:t>
              </a: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Δ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</a:rPr>
                <a:t>k,x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fr-FR" sz="1800" spc="-1" strike="noStrike">
                  <a:solidFill>
                    <a:srgbClr val="005086"/>
                  </a:solidFill>
                  <a:latin typeface="Times New Roman"/>
                </a:rPr>
                <a:t> 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≤</a:t>
              </a: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0</a:t>
              </a:r>
              <a:r>
                <a:rPr b="1" lang="fr-FR" sz="2000" spc="-1" strike="noStrike">
                  <a:solidFill>
                    <a:srgbClr val="005086"/>
                  </a:solidFill>
                  <a:latin typeface="Times New Roman"/>
                  <a:ea typeface="Arial"/>
                </a:rPr>
                <a:t> </a:t>
              </a:r>
              <a:r>
                <a:rPr b="1" lang="fr-FR" sz="2000" spc="-1" strike="noStrike">
                  <a:solidFill>
                    <a:srgbClr val="005086"/>
                  </a:solidFill>
                  <a:latin typeface="Arial"/>
                  <a:ea typeface="Arial"/>
                </a:rPr>
                <a:t>dans un ensemble</a:t>
              </a:r>
              <a:r>
                <a:rPr b="1" lang="fr-FR" sz="2000" spc="-1" strike="noStrike">
                  <a:solidFill>
                    <a:srgbClr val="005086"/>
                  </a:solidFill>
                  <a:latin typeface="Times New Roman"/>
                  <a:ea typeface="Arial"/>
                </a:rPr>
                <a:t>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 </a:t>
              </a:r>
              <a:r>
                <a:rPr b="1" lang="fr-FR" sz="1800" spc="-1" strike="noStrike">
                  <a:solidFill>
                    <a:srgbClr val="005996"/>
                  </a:solidFill>
                  <a:latin typeface="Arial"/>
                  <a:ea typeface="Arial"/>
                </a:rPr>
                <a:t>et s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5602320" y="1341360"/>
                  <a:ext cx="170640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k</m:t>
                          </m:r>
                          <m:r>
                            <m:t xml:space="preserve">→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lim>
                      </m:limLow>
                      <m:r>
                        <m:t xml:space="preserve"> </m:t>
                      </m:r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0" name=""/>
          <p:cNvSpPr/>
          <p:nvPr/>
        </p:nvSpPr>
        <p:spPr>
          <a:xfrm>
            <a:off x="539640" y="2276640"/>
            <a:ext cx="62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5086"/>
                </a:solidFill>
                <a:latin typeface="Arial"/>
              </a:rPr>
              <a:t>On construit alors la fonction frontière</a:t>
            </a:r>
            <a:r>
              <a:rPr b="0" lang="fr-FR" sz="1800" spc="-1" strike="noStrike">
                <a:solidFill>
                  <a:srgbClr val="005086"/>
                </a:solidFill>
                <a:latin typeface="Arial"/>
              </a:rPr>
              <a:t> 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ω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k,x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fr-FR" sz="1800" spc="-1" strike="noStrike">
                <a:solidFill>
                  <a:srgbClr val="00508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5086"/>
                </a:solidFill>
                <a:latin typeface="Arial"/>
              </a:rPr>
              <a:t>de</a:t>
            </a:r>
            <a:r>
              <a:rPr b="0" lang="fr-FR" sz="1800" spc="-1" strike="noStrike">
                <a:solidFill>
                  <a:srgbClr val="005086"/>
                </a:solidFill>
                <a:latin typeface="Arial"/>
              </a:rPr>
              <a:t>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8920" y="4622760"/>
            <a:ext cx="6553080" cy="0"/>
          </a:xfrm>
          <a:prstGeom prst="line">
            <a:avLst/>
          </a:prstGeom>
          <a:ln w="9360">
            <a:solidFill>
              <a:srgbClr val="0050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24720" y="4546440"/>
            <a:ext cx="71640" cy="144720"/>
          </a:xfrm>
          <a:prstGeom prst="ellipse">
            <a:avLst/>
          </a:prstGeom>
          <a:noFill/>
          <a:ln w="93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551560" y="4309920"/>
            <a:ext cx="244440" cy="596880"/>
            <a:chOff x="5551560" y="4309920"/>
            <a:chExt cx="244440" cy="596880"/>
          </a:xfrm>
        </p:grpSpPr>
        <p:sp>
          <p:nvSpPr>
            <p:cNvPr id="404" name=""/>
            <p:cNvSpPr/>
            <p:nvPr/>
          </p:nvSpPr>
          <p:spPr>
            <a:xfrm>
              <a:off x="5551560" y="4309920"/>
              <a:ext cx="244440" cy="596880"/>
            </a:xfrm>
            <a:prstGeom prst="ellipse">
              <a:avLst/>
            </a:prstGeom>
            <a:noFill/>
            <a:ln w="1908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98800" y="4607640"/>
              <a:ext cx="0" cy="60480"/>
            </a:xfrm>
            <a:prstGeom prst="line">
              <a:avLst/>
            </a:prstGeom>
            <a:ln w="1908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443640" y="4381560"/>
            <a:ext cx="144360" cy="433440"/>
            <a:chOff x="6443640" y="4381560"/>
            <a:chExt cx="144360" cy="433440"/>
          </a:xfrm>
        </p:grpSpPr>
        <p:sp>
          <p:nvSpPr>
            <p:cNvPr id="407" name=""/>
            <p:cNvSpPr/>
            <p:nvPr/>
          </p:nvSpPr>
          <p:spPr>
            <a:xfrm>
              <a:off x="6443640" y="4381560"/>
              <a:ext cx="144360" cy="433440"/>
            </a:xfrm>
            <a:prstGeom prst="ellipse">
              <a:avLst/>
            </a:prstGeom>
            <a:noFill/>
            <a:ln w="1584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16360" y="4597560"/>
              <a:ext cx="0" cy="73080"/>
            </a:xfrm>
            <a:prstGeom prst="line">
              <a:avLst/>
            </a:prstGeom>
            <a:ln w="1584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020000" y="4454640"/>
            <a:ext cx="144360" cy="287280"/>
            <a:chOff x="7020000" y="4454640"/>
            <a:chExt cx="144360" cy="287280"/>
          </a:xfrm>
        </p:grpSpPr>
        <p:sp>
          <p:nvSpPr>
            <p:cNvPr id="410" name=""/>
            <p:cNvSpPr/>
            <p:nvPr/>
          </p:nvSpPr>
          <p:spPr>
            <a:xfrm>
              <a:off x="7020000" y="4454640"/>
              <a:ext cx="144360" cy="287280"/>
            </a:xfrm>
            <a:prstGeom prst="ellipse">
              <a:avLst/>
            </a:prstGeom>
            <a:noFill/>
            <a:ln w="1260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92720" y="4597560"/>
              <a:ext cx="0" cy="73080"/>
            </a:xfrm>
            <a:prstGeom prst="line">
              <a:avLst/>
            </a:prstGeom>
            <a:ln w="1260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755640" y="3517920"/>
            <a:ext cx="1528920" cy="2232000"/>
            <a:chOff x="755640" y="3517920"/>
            <a:chExt cx="1528920" cy="2232000"/>
          </a:xfrm>
        </p:grpSpPr>
        <p:grpSp>
          <p:nvGrpSpPr>
            <p:cNvPr id="413" name=""/>
            <p:cNvGrpSpPr/>
            <p:nvPr/>
          </p:nvGrpSpPr>
          <p:grpSpPr>
            <a:xfrm>
              <a:off x="755640" y="3517920"/>
              <a:ext cx="1079640" cy="2232000"/>
              <a:chOff x="755640" y="3517920"/>
              <a:chExt cx="1079640" cy="2232000"/>
            </a:xfrm>
          </p:grpSpPr>
          <p:sp>
            <p:nvSpPr>
              <p:cNvPr id="414" name=""/>
              <p:cNvSpPr/>
              <p:nvPr/>
            </p:nvSpPr>
            <p:spPr>
              <a:xfrm>
                <a:off x="755640" y="3517920"/>
                <a:ext cx="1079640" cy="2232000"/>
              </a:xfrm>
              <a:prstGeom prst="ellipse">
                <a:avLst/>
              </a:prstGeom>
              <a:noFill/>
              <a:ln w="5724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15" name=""/>
                  <p:cNvSpPr txBox="1"/>
                  <p:nvPr/>
                </p:nvSpPr>
                <p:spPr>
                  <a:xfrm>
                    <a:off x="1187640" y="4670280"/>
                    <a:ext cx="29988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16" name=""/>
              <p:cNvSpPr/>
              <p:nvPr/>
            </p:nvSpPr>
            <p:spPr>
              <a:xfrm>
                <a:off x="1332000" y="4597200"/>
                <a:ext cx="0" cy="7308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 flipH="1">
              <a:off x="1619280" y="3660840"/>
              <a:ext cx="216000" cy="7128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8" name=""/>
                <p:cNvSpPr txBox="1"/>
                <p:nvPr/>
              </p:nvSpPr>
              <p:spPr>
                <a:xfrm>
                  <a:off x="1817640" y="3533760"/>
                  <a:ext cx="46692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9" name=""/>
          <p:cNvGrpSpPr/>
          <p:nvPr/>
        </p:nvGrpSpPr>
        <p:grpSpPr>
          <a:xfrm>
            <a:off x="2843280" y="3540240"/>
            <a:ext cx="1168200" cy="1834560"/>
            <a:chOff x="2843280" y="3540240"/>
            <a:chExt cx="1168200" cy="1834560"/>
          </a:xfrm>
        </p:grpSpPr>
        <p:grpSp>
          <p:nvGrpSpPr>
            <p:cNvPr id="420" name=""/>
            <p:cNvGrpSpPr/>
            <p:nvPr/>
          </p:nvGrpSpPr>
          <p:grpSpPr>
            <a:xfrm>
              <a:off x="2843280" y="3863880"/>
              <a:ext cx="792000" cy="1510920"/>
              <a:chOff x="2843280" y="3863880"/>
              <a:chExt cx="792000" cy="1510920"/>
            </a:xfrm>
          </p:grpSpPr>
          <p:sp>
            <p:nvSpPr>
              <p:cNvPr id="421" name=""/>
              <p:cNvSpPr/>
              <p:nvPr/>
            </p:nvSpPr>
            <p:spPr>
              <a:xfrm>
                <a:off x="2843280" y="3863880"/>
                <a:ext cx="792000" cy="1510920"/>
              </a:xfrm>
              <a:prstGeom prst="ellipse">
                <a:avLst/>
              </a:prstGeom>
              <a:noFill/>
              <a:ln w="381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203280" y="4582440"/>
                <a:ext cx="0" cy="7272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23" name=""/>
                  <p:cNvSpPr txBox="1"/>
                  <p:nvPr/>
                </p:nvSpPr>
                <p:spPr>
                  <a:xfrm>
                    <a:off x="3070080" y="4666680"/>
                    <a:ext cx="277560" cy="40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3564000" y="3540240"/>
                  <a:ext cx="4474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25" name=""/>
            <p:cNvSpPr/>
            <p:nvPr/>
          </p:nvSpPr>
          <p:spPr>
            <a:xfrm flipH="1">
              <a:off x="3492360" y="3827160"/>
              <a:ext cx="216000" cy="26640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264200" y="3605040"/>
            <a:ext cx="901440" cy="1517760"/>
            <a:chOff x="4264200" y="3605040"/>
            <a:chExt cx="901440" cy="1517760"/>
          </a:xfrm>
        </p:grpSpPr>
        <p:grpSp>
          <p:nvGrpSpPr>
            <p:cNvPr id="427" name=""/>
            <p:cNvGrpSpPr/>
            <p:nvPr/>
          </p:nvGrpSpPr>
          <p:grpSpPr>
            <a:xfrm>
              <a:off x="4264200" y="4114800"/>
              <a:ext cx="576000" cy="1008000"/>
              <a:chOff x="4264200" y="4114800"/>
              <a:chExt cx="576000" cy="1008000"/>
            </a:xfrm>
          </p:grpSpPr>
          <p:sp>
            <p:nvSpPr>
              <p:cNvPr id="428" name=""/>
              <p:cNvSpPr/>
              <p:nvPr/>
            </p:nvSpPr>
            <p:spPr>
              <a:xfrm>
                <a:off x="4264200" y="4114800"/>
                <a:ext cx="576000" cy="1008000"/>
              </a:xfrm>
              <a:prstGeom prst="ellipse">
                <a:avLst/>
              </a:prstGeom>
              <a:noFill/>
              <a:ln w="255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10080" y="4618080"/>
                <a:ext cx="0" cy="7308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0" name=""/>
                  <p:cNvSpPr txBox="1"/>
                  <p:nvPr/>
                </p:nvSpPr>
                <p:spPr>
                  <a:xfrm>
                    <a:off x="4365720" y="4643640"/>
                    <a:ext cx="301680" cy="40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4757760" y="3605040"/>
                  <a:ext cx="407880" cy="3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2" name=""/>
            <p:cNvSpPr/>
            <p:nvPr/>
          </p:nvSpPr>
          <p:spPr>
            <a:xfrm flipH="1">
              <a:off x="4643280" y="3898800"/>
              <a:ext cx="277920" cy="29988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16000" y="4041720"/>
                <a:ext cx="36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3021120" y="4173480"/>
                <a:ext cx="4618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376880" y="4237200"/>
                <a:ext cx="360360" cy="27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6" name=""/>
          <p:cNvGrpSpPr/>
          <p:nvPr/>
        </p:nvGrpSpPr>
        <p:grpSpPr>
          <a:xfrm>
            <a:off x="622440" y="2873520"/>
            <a:ext cx="5317920" cy="459720"/>
            <a:chOff x="622440" y="2873520"/>
            <a:chExt cx="5317920" cy="459720"/>
          </a:xfrm>
        </p:grpSpPr>
        <p:sp>
          <p:nvSpPr>
            <p:cNvPr id="437" name=""/>
            <p:cNvSpPr/>
            <p:nvPr/>
          </p:nvSpPr>
          <p:spPr>
            <a:xfrm>
              <a:off x="622440" y="2873520"/>
              <a:ext cx="376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5086"/>
                  </a:solidFill>
                  <a:latin typeface="Arial"/>
                </a:rPr>
                <a:t>Si</a:t>
              </a: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 </a:t>
              </a: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Δ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ω</a:t>
              </a: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</a:rPr>
                <a:t>k,x</a:t>
              </a: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fr-FR" sz="1800" spc="-1" strike="noStrike">
                  <a:solidFill>
                    <a:srgbClr val="005086"/>
                  </a:solidFill>
                  <a:latin typeface="Times New Roman"/>
                </a:rPr>
                <a:t> 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≤</a:t>
              </a: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0</a:t>
              </a:r>
              <a:r>
                <a:rPr b="1" lang="fr-FR" sz="2000" spc="-1" strike="noStrike">
                  <a:solidFill>
                    <a:srgbClr val="005086"/>
                  </a:solidFill>
                  <a:latin typeface="Times New Roman"/>
                  <a:ea typeface="Arial"/>
                </a:rPr>
                <a:t> </a:t>
              </a:r>
              <a:r>
                <a:rPr b="1" lang="fr-FR" sz="2000" spc="-1" strike="noStrike">
                  <a:solidFill>
                    <a:srgbClr val="005996"/>
                  </a:solidFill>
                  <a:latin typeface="Arial"/>
                  <a:ea typeface="Arial"/>
                </a:rPr>
                <a:t>dans</a:t>
              </a:r>
              <a:r>
                <a:rPr b="0" lang="fr-FR" sz="2000" spc="-1" strike="noStrike">
                  <a:solidFill>
                    <a:srgbClr val="005086"/>
                  </a:solidFill>
                  <a:latin typeface="Arial"/>
                  <a:ea typeface="Arial"/>
                </a:rPr>
                <a:t>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 </a:t>
              </a:r>
              <a:r>
                <a:rPr b="1" lang="fr-FR" sz="2000" spc="-1" strike="noStrike">
                  <a:solidFill>
                    <a:srgbClr val="005996"/>
                  </a:solidFill>
                  <a:latin typeface="Arial"/>
                  <a:ea typeface="Arial"/>
                </a:rPr>
                <a:t>alor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4305240" y="2924280"/>
                  <a:ext cx="1635120" cy="40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∈</m:t>
                      </m:r>
                      <m:r>
                        <m:t xml:space="preserve"> </m:t>
                      </m:r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9" name=""/>
          <p:cNvSpPr/>
          <p:nvPr/>
        </p:nvSpPr>
        <p:spPr>
          <a:xfrm>
            <a:off x="1251720" y="5985000"/>
            <a:ext cx="77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clusion :</a:t>
            </a:r>
            <a:r>
              <a:rPr b="1" lang="en-US" sz="2000" spc="-1" strike="noStrike">
                <a:solidFill>
                  <a:srgbClr val="005086"/>
                </a:solidFill>
                <a:latin typeface="Arial"/>
              </a:rPr>
              <a:t> Le point d’équilibre est asymptotiquement s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324000" y="5877000"/>
            <a:ext cx="502920" cy="64764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647640"/>
              <a:gd name="textAreaBottom" fmla="*/ 615240 h 647640"/>
            </a:gdLst>
            <a:ahLst/>
            <a:rect l="textAreaLeft" t="textAreaTop" r="textAreaRight" b="textAreaBottom"/>
            <a:pathLst>
              <a:path w="21600" h="27811">
                <a:moveTo>
                  <a:pt x="0" y="0"/>
                </a:moveTo>
                <a:lnTo>
                  <a:pt x="21600" y="0"/>
                </a:lnTo>
                <a:lnTo>
                  <a:pt x="21600" y="27811"/>
                </a:lnTo>
                <a:lnTo>
                  <a:pt x="0" y="27811"/>
                </a:lnTo>
                <a:close/>
              </a:path>
              <a:path fill="lightenLess" w="21600" h="278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811">
                <a:moveTo>
                  <a:pt x="21600" y="0"/>
                </a:moveTo>
                <a:lnTo>
                  <a:pt x="21600" y="27811"/>
                </a:lnTo>
                <a:lnTo>
                  <a:pt x="20200" y="26411"/>
                </a:lnTo>
                <a:lnTo>
                  <a:pt x="20200" y="1400"/>
                </a:lnTo>
                <a:close/>
              </a:path>
              <a:path fill="darkenLess" w="21600" h="27811">
                <a:moveTo>
                  <a:pt x="21600" y="27811"/>
                </a:moveTo>
                <a:lnTo>
                  <a:pt x="0" y="27811"/>
                </a:lnTo>
                <a:lnTo>
                  <a:pt x="1400" y="26411"/>
                </a:lnTo>
                <a:lnTo>
                  <a:pt x="20200" y="26411"/>
                </a:lnTo>
                <a:close/>
              </a:path>
              <a:path fill="lighten" w="21600" h="27811">
                <a:moveTo>
                  <a:pt x="0" y="278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411"/>
                </a:lnTo>
                <a:close/>
              </a:path>
              <a:path fill="darken" w="21600" h="27811">
                <a:moveTo>
                  <a:pt x="3794" y="6899"/>
                </a:moveTo>
                <a:lnTo>
                  <a:pt x="17806" y="13906"/>
                </a:lnTo>
                <a:lnTo>
                  <a:pt x="3794" y="209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C79-548D-409B-80DB-F7EDC5D5BD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992680" y="0"/>
            <a:ext cx="2893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086"/>
                </a:solidFill>
                <a:latin typeface="Arial"/>
              </a:rPr>
              <a:t>Principe : Critère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04720" y="54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5086"/>
                </a:solidFill>
                <a:latin typeface="Arial"/>
              </a:rPr>
              <a:t>On choisit une fonction définie positive</a:t>
            </a:r>
            <a:r>
              <a:rPr b="0" lang="fr-FR" sz="1800" spc="-1" strike="noStrike">
                <a:solidFill>
                  <a:srgbClr val="005086"/>
                </a:solidFill>
                <a:latin typeface="Arial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k,x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fr-FR" sz="1800" spc="-1" strike="noStrike">
                <a:solidFill>
                  <a:srgbClr val="00508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5086"/>
                </a:solidFill>
                <a:latin typeface="Arial"/>
              </a:rPr>
              <a:t>et on calcule</a:t>
            </a:r>
            <a:r>
              <a:rPr b="0" lang="fr-FR" sz="1800" spc="-1" strike="noStrike">
                <a:solidFill>
                  <a:srgbClr val="005086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,x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fr-FR" sz="1800" spc="-1" strike="noStrike">
                <a:solidFill>
                  <a:srgbClr val="00508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07600" y="1341360"/>
            <a:ext cx="6801120" cy="658800"/>
            <a:chOff x="507600" y="1341360"/>
            <a:chExt cx="6801120" cy="658800"/>
          </a:xfrm>
        </p:grpSpPr>
        <p:sp>
          <p:nvSpPr>
            <p:cNvPr id="444" name=""/>
            <p:cNvSpPr/>
            <p:nvPr/>
          </p:nvSpPr>
          <p:spPr>
            <a:xfrm>
              <a:off x="507600" y="1362240"/>
              <a:ext cx="518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5086"/>
                  </a:solidFill>
                  <a:latin typeface="Arial"/>
                </a:rPr>
                <a:t>Si</a:t>
              </a: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 </a:t>
              </a:r>
              <a:r>
                <a:rPr b="0" lang="el-G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Δ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</a:rPr>
                <a:t>k,x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fr-FR" sz="1800" spc="-1" strike="noStrike">
                  <a:solidFill>
                    <a:srgbClr val="005086"/>
                  </a:solidFill>
                  <a:latin typeface="Times New Roman"/>
                </a:rPr>
                <a:t> 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≤</a:t>
              </a: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0</a:t>
              </a:r>
              <a:r>
                <a:rPr b="1" lang="fr-FR" sz="2000" spc="-1" strike="noStrike">
                  <a:solidFill>
                    <a:srgbClr val="005086"/>
                  </a:solidFill>
                  <a:latin typeface="Times New Roman"/>
                  <a:ea typeface="Arial"/>
                </a:rPr>
                <a:t> </a:t>
              </a:r>
              <a:r>
                <a:rPr b="1" lang="fr-FR" sz="2000" spc="-1" strike="noStrike">
                  <a:solidFill>
                    <a:srgbClr val="005086"/>
                  </a:solidFill>
                  <a:latin typeface="Arial"/>
                  <a:ea typeface="Arial"/>
                </a:rPr>
                <a:t>dans un ensemble</a:t>
              </a:r>
              <a:r>
                <a:rPr b="1" lang="fr-FR" sz="2000" spc="-1" strike="noStrike">
                  <a:solidFill>
                    <a:srgbClr val="005086"/>
                  </a:solidFill>
                  <a:latin typeface="Times New Roman"/>
                  <a:ea typeface="Arial"/>
                </a:rPr>
                <a:t>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 </a:t>
              </a:r>
              <a:r>
                <a:rPr b="1" lang="fr-FR" sz="1800" spc="-1" strike="noStrike">
                  <a:solidFill>
                    <a:srgbClr val="005996"/>
                  </a:solidFill>
                  <a:latin typeface="Arial"/>
                  <a:ea typeface="Arial"/>
                </a:rPr>
                <a:t>et s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5602320" y="1341360"/>
                  <a:ext cx="170640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k</m:t>
                          </m:r>
                          <m:r>
                            <m:t xml:space="preserve">→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lim>
                      </m:limLow>
                      <m:r>
                        <m:t xml:space="preserve"> </m:t>
                      </m:r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6" name=""/>
          <p:cNvSpPr/>
          <p:nvPr/>
        </p:nvSpPr>
        <p:spPr>
          <a:xfrm>
            <a:off x="1309680" y="4102200"/>
            <a:ext cx="6553080" cy="0"/>
          </a:xfrm>
          <a:prstGeom prst="line">
            <a:avLst/>
          </a:prstGeom>
          <a:ln w="9360">
            <a:solidFill>
              <a:srgbClr val="0050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502400" y="3943440"/>
            <a:ext cx="144720" cy="288720"/>
          </a:xfrm>
          <a:prstGeom prst="ellipse">
            <a:avLst/>
          </a:prstGeom>
          <a:noFill/>
          <a:ln w="93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5610240" y="3789360"/>
            <a:ext cx="244440" cy="596880"/>
            <a:chOff x="5610240" y="3789360"/>
            <a:chExt cx="244440" cy="596880"/>
          </a:xfrm>
        </p:grpSpPr>
        <p:sp>
          <p:nvSpPr>
            <p:cNvPr id="449" name=""/>
            <p:cNvSpPr/>
            <p:nvPr/>
          </p:nvSpPr>
          <p:spPr>
            <a:xfrm>
              <a:off x="5610240" y="3789360"/>
              <a:ext cx="244440" cy="596880"/>
            </a:xfrm>
            <a:prstGeom prst="ellipse">
              <a:avLst/>
            </a:prstGeom>
            <a:noFill/>
            <a:ln w="1908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57480" y="4087080"/>
              <a:ext cx="0" cy="60480"/>
            </a:xfrm>
            <a:prstGeom prst="line">
              <a:avLst/>
            </a:prstGeom>
            <a:ln w="1908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494400" y="3860640"/>
            <a:ext cx="144360" cy="433440"/>
            <a:chOff x="6494400" y="3860640"/>
            <a:chExt cx="144360" cy="433440"/>
          </a:xfrm>
        </p:grpSpPr>
        <p:sp>
          <p:nvSpPr>
            <p:cNvPr id="452" name=""/>
            <p:cNvSpPr/>
            <p:nvPr/>
          </p:nvSpPr>
          <p:spPr>
            <a:xfrm>
              <a:off x="6494400" y="3860640"/>
              <a:ext cx="144360" cy="433440"/>
            </a:xfrm>
            <a:prstGeom prst="ellipse">
              <a:avLst/>
            </a:prstGeom>
            <a:noFill/>
            <a:ln w="1260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567120" y="4076640"/>
              <a:ext cx="0" cy="73080"/>
            </a:xfrm>
            <a:prstGeom prst="line">
              <a:avLst/>
            </a:prstGeom>
            <a:ln w="1260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7070760" y="3884760"/>
            <a:ext cx="144360" cy="381960"/>
            <a:chOff x="7070760" y="3884760"/>
            <a:chExt cx="144360" cy="381960"/>
          </a:xfrm>
        </p:grpSpPr>
        <p:sp>
          <p:nvSpPr>
            <p:cNvPr id="455" name=""/>
            <p:cNvSpPr/>
            <p:nvPr/>
          </p:nvSpPr>
          <p:spPr>
            <a:xfrm>
              <a:off x="7070760" y="3884760"/>
              <a:ext cx="144360" cy="381960"/>
            </a:xfrm>
            <a:prstGeom prst="ellipse">
              <a:avLst/>
            </a:prstGeom>
            <a:noFill/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143480" y="4074840"/>
              <a:ext cx="0" cy="97200"/>
            </a:xfrm>
            <a:prstGeom prst="line">
              <a:avLst/>
            </a:prstGeom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894040" y="3019320"/>
            <a:ext cx="1168200" cy="1835280"/>
            <a:chOff x="2894040" y="3019320"/>
            <a:chExt cx="1168200" cy="1835280"/>
          </a:xfrm>
        </p:grpSpPr>
        <p:grpSp>
          <p:nvGrpSpPr>
            <p:cNvPr id="458" name=""/>
            <p:cNvGrpSpPr/>
            <p:nvPr/>
          </p:nvGrpSpPr>
          <p:grpSpPr>
            <a:xfrm>
              <a:off x="2894040" y="3343320"/>
              <a:ext cx="792000" cy="1511280"/>
              <a:chOff x="2894040" y="3343320"/>
              <a:chExt cx="792000" cy="1511280"/>
            </a:xfrm>
          </p:grpSpPr>
          <p:sp>
            <p:nvSpPr>
              <p:cNvPr id="459" name=""/>
              <p:cNvSpPr/>
              <p:nvPr/>
            </p:nvSpPr>
            <p:spPr>
              <a:xfrm>
                <a:off x="2894040" y="3343320"/>
                <a:ext cx="792000" cy="1511280"/>
              </a:xfrm>
              <a:prstGeom prst="ellipse">
                <a:avLst/>
              </a:prstGeom>
              <a:noFill/>
              <a:ln w="381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254040" y="4062240"/>
                <a:ext cx="0" cy="7308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61" name=""/>
                  <p:cNvSpPr txBox="1"/>
                  <p:nvPr/>
                </p:nvSpPr>
                <p:spPr>
                  <a:xfrm>
                    <a:off x="3120840" y="4146480"/>
                    <a:ext cx="277560" cy="40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62" name=""/>
                <p:cNvSpPr txBox="1"/>
                <p:nvPr/>
              </p:nvSpPr>
              <p:spPr>
                <a:xfrm>
                  <a:off x="3614760" y="3019320"/>
                  <a:ext cx="44748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3" name=""/>
            <p:cNvSpPr/>
            <p:nvPr/>
          </p:nvSpPr>
          <p:spPr>
            <a:xfrm flipH="1">
              <a:off x="3543120" y="3306600"/>
              <a:ext cx="216000" cy="26676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314960" y="3084480"/>
            <a:ext cx="901440" cy="1517760"/>
            <a:chOff x="4314960" y="3084480"/>
            <a:chExt cx="901440" cy="1517760"/>
          </a:xfrm>
        </p:grpSpPr>
        <p:grpSp>
          <p:nvGrpSpPr>
            <p:cNvPr id="465" name=""/>
            <p:cNvGrpSpPr/>
            <p:nvPr/>
          </p:nvGrpSpPr>
          <p:grpSpPr>
            <a:xfrm>
              <a:off x="4314960" y="3594240"/>
              <a:ext cx="576000" cy="1008000"/>
              <a:chOff x="4314960" y="3594240"/>
              <a:chExt cx="576000" cy="1008000"/>
            </a:xfrm>
          </p:grpSpPr>
          <p:sp>
            <p:nvSpPr>
              <p:cNvPr id="466" name=""/>
              <p:cNvSpPr/>
              <p:nvPr/>
            </p:nvSpPr>
            <p:spPr>
              <a:xfrm>
                <a:off x="4314960" y="3594240"/>
                <a:ext cx="576000" cy="1008000"/>
              </a:xfrm>
              <a:prstGeom prst="ellipse">
                <a:avLst/>
              </a:prstGeom>
              <a:noFill/>
              <a:ln w="2844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60840" y="4097520"/>
                <a:ext cx="0" cy="7308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68" name=""/>
                  <p:cNvSpPr txBox="1"/>
                  <p:nvPr/>
                </p:nvSpPr>
                <p:spPr>
                  <a:xfrm>
                    <a:off x="4416480" y="4123080"/>
                    <a:ext cx="301680" cy="40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69" name=""/>
                <p:cNvSpPr txBox="1"/>
                <p:nvPr/>
              </p:nvSpPr>
              <p:spPr>
                <a:xfrm>
                  <a:off x="4808520" y="3084480"/>
                  <a:ext cx="407880" cy="3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0" name=""/>
            <p:cNvSpPr/>
            <p:nvPr/>
          </p:nvSpPr>
          <p:spPr>
            <a:xfrm flipH="1">
              <a:off x="4694040" y="3378240"/>
              <a:ext cx="277920" cy="29988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165320" y="3308400"/>
                <a:ext cx="36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071880" y="3652920"/>
                <a:ext cx="4618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4427640" y="3716280"/>
                <a:ext cx="360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4" name=""/>
          <p:cNvGrpSpPr/>
          <p:nvPr/>
        </p:nvGrpSpPr>
        <p:grpSpPr>
          <a:xfrm>
            <a:off x="396720" y="4435560"/>
            <a:ext cx="785880" cy="1157040"/>
            <a:chOff x="396720" y="4435560"/>
            <a:chExt cx="785880" cy="1157040"/>
          </a:xfrm>
        </p:grpSpPr>
        <mc:AlternateContent>
          <mc:Choice xmlns:a14="http://schemas.microsoft.com/office/drawing/2010/main" Requires="a14">
            <p:sp>
              <p:nvSpPr>
                <p:cNvPr id="475" name=""/>
                <p:cNvSpPr txBox="1"/>
                <p:nvPr/>
              </p:nvSpPr>
              <p:spPr>
                <a:xfrm>
                  <a:off x="396720" y="5052960"/>
                  <a:ext cx="78588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6" name=""/>
            <p:cNvSpPr/>
            <p:nvPr/>
          </p:nvSpPr>
          <p:spPr>
            <a:xfrm flipV="1">
              <a:off x="830160" y="4435560"/>
              <a:ext cx="142920" cy="57600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5656320" y="3884760"/>
            <a:ext cx="144360" cy="43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038400" y="3452760"/>
            <a:ext cx="5032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381560" y="3668760"/>
            <a:ext cx="431640" cy="863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532240" y="4530600"/>
            <a:ext cx="763560" cy="1157040"/>
            <a:chOff x="2532240" y="4530600"/>
            <a:chExt cx="763560" cy="115704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2532240" y="5148000"/>
                  <a:ext cx="7635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"/>
            <p:cNvSpPr/>
            <p:nvPr/>
          </p:nvSpPr>
          <p:spPr>
            <a:xfrm flipV="1">
              <a:off x="2954520" y="4530600"/>
              <a:ext cx="142920" cy="57600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794040" y="4005360"/>
            <a:ext cx="787320" cy="1157040"/>
            <a:chOff x="3794040" y="4005360"/>
            <a:chExt cx="787320" cy="1157040"/>
          </a:xfrm>
        </p:grpSpPr>
        <mc:AlternateContent>
          <mc:Choice xmlns:a14="http://schemas.microsoft.com/office/drawing/2010/main" Requires="a14">
            <p:sp>
              <p:nvSpPr>
                <p:cNvPr id="484" name=""/>
                <p:cNvSpPr txBox="1"/>
                <p:nvPr/>
              </p:nvSpPr>
              <p:spPr>
                <a:xfrm>
                  <a:off x="3794040" y="4622760"/>
                  <a:ext cx="7873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5" name=""/>
            <p:cNvSpPr/>
            <p:nvPr/>
          </p:nvSpPr>
          <p:spPr>
            <a:xfrm flipV="1">
              <a:off x="4228920" y="4005360"/>
              <a:ext cx="142920" cy="57600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950760" y="3164040"/>
            <a:ext cx="792360" cy="1800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540480" y="3994200"/>
            <a:ext cx="69840" cy="21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104240" y="3994200"/>
            <a:ext cx="69840" cy="217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7536600" y="3989520"/>
            <a:ext cx="71640" cy="217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38200" y="2133720"/>
            <a:ext cx="7969320" cy="657000"/>
            <a:chOff x="538200" y="2133720"/>
            <a:chExt cx="7969320" cy="657000"/>
          </a:xfrm>
        </p:grpSpPr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2340000" y="2133720"/>
                  <a:ext cx="6167520" cy="65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: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≤</m:t>
                          </m:r>
                          <m:r>
                            <m:t xml:space="preserve">α</m:t>
                          </m:r>
                        </m:e>
                      </m:d>
                      <m:r>
                        <m:t xml:space="preserve">⊆</m:t>
                      </m:r>
                      <m:r>
                        <m:t xml:space="preserve"> </m:t>
                      </m:r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∀</m:t>
                      </m:r>
                      <m:r>
                        <m:t xml:space="preserve"> 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2" name=""/>
            <p:cNvSpPr/>
            <p:nvPr/>
          </p:nvSpPr>
          <p:spPr>
            <a:xfrm>
              <a:off x="538200" y="2205000"/>
              <a:ext cx="170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5086"/>
                  </a:solidFill>
                  <a:latin typeface="Arial"/>
                </a:rPr>
                <a:t>On vérifie si</a:t>
              </a: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1108800" y="6021360"/>
            <a:ext cx="77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clusion :</a:t>
            </a:r>
            <a:r>
              <a:rPr b="1" lang="en-US" sz="2000" spc="-1" strike="noStrike">
                <a:solidFill>
                  <a:srgbClr val="005086"/>
                </a:solidFill>
                <a:latin typeface="Arial"/>
              </a:rPr>
              <a:t> Le point d’équilibre est asymptotiquement s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55640" y="2997360"/>
            <a:ext cx="1528920" cy="2232000"/>
            <a:chOff x="755640" y="2997360"/>
            <a:chExt cx="1528920" cy="2232000"/>
          </a:xfrm>
        </p:grpSpPr>
        <p:grpSp>
          <p:nvGrpSpPr>
            <p:cNvPr id="495" name=""/>
            <p:cNvGrpSpPr/>
            <p:nvPr/>
          </p:nvGrpSpPr>
          <p:grpSpPr>
            <a:xfrm>
              <a:off x="755640" y="2997360"/>
              <a:ext cx="1079640" cy="2232000"/>
              <a:chOff x="755640" y="2997360"/>
              <a:chExt cx="1079640" cy="2232000"/>
            </a:xfrm>
          </p:grpSpPr>
          <p:sp>
            <p:nvSpPr>
              <p:cNvPr id="496" name=""/>
              <p:cNvSpPr/>
              <p:nvPr/>
            </p:nvSpPr>
            <p:spPr>
              <a:xfrm>
                <a:off x="755640" y="2997360"/>
                <a:ext cx="1079640" cy="2232000"/>
              </a:xfrm>
              <a:prstGeom prst="ellipse">
                <a:avLst/>
              </a:prstGeom>
              <a:noFill/>
              <a:ln w="5724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7" name=""/>
                  <p:cNvSpPr txBox="1"/>
                  <p:nvPr/>
                </p:nvSpPr>
                <p:spPr>
                  <a:xfrm>
                    <a:off x="1187640" y="4149720"/>
                    <a:ext cx="29988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98" name=""/>
              <p:cNvSpPr/>
              <p:nvPr/>
            </p:nvSpPr>
            <p:spPr>
              <a:xfrm>
                <a:off x="1332000" y="4076640"/>
                <a:ext cx="0" cy="7308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 flipH="1">
              <a:off x="1619280" y="3140280"/>
              <a:ext cx="216000" cy="7128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1817640" y="3013200"/>
                  <a:ext cx="46692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7F3-5B88-4B09-B18C-1CAB378C72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500"/>
                            </p:stCondLst>
                            <p:childTnLst>
                              <p:par>
                                <p:cTn id="3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500"/>
                            </p:stCondLst>
                            <p:childTnLst>
                              <p:par>
                                <p:cTn id="3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500"/>
                            </p:stCondLst>
                            <p:childTnLst>
                              <p:par>
                                <p:cTn id="3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000"/>
                            </p:stCondLst>
                            <p:childTnLst>
                              <p:par>
                                <p:cTn id="3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2271600" y="0"/>
            <a:ext cx="44874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086"/>
                </a:solidFill>
                <a:latin typeface="Arial"/>
              </a:rPr>
              <a:t>Principe : Critère 2 , vers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9280" y="549360"/>
            <a:ext cx="8964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5086"/>
                </a:solidFill>
                <a:latin typeface="Arial"/>
              </a:rPr>
              <a:t>On choisit une fonction globalement définie positive</a:t>
            </a:r>
            <a:r>
              <a:rPr b="0" lang="fr-FR" sz="1800" spc="-1" strike="noStrike">
                <a:solidFill>
                  <a:srgbClr val="005086"/>
                </a:solidFill>
                <a:latin typeface="Arial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k,x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fr-FR" sz="1800" spc="-1" strike="noStrike">
                <a:solidFill>
                  <a:srgbClr val="005086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5086"/>
                </a:solidFill>
                <a:latin typeface="Arial"/>
              </a:rPr>
              <a:t>et on calcule</a:t>
            </a:r>
            <a:r>
              <a:rPr b="0" lang="fr-FR" sz="1800" spc="-1" strike="noStrike">
                <a:solidFill>
                  <a:srgbClr val="005086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k,x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fr-FR" sz="1800" spc="-1" strike="noStrike">
                <a:solidFill>
                  <a:srgbClr val="00508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165320" y="3308400"/>
                <a:ext cx="36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2916360" y="3652920"/>
                <a:ext cx="4618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427640" y="3716280"/>
                <a:ext cx="360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6" name=""/>
          <p:cNvGrpSpPr/>
          <p:nvPr/>
        </p:nvGrpSpPr>
        <p:grpSpPr>
          <a:xfrm>
            <a:off x="396720" y="4435560"/>
            <a:ext cx="785880" cy="1157040"/>
            <a:chOff x="396720" y="4435560"/>
            <a:chExt cx="785880" cy="1157040"/>
          </a:xfrm>
        </p:grpSpPr>
        <mc:AlternateContent>
          <mc:Choice xmlns:a14="http://schemas.microsoft.com/office/drawing/2010/main" Requires="a14">
            <p:sp>
              <p:nvSpPr>
                <p:cNvPr id="507" name=""/>
                <p:cNvSpPr txBox="1"/>
                <p:nvPr/>
              </p:nvSpPr>
              <p:spPr>
                <a:xfrm>
                  <a:off x="396720" y="5052960"/>
                  <a:ext cx="78588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8" name=""/>
            <p:cNvSpPr/>
            <p:nvPr/>
          </p:nvSpPr>
          <p:spPr>
            <a:xfrm flipV="1">
              <a:off x="830160" y="4435560"/>
              <a:ext cx="142920" cy="57600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5656320" y="3884760"/>
            <a:ext cx="144360" cy="43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43280" y="3357720"/>
            <a:ext cx="649080" cy="1390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56000" y="3429000"/>
            <a:ext cx="503280" cy="12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340000" y="4648320"/>
            <a:ext cx="763560" cy="1157040"/>
            <a:chOff x="2340000" y="4648320"/>
            <a:chExt cx="763560" cy="1157040"/>
          </a:xfrm>
        </p:grpSpPr>
        <mc:AlternateContent>
          <mc:Choice xmlns:a14="http://schemas.microsoft.com/office/drawing/2010/main" Requires="a14">
            <p:sp>
              <p:nvSpPr>
                <p:cNvPr id="513" name=""/>
                <p:cNvSpPr txBox="1"/>
                <p:nvPr/>
              </p:nvSpPr>
              <p:spPr>
                <a:xfrm>
                  <a:off x="2340000" y="5265720"/>
                  <a:ext cx="7635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4" name=""/>
            <p:cNvSpPr/>
            <p:nvPr/>
          </p:nvSpPr>
          <p:spPr>
            <a:xfrm flipV="1">
              <a:off x="2762280" y="4648320"/>
              <a:ext cx="142920" cy="57600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780000" y="4149720"/>
            <a:ext cx="787320" cy="1157040"/>
            <a:chOff x="3780000" y="4149720"/>
            <a:chExt cx="787320" cy="1157040"/>
          </a:xfrm>
        </p:grpSpPr>
        <mc:AlternateContent>
          <mc:Choice xmlns:a14="http://schemas.microsoft.com/office/drawing/2010/main" Requires="a14">
            <p:sp>
              <p:nvSpPr>
                <p:cNvPr id="516" name=""/>
                <p:cNvSpPr txBox="1"/>
                <p:nvPr/>
              </p:nvSpPr>
              <p:spPr>
                <a:xfrm>
                  <a:off x="3780000" y="4767120"/>
                  <a:ext cx="7873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7" name=""/>
            <p:cNvSpPr/>
            <p:nvPr/>
          </p:nvSpPr>
          <p:spPr>
            <a:xfrm flipV="1">
              <a:off x="4214880" y="4149720"/>
              <a:ext cx="142920" cy="57600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950760" y="3164040"/>
            <a:ext cx="792360" cy="180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540480" y="3943440"/>
            <a:ext cx="79560" cy="2984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104240" y="3994200"/>
            <a:ext cx="69840" cy="217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7537320" y="4014720"/>
            <a:ext cx="69840" cy="160560"/>
          </a:xfrm>
          <a:prstGeom prst="ellipse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25440" y="1125360"/>
            <a:ext cx="5975280" cy="803520"/>
            <a:chOff x="325440" y="1125360"/>
            <a:chExt cx="5975280" cy="803520"/>
          </a:xfrm>
        </p:grpSpPr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900000" y="1125360"/>
                  <a:ext cx="5400720" cy="80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: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≤</m:t>
                          </m:r>
                          <m:r>
                            <m:t xml:space="preserve">α</m:t>
                          </m:r>
                        </m:e>
                      </m:d>
                      <m:limLow>
                        <m:e>
                          <m:r>
                            <m:t xml:space="preserve">→</m:t>
                          </m:r>
                        </m:e>
                        <m:lim>
                          <m:r>
                            <m:t xml:space="preserve">k</m:t>
                          </m:r>
                          <m:r>
                            <m:t xml:space="preserve">→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lim>
                      </m:limLow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"/>
            <p:cNvSpPr/>
            <p:nvPr/>
          </p:nvSpPr>
          <p:spPr>
            <a:xfrm>
              <a:off x="325440" y="1268280"/>
              <a:ext cx="48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5086"/>
                  </a:solidFill>
                  <a:latin typeface="Arial"/>
                </a:rPr>
                <a:t>Si</a:t>
              </a: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79280" y="1773360"/>
            <a:ext cx="8778960" cy="541080"/>
            <a:chOff x="179280" y="1773360"/>
            <a:chExt cx="8778960" cy="541080"/>
          </a:xfrm>
        </p:grpSpPr>
        <p:sp>
          <p:nvSpPr>
            <p:cNvPr id="526" name=""/>
            <p:cNvSpPr/>
            <p:nvPr/>
          </p:nvSpPr>
          <p:spPr>
            <a:xfrm>
              <a:off x="179280" y="1773360"/>
              <a:ext cx="37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5086"/>
                  </a:solidFill>
                  <a:latin typeface="Arial"/>
                </a:rPr>
                <a:t>S’il existe un ensembl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1800" spc="-1" strike="noStrike">
                  <a:solidFill>
                    <a:srgbClr val="005086"/>
                  </a:solidFill>
                  <a:latin typeface="Arial"/>
                </a:rPr>
                <a:t> tel qu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25840" y="1773360"/>
              <a:ext cx="273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5996"/>
                  </a:solidFill>
                  <a:latin typeface="Times New Roman"/>
                </a:rPr>
                <a:t>et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</a:rPr>
                <a:t>k,x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fr-FR" sz="2400" spc="-1" strike="noStrike">
                  <a:solidFill>
                    <a:srgbClr val="005086"/>
                  </a:solidFill>
                  <a:latin typeface="Times New Roman"/>
                </a:rPr>
                <a:t>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</a:rPr>
                <a:t>≤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r>
                <a:rPr b="1" lang="fr-FR" sz="1800" spc="-1" strike="noStrike">
                  <a:solidFill>
                    <a:srgbClr val="005086"/>
                  </a:solidFill>
                  <a:latin typeface="Arial"/>
                </a:rPr>
                <a:t> dans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8" name=""/>
                <p:cNvSpPr txBox="1"/>
                <p:nvPr/>
              </p:nvSpPr>
              <p:spPr>
                <a:xfrm>
                  <a:off x="3995640" y="1773360"/>
                  <a:ext cx="216036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⊂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t xml:space="preserve">∀</m:t>
                      </m:r>
                      <m:r>
                        <m:t xml:space="preserve"> 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258920" y="4149720"/>
                <a:ext cx="2998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132000" y="4149720"/>
                <a:ext cx="2779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31" name=""/>
          <p:cNvGrpSpPr/>
          <p:nvPr/>
        </p:nvGrpSpPr>
        <p:grpSpPr>
          <a:xfrm>
            <a:off x="1309680" y="4076640"/>
            <a:ext cx="6553080" cy="71640"/>
            <a:chOff x="1309680" y="4076640"/>
            <a:chExt cx="6553080" cy="71640"/>
          </a:xfrm>
        </p:grpSpPr>
        <p:sp>
          <p:nvSpPr>
            <p:cNvPr id="532" name=""/>
            <p:cNvSpPr/>
            <p:nvPr/>
          </p:nvSpPr>
          <p:spPr>
            <a:xfrm>
              <a:off x="1309680" y="4102200"/>
              <a:ext cx="6553080" cy="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03280" y="4076640"/>
              <a:ext cx="0" cy="71640"/>
            </a:xfrm>
            <a:prstGeom prst="line">
              <a:avLst/>
            </a:prstGeom>
            <a:ln w="9360">
              <a:solidFill>
                <a:srgbClr val="0059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76720" y="4076640"/>
              <a:ext cx="0" cy="71640"/>
            </a:xfrm>
            <a:prstGeom prst="line">
              <a:avLst/>
            </a:prstGeom>
            <a:ln w="9360">
              <a:solidFill>
                <a:srgbClr val="0059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72000" y="4076640"/>
              <a:ext cx="0" cy="71640"/>
            </a:xfrm>
            <a:prstGeom prst="line">
              <a:avLst/>
            </a:prstGeom>
            <a:ln w="9360">
              <a:solidFill>
                <a:srgbClr val="0059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427640" y="4149720"/>
                <a:ext cx="3016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900000" y="2924280"/>
            <a:ext cx="936720" cy="2376360"/>
          </a:xfrm>
          <a:prstGeom prst="ellipse">
            <a:avLst/>
          </a:prstGeom>
          <a:noFill/>
          <a:ln w="19080">
            <a:solidFill>
              <a:srgbClr val="005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403280" y="2924280"/>
            <a:ext cx="6624720" cy="2376360"/>
            <a:chOff x="1403280" y="2924280"/>
            <a:chExt cx="6624720" cy="2376360"/>
          </a:xfrm>
        </p:grpSpPr>
        <p:sp>
          <p:nvSpPr>
            <p:cNvPr id="539" name=""/>
            <p:cNvSpPr/>
            <p:nvPr/>
          </p:nvSpPr>
          <p:spPr>
            <a:xfrm>
              <a:off x="1403280" y="2924280"/>
              <a:ext cx="6624720" cy="0"/>
            </a:xfrm>
            <a:prstGeom prst="line">
              <a:avLst/>
            </a:prstGeom>
            <a:ln w="19080">
              <a:solidFill>
                <a:srgbClr val="0059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03280" y="5300640"/>
              <a:ext cx="6624720" cy="0"/>
            </a:xfrm>
            <a:prstGeom prst="line">
              <a:avLst/>
            </a:prstGeom>
            <a:ln w="19080">
              <a:solidFill>
                <a:srgbClr val="0059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36560" y="2297160"/>
            <a:ext cx="595440" cy="627120"/>
            <a:chOff x="736560" y="2297160"/>
            <a:chExt cx="595440" cy="627120"/>
          </a:xfrm>
        </p:grpSpPr>
        <p:sp>
          <p:nvSpPr>
            <p:cNvPr id="542" name=""/>
            <p:cNvSpPr/>
            <p:nvPr/>
          </p:nvSpPr>
          <p:spPr>
            <a:xfrm>
              <a:off x="736560" y="2297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508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42920" y="2565360"/>
              <a:ext cx="289080" cy="35892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973080" y="5734080"/>
            <a:ext cx="8410320" cy="703800"/>
            <a:chOff x="973080" y="5734080"/>
            <a:chExt cx="8410320" cy="703800"/>
          </a:xfrm>
        </p:grpSpPr>
        <p:sp>
          <p:nvSpPr>
            <p:cNvPr id="545" name=""/>
            <p:cNvSpPr/>
            <p:nvPr/>
          </p:nvSpPr>
          <p:spPr>
            <a:xfrm>
              <a:off x="973080" y="5734080"/>
              <a:ext cx="8410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nclusion :</a:t>
              </a:r>
              <a:r>
                <a:rPr b="1" lang="en-US" sz="2000" spc="-1" strike="noStrike">
                  <a:solidFill>
                    <a:srgbClr val="005086"/>
                  </a:solidFill>
                  <a:latin typeface="Arial"/>
                </a:rPr>
                <a:t> Le point d’équilibre est asymptotiquement stab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5086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5086"/>
                  </a:solidFill>
                  <a:latin typeface="Arial"/>
                </a:rPr>
                <a:t>           </a:t>
              </a:r>
              <a:r>
                <a:rPr b="1" lang="en-US" sz="2000" spc="-1" strike="noStrike">
                  <a:solidFill>
                    <a:srgbClr val="005086"/>
                  </a:solidFill>
                  <a:latin typeface="Arial"/>
                </a:rPr>
                <a:t>Si</a:t>
              </a: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              </a:t>
              </a:r>
              <a:r>
                <a:rPr b="1" lang="en-US" sz="2000" spc="-1" strike="noStrike">
                  <a:solidFill>
                    <a:srgbClr val="005086"/>
                  </a:solidFill>
                  <a:latin typeface="Arial"/>
                </a:rPr>
                <a:t>    la stabilité asymptotique est globale</a:t>
              </a:r>
              <a:r>
                <a:rPr b="1" lang="en-US" sz="2000" spc="-1" strike="noStrike">
                  <a:solidFill>
                    <a:srgbClr val="005086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3132000" y="6021360"/>
                  <a:ext cx="9367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7" name="">
            <a:hlinkClick r:id="rId1" action="ppaction://hlinksldjump"/>
          </p:cNvPr>
          <p:cNvSpPr/>
          <p:nvPr/>
        </p:nvSpPr>
        <p:spPr>
          <a:xfrm>
            <a:off x="179280" y="5877000"/>
            <a:ext cx="432000" cy="50472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33">
                <a:moveTo>
                  <a:pt x="0" y="0"/>
                </a:moveTo>
                <a:lnTo>
                  <a:pt x="21600" y="0"/>
                </a:lnTo>
                <a:lnTo>
                  <a:pt x="21600" y="25233"/>
                </a:lnTo>
                <a:lnTo>
                  <a:pt x="0" y="25233"/>
                </a:lnTo>
                <a:close/>
              </a:path>
              <a:path fill="lightenLess" w="21600" h="252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33">
                <a:moveTo>
                  <a:pt x="21600" y="0"/>
                </a:moveTo>
                <a:lnTo>
                  <a:pt x="21600" y="25233"/>
                </a:lnTo>
                <a:lnTo>
                  <a:pt x="20200" y="23833"/>
                </a:lnTo>
                <a:lnTo>
                  <a:pt x="20200" y="1400"/>
                </a:lnTo>
                <a:close/>
              </a:path>
              <a:path fill="darkenLess" w="21600" h="25233">
                <a:moveTo>
                  <a:pt x="21600" y="25233"/>
                </a:moveTo>
                <a:lnTo>
                  <a:pt x="0" y="25233"/>
                </a:lnTo>
                <a:lnTo>
                  <a:pt x="1400" y="23833"/>
                </a:lnTo>
                <a:lnTo>
                  <a:pt x="20200" y="23833"/>
                </a:lnTo>
                <a:close/>
              </a:path>
              <a:path fill="lighten" w="21600" h="25233">
                <a:moveTo>
                  <a:pt x="0" y="252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33"/>
                </a:lnTo>
                <a:close/>
              </a:path>
              <a:path fill="darken" w="21600" h="25233">
                <a:moveTo>
                  <a:pt x="3794" y="5610"/>
                </a:moveTo>
                <a:lnTo>
                  <a:pt x="17806" y="12616"/>
                </a:lnTo>
                <a:lnTo>
                  <a:pt x="3794" y="1962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C27-0F5A-4653-A92E-0A0A8344C3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500"/>
                            </p:stCondLst>
                            <p:childTnLst>
                              <p:par>
                                <p:cTn id="4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0"/>
                            </p:stCondLst>
                            <p:childTnLst>
                              <p:par>
                                <p:cTn id="4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500"/>
                            </p:stCondLst>
                            <p:childTnLst>
                              <p:par>
                                <p:cTn id="4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500"/>
                            </p:stCondLst>
                            <p:childTnLst>
                              <p:par>
                                <p:cTn id="4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700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500"/>
                            </p:stCondLst>
                            <p:childTnLst>
                              <p:par>
                                <p:cTn id="4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400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ème de la stabilité des systèmes discrets non-linéaires dans le cadre des ensembles asymptotiquement contractif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327680" y="1773360"/>
            <a:ext cx="6566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che 2 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5086"/>
                </a:solidFill>
                <a:latin typeface="Arial"/>
              </a:rPr>
              <a:t>Utilisation du concept des  fo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086"/>
                </a:solidFill>
                <a:latin typeface="Arial"/>
              </a:rPr>
              <a:t>                            </a:t>
            </a:r>
            <a:r>
              <a:rPr b="1" lang="en-US" sz="2000" spc="-1" strike="noStrike">
                <a:solidFill>
                  <a:srgbClr val="005086"/>
                </a:solidFill>
                <a:latin typeface="Arial"/>
              </a:rPr>
              <a:t>génératr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324000" y="2924280"/>
            <a:ext cx="8431560" cy="916920"/>
            <a:chOff x="324000" y="2924280"/>
            <a:chExt cx="8431560" cy="916920"/>
          </a:xfrm>
        </p:grpSpPr>
        <p:sp>
          <p:nvSpPr>
            <p:cNvPr id="551" name=""/>
            <p:cNvSpPr/>
            <p:nvPr/>
          </p:nvSpPr>
          <p:spPr>
            <a:xfrm>
              <a:off x="2058120" y="2924280"/>
              <a:ext cx="669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Ces fonctions définissent les frontières des ensemb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non-stationnaires et jouent le même rôle que celui des fonc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de Lyapuno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4000" y="299736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rincipe 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53080" y="4292640"/>
            <a:ext cx="8441640" cy="642600"/>
            <a:chOff x="253080" y="4292640"/>
            <a:chExt cx="8441640" cy="642600"/>
          </a:xfrm>
        </p:grpSpPr>
        <p:sp>
          <p:nvSpPr>
            <p:cNvPr id="554" name=""/>
            <p:cNvSpPr/>
            <p:nvPr/>
          </p:nvSpPr>
          <p:spPr>
            <a:xfrm>
              <a:off x="253080" y="4365720"/>
              <a:ext cx="18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vantage 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95640" y="4292640"/>
              <a:ext cx="649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La définition positive  des fonctions génératrices n'est plus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nécessair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39C-DCAD-48F7-A1E8-2C6640B9E5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258920" y="5038560"/>
            <a:ext cx="6553080" cy="0"/>
          </a:xfrm>
          <a:prstGeom prst="line">
            <a:avLst/>
          </a:prstGeom>
          <a:ln w="9360">
            <a:solidFill>
              <a:srgbClr val="0050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524720" y="4962600"/>
            <a:ext cx="71640" cy="144360"/>
          </a:xfrm>
          <a:prstGeom prst="ellipse">
            <a:avLst/>
          </a:prstGeom>
          <a:noFill/>
          <a:ln w="648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551560" y="4654440"/>
            <a:ext cx="287280" cy="718920"/>
            <a:chOff x="5551560" y="4654440"/>
            <a:chExt cx="287280" cy="718920"/>
          </a:xfrm>
        </p:grpSpPr>
        <p:sp>
          <p:nvSpPr>
            <p:cNvPr id="559" name=""/>
            <p:cNvSpPr/>
            <p:nvPr/>
          </p:nvSpPr>
          <p:spPr>
            <a:xfrm>
              <a:off x="5551560" y="4654440"/>
              <a:ext cx="287280" cy="718920"/>
            </a:xfrm>
            <a:prstGeom prst="ellipse">
              <a:avLst/>
            </a:prstGeom>
            <a:noFill/>
            <a:ln w="1908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24720" y="5013000"/>
              <a:ext cx="0" cy="73080"/>
            </a:xfrm>
            <a:prstGeom prst="line">
              <a:avLst/>
            </a:prstGeom>
            <a:ln w="1908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6443640" y="4797360"/>
            <a:ext cx="144360" cy="433440"/>
            <a:chOff x="6443640" y="4797360"/>
            <a:chExt cx="144360" cy="433440"/>
          </a:xfrm>
        </p:grpSpPr>
        <p:sp>
          <p:nvSpPr>
            <p:cNvPr id="562" name=""/>
            <p:cNvSpPr/>
            <p:nvPr/>
          </p:nvSpPr>
          <p:spPr>
            <a:xfrm>
              <a:off x="6443640" y="4797360"/>
              <a:ext cx="144360" cy="433440"/>
            </a:xfrm>
            <a:prstGeom prst="ellipse">
              <a:avLst/>
            </a:prstGeom>
            <a:noFill/>
            <a:ln w="1260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16360" y="5013360"/>
              <a:ext cx="0" cy="73080"/>
            </a:xfrm>
            <a:prstGeom prst="line">
              <a:avLst/>
            </a:prstGeom>
            <a:ln w="1260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7020000" y="4870440"/>
            <a:ext cx="144360" cy="287280"/>
            <a:chOff x="7020000" y="4870440"/>
            <a:chExt cx="144360" cy="287280"/>
          </a:xfrm>
        </p:grpSpPr>
        <p:sp>
          <p:nvSpPr>
            <p:cNvPr id="565" name=""/>
            <p:cNvSpPr/>
            <p:nvPr/>
          </p:nvSpPr>
          <p:spPr>
            <a:xfrm>
              <a:off x="7020000" y="4870440"/>
              <a:ext cx="144360" cy="287280"/>
            </a:xfrm>
            <a:prstGeom prst="ellipse">
              <a:avLst/>
            </a:prstGeom>
            <a:noFill/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92720" y="5013360"/>
              <a:ext cx="0" cy="73080"/>
            </a:xfrm>
            <a:prstGeom prst="line">
              <a:avLst/>
            </a:prstGeom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55640" y="3811680"/>
            <a:ext cx="1584360" cy="2353680"/>
            <a:chOff x="755640" y="3811680"/>
            <a:chExt cx="1584360" cy="2353680"/>
          </a:xfrm>
        </p:grpSpPr>
        <p:grpSp>
          <p:nvGrpSpPr>
            <p:cNvPr id="568" name=""/>
            <p:cNvGrpSpPr/>
            <p:nvPr/>
          </p:nvGrpSpPr>
          <p:grpSpPr>
            <a:xfrm>
              <a:off x="755640" y="3933720"/>
              <a:ext cx="1079640" cy="2231640"/>
              <a:chOff x="755640" y="3933720"/>
              <a:chExt cx="1079640" cy="2231640"/>
            </a:xfrm>
          </p:grpSpPr>
          <p:sp>
            <p:nvSpPr>
              <p:cNvPr id="569" name=""/>
              <p:cNvSpPr/>
              <p:nvPr/>
            </p:nvSpPr>
            <p:spPr>
              <a:xfrm>
                <a:off x="755640" y="3933720"/>
                <a:ext cx="1079640" cy="2231640"/>
              </a:xfrm>
              <a:prstGeom prst="ellipse">
                <a:avLst/>
              </a:prstGeom>
              <a:noFill/>
              <a:ln w="5724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0" name=""/>
                  <p:cNvSpPr txBox="1"/>
                  <p:nvPr/>
                </p:nvSpPr>
                <p:spPr>
                  <a:xfrm>
                    <a:off x="1187640" y="5085720"/>
                    <a:ext cx="299880" cy="43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71" name=""/>
              <p:cNvSpPr/>
              <p:nvPr/>
            </p:nvSpPr>
            <p:spPr>
              <a:xfrm>
                <a:off x="1332000" y="5012640"/>
                <a:ext cx="0" cy="7272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 flipH="1">
              <a:off x="1619280" y="4076280"/>
              <a:ext cx="216000" cy="7128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1763640" y="3811680"/>
                  <a:ext cx="576360" cy="36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4" name=""/>
          <p:cNvGrpSpPr/>
          <p:nvPr/>
        </p:nvGrpSpPr>
        <p:grpSpPr>
          <a:xfrm>
            <a:off x="2843280" y="4221000"/>
            <a:ext cx="1368360" cy="1569960"/>
            <a:chOff x="2843280" y="4221000"/>
            <a:chExt cx="1368360" cy="1569960"/>
          </a:xfrm>
        </p:grpSpPr>
        <p:grpSp>
          <p:nvGrpSpPr>
            <p:cNvPr id="575" name=""/>
            <p:cNvGrpSpPr/>
            <p:nvPr/>
          </p:nvGrpSpPr>
          <p:grpSpPr>
            <a:xfrm>
              <a:off x="2843280" y="4279680"/>
              <a:ext cx="792000" cy="1511280"/>
              <a:chOff x="2843280" y="4279680"/>
              <a:chExt cx="792000" cy="1511280"/>
            </a:xfrm>
          </p:grpSpPr>
          <p:sp>
            <p:nvSpPr>
              <p:cNvPr id="576" name=""/>
              <p:cNvSpPr/>
              <p:nvPr/>
            </p:nvSpPr>
            <p:spPr>
              <a:xfrm>
                <a:off x="2843280" y="4279680"/>
                <a:ext cx="792000" cy="1511280"/>
              </a:xfrm>
              <a:prstGeom prst="ellipse">
                <a:avLst/>
              </a:prstGeom>
              <a:noFill/>
              <a:ln w="381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203280" y="4998600"/>
                <a:ext cx="0" cy="7308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8" name=""/>
                  <p:cNvSpPr txBox="1"/>
                  <p:nvPr/>
                </p:nvSpPr>
                <p:spPr>
                  <a:xfrm>
                    <a:off x="3070080" y="5082840"/>
                    <a:ext cx="277560" cy="40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79" name=""/>
                <p:cNvSpPr txBox="1"/>
                <p:nvPr/>
              </p:nvSpPr>
              <p:spPr>
                <a:xfrm>
                  <a:off x="3635280" y="4221000"/>
                  <a:ext cx="576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0" name=""/>
            <p:cNvSpPr/>
            <p:nvPr/>
          </p:nvSpPr>
          <p:spPr>
            <a:xfrm flipH="1">
              <a:off x="3492000" y="4365360"/>
              <a:ext cx="142920" cy="14436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3066480" y="138240"/>
            <a:ext cx="35395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ncipe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che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08000" y="836640"/>
            <a:ext cx="9144000" cy="931680"/>
            <a:chOff x="108000" y="836640"/>
            <a:chExt cx="9144000" cy="931680"/>
          </a:xfrm>
        </p:grpSpPr>
        <p:sp>
          <p:nvSpPr>
            <p:cNvPr id="583" name=""/>
            <p:cNvSpPr/>
            <p:nvPr/>
          </p:nvSpPr>
          <p:spPr>
            <a:xfrm>
              <a:off x="108000" y="8366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On choisit une fonction quelconque 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</a:rPr>
                <a:t>k,x</a:t>
              </a: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fr-FR" sz="1800" spc="-1" strike="noStrike">
                  <a:solidFill>
                    <a:srgbClr val="005086"/>
                  </a:solidFill>
                  <a:latin typeface="Times New Roman"/>
                </a:rPr>
                <a:t> </a:t>
              </a: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et on construit l'ensemble qui lui est associé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3240000" y="1268280"/>
                  <a:ext cx="28702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&lt;</m:t>
                          </m:r>
                          <m:r>
                            <m:t xml:space="preserve">Λ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5" name=""/>
          <p:cNvGrpSpPr/>
          <p:nvPr/>
        </p:nvGrpSpPr>
        <p:grpSpPr>
          <a:xfrm>
            <a:off x="306720" y="2349360"/>
            <a:ext cx="7360920" cy="511200"/>
            <a:chOff x="306720" y="2349360"/>
            <a:chExt cx="7360920" cy="511200"/>
          </a:xfrm>
        </p:grpSpPr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4619520" y="2349360"/>
                  <a:ext cx="304812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 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∀</m:t>
                      </m:r>
                      <m:r>
                        <m:t xml:space="preserve">x</m:t>
                      </m:r>
                      <m:r>
                        <m:t xml:space="preserve">∈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7" name=""/>
            <p:cNvSpPr/>
            <p:nvPr/>
          </p:nvSpPr>
          <p:spPr>
            <a:xfrm>
              <a:off x="306720" y="2440080"/>
              <a:ext cx="427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L’attractivité de l’équilibre est assurée si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77840" y="1700280"/>
            <a:ext cx="8497800" cy="722160"/>
            <a:chOff x="177840" y="1700280"/>
            <a:chExt cx="8497800" cy="722160"/>
          </a:xfrm>
        </p:grpSpPr>
        <p:sp>
          <p:nvSpPr>
            <p:cNvPr id="589" name=""/>
            <p:cNvSpPr/>
            <p:nvPr/>
          </p:nvSpPr>
          <p:spPr>
            <a:xfrm>
              <a:off x="177840" y="1844640"/>
              <a:ext cx="66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On vérifie ensuite l'asymptotique contractivité de sa fermet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0" name=""/>
                <p:cNvSpPr txBox="1"/>
                <p:nvPr/>
              </p:nvSpPr>
              <p:spPr>
                <a:xfrm>
                  <a:off x="6967440" y="1700280"/>
                  <a:ext cx="17082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k</m:t>
                          </m:r>
                          <m:r>
                            <m:t xml:space="preserve">→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lim>
                      </m:limLow>
                      <m:bar>
                        <m:barPr>
                          <m:pos m:val="top"/>
                        </m:barPr>
                        <m:e>
                          <m:r>
                            <m:t xml:space="preserve">G</m:t>
                          </m:r>
                        </m:e>
                      </m:ba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1" name=""/>
          <p:cNvGrpSpPr/>
          <p:nvPr/>
        </p:nvGrpSpPr>
        <p:grpSpPr>
          <a:xfrm>
            <a:off x="4541760" y="4076640"/>
            <a:ext cx="1038240" cy="1441440"/>
            <a:chOff x="4541760" y="4076640"/>
            <a:chExt cx="1038240" cy="1441440"/>
          </a:xfrm>
        </p:grpSpPr>
        <p:grpSp>
          <p:nvGrpSpPr>
            <p:cNvPr id="592" name=""/>
            <p:cNvGrpSpPr/>
            <p:nvPr/>
          </p:nvGrpSpPr>
          <p:grpSpPr>
            <a:xfrm>
              <a:off x="4541760" y="4510080"/>
              <a:ext cx="576000" cy="1008000"/>
              <a:chOff x="4541760" y="4510080"/>
              <a:chExt cx="576000" cy="1008000"/>
            </a:xfrm>
          </p:grpSpPr>
          <p:sp>
            <p:nvSpPr>
              <p:cNvPr id="593" name=""/>
              <p:cNvSpPr/>
              <p:nvPr/>
            </p:nvSpPr>
            <p:spPr>
              <a:xfrm>
                <a:off x="4541760" y="4510080"/>
                <a:ext cx="576000" cy="1008000"/>
              </a:xfrm>
              <a:prstGeom prst="ellipse">
                <a:avLst/>
              </a:prstGeom>
              <a:noFill/>
              <a:ln w="2844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787640" y="5013360"/>
                <a:ext cx="0" cy="7308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5" name=""/>
                  <p:cNvSpPr txBox="1"/>
                  <p:nvPr/>
                </p:nvSpPr>
                <p:spPr>
                  <a:xfrm>
                    <a:off x="4643280" y="5038920"/>
                    <a:ext cx="301680" cy="407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96" name=""/>
                <p:cNvSpPr txBox="1"/>
                <p:nvPr/>
              </p:nvSpPr>
              <p:spPr>
                <a:xfrm>
                  <a:off x="5076720" y="4076640"/>
                  <a:ext cx="503280" cy="3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7" name=""/>
            <p:cNvSpPr/>
            <p:nvPr/>
          </p:nvSpPr>
          <p:spPr>
            <a:xfrm flipH="1">
              <a:off x="4932000" y="4365720"/>
              <a:ext cx="144360" cy="14436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258920" y="3645000"/>
            <a:ext cx="6697800" cy="2736720"/>
            <a:chOff x="1258920" y="3645000"/>
            <a:chExt cx="6697800" cy="2736720"/>
          </a:xfrm>
        </p:grpSpPr>
        <p:sp>
          <p:nvSpPr>
            <p:cNvPr id="599" name=""/>
            <p:cNvSpPr/>
            <p:nvPr/>
          </p:nvSpPr>
          <p:spPr>
            <a:xfrm>
              <a:off x="1258920" y="3645000"/>
              <a:ext cx="6697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58920" y="6381720"/>
              <a:ext cx="6697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611280" y="3645000"/>
            <a:ext cx="1368360" cy="27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116000" y="4365720"/>
                <a:ext cx="36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021120" y="4589640"/>
                <a:ext cx="4618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4643280" y="4653000"/>
                <a:ext cx="360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05" name=""/>
          <p:cNvGrpSpPr/>
          <p:nvPr/>
        </p:nvGrpSpPr>
        <p:grpSpPr>
          <a:xfrm>
            <a:off x="330120" y="3027240"/>
            <a:ext cx="8600760" cy="511200"/>
            <a:chOff x="330120" y="3027240"/>
            <a:chExt cx="8600760" cy="511200"/>
          </a:xfrm>
        </p:grpSpPr>
        <mc:AlternateContent>
          <mc:Choice xmlns:a14="http://schemas.microsoft.com/office/drawing/2010/main" Requires="a14">
            <p:sp>
              <p:nvSpPr>
                <p:cNvPr id="606" name=""/>
                <p:cNvSpPr txBox="1"/>
                <p:nvPr/>
              </p:nvSpPr>
              <p:spPr>
                <a:xfrm>
                  <a:off x="7200720" y="3027240"/>
                  <a:ext cx="173016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⊂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7" name=""/>
            <p:cNvSpPr/>
            <p:nvPr/>
          </p:nvSpPr>
          <p:spPr>
            <a:xfrm>
              <a:off x="330120" y="3068640"/>
              <a:ext cx="586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La stabilité est assurée s’il existe un ensemble invarian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5975280" y="3046320"/>
                  <a:ext cx="34560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9" name=""/>
            <p:cNvSpPr/>
            <p:nvPr/>
          </p:nvSpPr>
          <p:spPr>
            <a:xfrm>
              <a:off x="6410520" y="30891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tel qu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87280" y="5229360"/>
            <a:ext cx="324000" cy="1082520"/>
            <a:chOff x="287280" y="5229360"/>
            <a:chExt cx="324000" cy="1082520"/>
          </a:xfrm>
        </p:grpSpPr>
        <mc:AlternateContent>
          <mc:Choice xmlns:a14="http://schemas.microsoft.com/office/drawing/2010/main" Requires="a14">
            <p:sp>
              <p:nvSpPr>
                <p:cNvPr id="611" name=""/>
                <p:cNvSpPr txBox="1"/>
                <p:nvPr/>
              </p:nvSpPr>
              <p:spPr>
                <a:xfrm>
                  <a:off x="287280" y="5923080"/>
                  <a:ext cx="27792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2" name=""/>
            <p:cNvSpPr/>
            <p:nvPr/>
          </p:nvSpPr>
          <p:spPr>
            <a:xfrm flipV="1">
              <a:off x="468360" y="5229360"/>
              <a:ext cx="142920" cy="57600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3C3-8ADA-4F0B-8B85-72552A086A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4000"/>
                            </p:stCondLst>
                            <p:childTnLst>
                              <p:par>
                                <p:cTn id="5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1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ème de la stabilité des systèmes discrets non-linéaires dans le cadre des ensembles asymptotiquement contractif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61280" y="16477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996"/>
                </a:solidFill>
                <a:latin typeface="Arial"/>
              </a:rPr>
              <a:t>Exe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2708280" y="2133720"/>
                <a:ext cx="38797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16" name=""/>
          <p:cNvGrpSpPr/>
          <p:nvPr/>
        </p:nvGrpSpPr>
        <p:grpSpPr>
          <a:xfrm>
            <a:off x="89280" y="2708280"/>
            <a:ext cx="8814960" cy="754560"/>
            <a:chOff x="89280" y="2708280"/>
            <a:chExt cx="8814960" cy="754560"/>
          </a:xfrm>
        </p:grpSpPr>
        <mc:AlternateContent>
          <mc:Choice xmlns:a14="http://schemas.microsoft.com/office/drawing/2010/main" Requires="a14">
            <p:sp>
              <p:nvSpPr>
                <p:cNvPr id="617" name=""/>
                <p:cNvSpPr txBox="1"/>
                <p:nvPr/>
              </p:nvSpPr>
              <p:spPr>
                <a:xfrm>
                  <a:off x="755640" y="2708280"/>
                  <a:ext cx="37908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8" name=""/>
                <p:cNvSpPr txBox="1"/>
                <p:nvPr/>
              </p:nvSpPr>
              <p:spPr>
                <a:xfrm>
                  <a:off x="4859280" y="2781360"/>
                  <a:ext cx="1717560" cy="48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9" name=""/>
            <p:cNvSpPr/>
            <p:nvPr/>
          </p:nvSpPr>
          <p:spPr>
            <a:xfrm>
              <a:off x="89280" y="28004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So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859800" y="2728800"/>
              <a:ext cx="20444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 n’est pas défini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79280" y="3284640"/>
            <a:ext cx="8618760" cy="1287360"/>
            <a:chOff x="179280" y="3284640"/>
            <a:chExt cx="8618760" cy="1287360"/>
          </a:xfrm>
        </p:grpSpPr>
        <mc:AlternateContent>
          <mc:Choice xmlns:a14="http://schemas.microsoft.com/office/drawing/2010/main" Requires="a14">
            <p:sp>
              <p:nvSpPr>
                <p:cNvPr id="622" name=""/>
                <p:cNvSpPr txBox="1"/>
                <p:nvPr/>
              </p:nvSpPr>
              <p:spPr>
                <a:xfrm>
                  <a:off x="179280" y="3284640"/>
                  <a:ext cx="6542280" cy="12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Pour </m:t>
                          </m:r>
                          <m:r>
                            <m:t xml:space="preserve">Λ</m:t>
                          </m:r>
                          <m:r>
                            <m:t xml:space="preserve">&gt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Λ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:</m:t>
                              </m:r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Λ</m:t>
                              </m:r>
                            </m:e>
                          </m:d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:</m:t>
                              </m:r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&lt;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Λ</m:t>
                                  </m:r>
                                </m:num>
                                <m:den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k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3" name=""/>
                <p:cNvSpPr txBox="1"/>
                <p:nvPr/>
              </p:nvSpPr>
              <p:spPr>
                <a:xfrm>
                  <a:off x="6951600" y="3571920"/>
                  <a:ext cx="18464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k</m:t>
                          </m:r>
                          <m:r>
                            <m:t xml:space="preserve">→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lim>
                      </m:limLow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Λ</m:t>
                              </m:r>
                            </m:sub>
                          </m:sSub>
                        </m:e>
                      </m:ba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4" name=""/>
          <p:cNvGrpSpPr/>
          <p:nvPr/>
        </p:nvGrpSpPr>
        <p:grpSpPr>
          <a:xfrm>
            <a:off x="181800" y="5157720"/>
            <a:ext cx="6775920" cy="542880"/>
            <a:chOff x="181800" y="5157720"/>
            <a:chExt cx="6775920" cy="542880"/>
          </a:xfrm>
        </p:grpSpPr>
        <mc:AlternateContent>
          <mc:Choice xmlns:a14="http://schemas.microsoft.com/office/drawing/2010/main" Requires="a14">
            <p:sp>
              <p:nvSpPr>
                <p:cNvPr id="625" name=""/>
                <p:cNvSpPr txBox="1"/>
                <p:nvPr/>
              </p:nvSpPr>
              <p:spPr>
                <a:xfrm>
                  <a:off x="2109600" y="5157720"/>
                  <a:ext cx="484812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⊂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: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&lt;</m:t>
                          </m:r>
                          <m:r>
                            <m:t xml:space="preserve">β</m:t>
                          </m:r>
                          <m:r>
                            <m:t xml:space="preserve"> 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  avec   </m:t>
                      </m:r>
                      <m:r>
                        <m:t xml:space="preserve">β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6" name=""/>
            <p:cNvSpPr/>
            <p:nvPr/>
          </p:nvSpPr>
          <p:spPr>
            <a:xfrm>
              <a:off x="181800" y="5221080"/>
              <a:ext cx="186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Stabilité de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=0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175680" y="4508640"/>
            <a:ext cx="8499960" cy="720720"/>
            <a:chOff x="175680" y="4508640"/>
            <a:chExt cx="8499960" cy="720720"/>
          </a:xfrm>
        </p:grpSpPr>
        <mc:AlternateContent>
          <mc:Choice xmlns:a14="http://schemas.microsoft.com/office/drawing/2010/main" Requires="a14">
            <p:sp>
              <p:nvSpPr>
                <p:cNvPr id="628" name=""/>
                <p:cNvSpPr txBox="1"/>
                <p:nvPr/>
              </p:nvSpPr>
              <p:spPr>
                <a:xfrm>
                  <a:off x="4854600" y="4572000"/>
                  <a:ext cx="3821040" cy="51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g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 </m:t>
                      </m:r>
                      <m:r>
                        <m:t xml:space="preserve">∀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∈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9" name=""/>
                <p:cNvSpPr txBox="1"/>
                <p:nvPr/>
              </p:nvSpPr>
              <p:spPr>
                <a:xfrm>
                  <a:off x="3052800" y="4508640"/>
                  <a:ext cx="108108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≤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e</m:t>
                              </m:r>
                            </m:e>
                          </m:rad>
                        </m:den>
                      </m:f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0" name=""/>
            <p:cNvSpPr/>
            <p:nvPr/>
          </p:nvSpPr>
          <p:spPr>
            <a:xfrm>
              <a:off x="2524320" y="46530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S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680" y="4646880"/>
              <a:ext cx="217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Attractivité de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=0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332000" y="5661000"/>
            <a:ext cx="6696000" cy="708120"/>
            <a:chOff x="1332000" y="5661000"/>
            <a:chExt cx="6696000" cy="708120"/>
          </a:xfrm>
        </p:grpSpPr>
        <p:sp>
          <p:nvSpPr>
            <p:cNvPr id="633" name=""/>
            <p:cNvSpPr/>
            <p:nvPr/>
          </p:nvSpPr>
          <p:spPr>
            <a:xfrm>
              <a:off x="1332000" y="5695920"/>
              <a:ext cx="66960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Le pont d’équilibre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x=0</a:t>
              </a: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 est asymptotiquement stable et </a:t>
              </a:r>
              <a:r>
                <a:rPr b="0" i="1" lang="fr-FR" sz="18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fr-FR" sz="1800" spc="-1" strike="noStrike">
                  <a:solidFill>
                    <a:srgbClr val="005086"/>
                  </a:solidFill>
                  <a:latin typeface="Arial"/>
                  <a:ea typeface="Arial"/>
                </a:rPr>
                <a:t>est une estimation</a:t>
              </a:r>
              <a:r>
                <a:rPr b="1" lang="fr-FR" sz="2000" spc="-1" strike="noStrike">
                  <a:solidFill>
                    <a:srgbClr val="005086"/>
                  </a:solidFill>
                  <a:latin typeface="Arial"/>
                  <a:ea typeface="Arial"/>
                </a:rPr>
                <a:t>  </a:t>
              </a:r>
              <a:r>
                <a:rPr b="0" lang="fr-FR" sz="1800" spc="-1" strike="noStrike">
                  <a:solidFill>
                    <a:srgbClr val="005086"/>
                  </a:solidFill>
                  <a:latin typeface="Arial"/>
                  <a:ea typeface="Arial"/>
                </a:rPr>
                <a:t>de son domaine de la stabilité asymptotiqu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4" name=""/>
                <p:cNvSpPr txBox="1"/>
                <p:nvPr/>
              </p:nvSpPr>
              <p:spPr>
                <a:xfrm>
                  <a:off x="7032600" y="5661000"/>
                  <a:ext cx="88272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A53F-F9F8-40D5-841E-09922A970E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ème de la stabilité des systèmes discrets non-linéaires dans le cadre des ensembles asymptotiquement contractif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26200" y="1628640"/>
            <a:ext cx="797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énéralisation du concept des fonctions génératr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à des ensembles non-asymptotiquement contracti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93240" y="4149720"/>
            <a:ext cx="9015840" cy="2215080"/>
            <a:chOff x="93240" y="4149720"/>
            <a:chExt cx="9015840" cy="2215080"/>
          </a:xfrm>
        </p:grpSpPr>
        <p:grpSp>
          <p:nvGrpSpPr>
            <p:cNvPr id="638" name=""/>
            <p:cNvGrpSpPr/>
            <p:nvPr/>
          </p:nvGrpSpPr>
          <p:grpSpPr>
            <a:xfrm>
              <a:off x="3742560" y="4149720"/>
              <a:ext cx="1328400" cy="827280"/>
              <a:chOff x="3742560" y="4149720"/>
              <a:chExt cx="1328400" cy="827280"/>
            </a:xfrm>
          </p:grpSpPr>
          <p:sp>
            <p:nvSpPr>
              <p:cNvPr id="639" name=""/>
              <p:cNvSpPr/>
              <p:nvPr/>
            </p:nvSpPr>
            <p:spPr>
              <a:xfrm>
                <a:off x="4098960" y="4149720"/>
                <a:ext cx="503280" cy="435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42560" y="4578120"/>
                <a:ext cx="1328400" cy="398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5086"/>
                    </a:solidFill>
                    <a:latin typeface="Arial"/>
                  </a:rPr>
                  <a:t>Résultat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103320" y="4941720"/>
              <a:ext cx="9005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086"/>
                  </a:solidFill>
                  <a:latin typeface="Arial"/>
                </a:rPr>
                <a:t>-- Elaboration de nouveaux critères pour juger de la stabilité asymptotique d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086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5086"/>
                  </a:solidFill>
                  <a:latin typeface="Arial"/>
                </a:rPr>
                <a:t>systèmes discrets non-linéair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3240" y="5661000"/>
              <a:ext cx="834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086"/>
                  </a:solidFill>
                  <a:latin typeface="Arial"/>
                </a:rPr>
                <a:t>-- Détermination exacte du domaine de la stabilité asymptotique du poi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086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005086"/>
                  </a:solidFill>
                  <a:latin typeface="Arial"/>
                </a:rPr>
                <a:t>d'équilibr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468000" y="2637000"/>
            <a:ext cx="8675640" cy="1511280"/>
            <a:chOff x="468000" y="2637000"/>
            <a:chExt cx="8675640" cy="1511280"/>
          </a:xfrm>
        </p:grpSpPr>
        <p:sp>
          <p:nvSpPr>
            <p:cNvPr id="644" name=""/>
            <p:cNvSpPr/>
            <p:nvPr/>
          </p:nvSpPr>
          <p:spPr>
            <a:xfrm rot="10800000">
              <a:off x="468000" y="2636640"/>
              <a:ext cx="8590680" cy="1511280"/>
            </a:xfrm>
            <a:prstGeom prst="wedgeRoundRectCallout">
              <a:avLst>
                <a:gd name="adj1" fmla="val 6546"/>
                <a:gd name="adj2" fmla="val 63759"/>
                <a:gd name="adj3" fmla="val 16667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72640" y="2659320"/>
              <a:ext cx="145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ourquoi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8360" y="3069000"/>
              <a:ext cx="8675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086"/>
                  </a:solidFill>
                  <a:latin typeface="Arial"/>
                </a:rPr>
                <a:t>Construction d’une approche alternative</a:t>
              </a: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5086"/>
                  </a:solidFill>
                  <a:latin typeface="Arial"/>
                </a:rPr>
                <a:t>pour l'étude de la stabilité des systèmes discrets non-linéaires sans passer par les fonctions définies positive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DE7C-2207-4273-A4C8-9BDF7AB101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258920" y="5038560"/>
            <a:ext cx="6553080" cy="0"/>
          </a:xfrm>
          <a:prstGeom prst="line">
            <a:avLst/>
          </a:prstGeom>
          <a:ln w="9360">
            <a:solidFill>
              <a:srgbClr val="0050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236000" y="4508640"/>
            <a:ext cx="431640" cy="1152360"/>
          </a:xfrm>
          <a:prstGeom prst="ellipse">
            <a:avLst/>
          </a:prstGeom>
          <a:noFill/>
          <a:ln w="648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5551560" y="4292640"/>
            <a:ext cx="532800" cy="1368000"/>
            <a:chOff x="5551560" y="4292640"/>
            <a:chExt cx="532800" cy="1368000"/>
          </a:xfrm>
        </p:grpSpPr>
        <p:sp>
          <p:nvSpPr>
            <p:cNvPr id="650" name=""/>
            <p:cNvSpPr/>
            <p:nvPr/>
          </p:nvSpPr>
          <p:spPr>
            <a:xfrm>
              <a:off x="5551560" y="4292640"/>
              <a:ext cx="532800" cy="1368000"/>
            </a:xfrm>
            <a:prstGeom prst="ellipse">
              <a:avLst/>
            </a:prstGeom>
            <a:noFill/>
            <a:ln w="1260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872680" y="4974840"/>
              <a:ext cx="0" cy="138960"/>
            </a:xfrm>
            <a:prstGeom prst="line">
              <a:avLst/>
            </a:prstGeom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456240" y="4221000"/>
            <a:ext cx="505080" cy="1656000"/>
            <a:chOff x="6456240" y="4221000"/>
            <a:chExt cx="505080" cy="1656000"/>
          </a:xfrm>
        </p:grpSpPr>
        <p:sp>
          <p:nvSpPr>
            <p:cNvPr id="653" name=""/>
            <p:cNvSpPr/>
            <p:nvPr/>
          </p:nvSpPr>
          <p:spPr>
            <a:xfrm>
              <a:off x="6456240" y="4221000"/>
              <a:ext cx="505080" cy="1656000"/>
            </a:xfrm>
            <a:prstGeom prst="ellipse">
              <a:avLst/>
            </a:prstGeom>
            <a:noFill/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32720" y="4954680"/>
              <a:ext cx="0" cy="142920"/>
            </a:xfrm>
            <a:prstGeom prst="line">
              <a:avLst/>
            </a:prstGeom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755640" y="3811680"/>
            <a:ext cx="1584360" cy="2353680"/>
            <a:chOff x="755640" y="3811680"/>
            <a:chExt cx="1584360" cy="2353680"/>
          </a:xfrm>
        </p:grpSpPr>
        <p:grpSp>
          <p:nvGrpSpPr>
            <p:cNvPr id="656" name=""/>
            <p:cNvGrpSpPr/>
            <p:nvPr/>
          </p:nvGrpSpPr>
          <p:grpSpPr>
            <a:xfrm>
              <a:off x="755640" y="3933720"/>
              <a:ext cx="1079640" cy="2231640"/>
              <a:chOff x="755640" y="3933720"/>
              <a:chExt cx="1079640" cy="2231640"/>
            </a:xfrm>
          </p:grpSpPr>
          <p:sp>
            <p:nvSpPr>
              <p:cNvPr id="657" name=""/>
              <p:cNvSpPr/>
              <p:nvPr/>
            </p:nvSpPr>
            <p:spPr>
              <a:xfrm>
                <a:off x="755640" y="3933720"/>
                <a:ext cx="1079640" cy="2231640"/>
              </a:xfrm>
              <a:prstGeom prst="ellipse">
                <a:avLst/>
              </a:prstGeom>
              <a:noFill/>
              <a:ln w="381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"/>
                  <p:cNvSpPr txBox="1"/>
                  <p:nvPr/>
                </p:nvSpPr>
                <p:spPr>
                  <a:xfrm>
                    <a:off x="1187640" y="5085720"/>
                    <a:ext cx="299880" cy="43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59" name=""/>
              <p:cNvSpPr/>
              <p:nvPr/>
            </p:nvSpPr>
            <p:spPr>
              <a:xfrm>
                <a:off x="1332000" y="5012640"/>
                <a:ext cx="0" cy="7272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0" name=""/>
            <p:cNvSpPr/>
            <p:nvPr/>
          </p:nvSpPr>
          <p:spPr>
            <a:xfrm flipH="1">
              <a:off x="1619280" y="4076280"/>
              <a:ext cx="216000" cy="7128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1" name=""/>
                <p:cNvSpPr txBox="1"/>
                <p:nvPr/>
              </p:nvSpPr>
              <p:spPr>
                <a:xfrm>
                  <a:off x="1763640" y="3811680"/>
                  <a:ext cx="576360" cy="36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2" name=""/>
          <p:cNvGrpSpPr/>
          <p:nvPr/>
        </p:nvGrpSpPr>
        <p:grpSpPr>
          <a:xfrm>
            <a:off x="2843280" y="3789360"/>
            <a:ext cx="1368360" cy="2238120"/>
            <a:chOff x="2843280" y="3789360"/>
            <a:chExt cx="1368360" cy="2238120"/>
          </a:xfrm>
        </p:grpSpPr>
        <p:grpSp>
          <p:nvGrpSpPr>
            <p:cNvPr id="663" name=""/>
            <p:cNvGrpSpPr/>
            <p:nvPr/>
          </p:nvGrpSpPr>
          <p:grpSpPr>
            <a:xfrm>
              <a:off x="2843280" y="4017960"/>
              <a:ext cx="792000" cy="2009520"/>
              <a:chOff x="2843280" y="4017960"/>
              <a:chExt cx="792000" cy="2009520"/>
            </a:xfrm>
          </p:grpSpPr>
          <p:sp>
            <p:nvSpPr>
              <p:cNvPr id="664" name=""/>
              <p:cNvSpPr/>
              <p:nvPr/>
            </p:nvSpPr>
            <p:spPr>
              <a:xfrm>
                <a:off x="2843280" y="4017960"/>
                <a:ext cx="792000" cy="2009520"/>
              </a:xfrm>
              <a:prstGeom prst="ellipse">
                <a:avLst/>
              </a:prstGeom>
              <a:noFill/>
              <a:ln w="2844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203280" y="4973760"/>
                <a:ext cx="0" cy="9684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6" name=""/>
                  <p:cNvSpPr txBox="1"/>
                  <p:nvPr/>
                </p:nvSpPr>
                <p:spPr>
                  <a:xfrm>
                    <a:off x="3070080" y="5085720"/>
                    <a:ext cx="277560" cy="54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67" name=""/>
                <p:cNvSpPr txBox="1"/>
                <p:nvPr/>
              </p:nvSpPr>
              <p:spPr>
                <a:xfrm>
                  <a:off x="3635280" y="3789360"/>
                  <a:ext cx="57636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8" name=""/>
            <p:cNvSpPr/>
            <p:nvPr/>
          </p:nvSpPr>
          <p:spPr>
            <a:xfrm flipH="1">
              <a:off x="3565080" y="4197240"/>
              <a:ext cx="142920" cy="19224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2058840" y="189000"/>
            <a:ext cx="51656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incipe de la généralisati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258920" y="3645000"/>
            <a:ext cx="6697800" cy="2736720"/>
            <a:chOff x="1258920" y="3645000"/>
            <a:chExt cx="6697800" cy="2736720"/>
          </a:xfrm>
        </p:grpSpPr>
        <p:sp>
          <p:nvSpPr>
            <p:cNvPr id="671" name=""/>
            <p:cNvSpPr/>
            <p:nvPr/>
          </p:nvSpPr>
          <p:spPr>
            <a:xfrm>
              <a:off x="1258920" y="3645000"/>
              <a:ext cx="6697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258920" y="6381720"/>
              <a:ext cx="6697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611280" y="3645000"/>
            <a:ext cx="1368360" cy="27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116000" y="4221000"/>
                <a:ext cx="36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5" name=""/>
          <p:cNvGrpSpPr/>
          <p:nvPr/>
        </p:nvGrpSpPr>
        <p:grpSpPr>
          <a:xfrm>
            <a:off x="277200" y="1628640"/>
            <a:ext cx="7383240" cy="1374840"/>
            <a:chOff x="277200" y="1628640"/>
            <a:chExt cx="7383240" cy="1374840"/>
          </a:xfrm>
        </p:grpSpPr>
        <p:grpSp>
          <p:nvGrpSpPr>
            <p:cNvPr id="676" name=""/>
            <p:cNvGrpSpPr/>
            <p:nvPr/>
          </p:nvGrpSpPr>
          <p:grpSpPr>
            <a:xfrm>
              <a:off x="774720" y="2492280"/>
              <a:ext cx="5005440" cy="511200"/>
              <a:chOff x="774720" y="2492280"/>
              <a:chExt cx="5005440" cy="511200"/>
            </a:xfrm>
          </p:grpSpPr>
          <mc:AlternateContent>
            <mc:Choice xmlns:a14="http://schemas.microsoft.com/office/drawing/2010/main" Requires="a14">
              <p:sp>
                <p:nvSpPr>
                  <p:cNvPr id="677" name=""/>
                  <p:cNvSpPr txBox="1"/>
                  <p:nvPr/>
                </p:nvSpPr>
                <p:spPr>
                  <a:xfrm>
                    <a:off x="2524320" y="2492280"/>
                    <a:ext cx="3255840" cy="511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78" name=""/>
              <p:cNvSpPr/>
              <p:nvPr/>
            </p:nvSpPr>
            <p:spPr>
              <a:xfrm>
                <a:off x="774720" y="2563920"/>
                <a:ext cx="43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5086"/>
                    </a:solidFill>
                    <a:latin typeface="Arial"/>
                  </a:rPr>
                  <a:t>et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277200" y="1628640"/>
              <a:ext cx="7383240" cy="901800"/>
              <a:chOff x="277200" y="1628640"/>
              <a:chExt cx="7383240" cy="901800"/>
            </a:xfrm>
          </p:grpSpPr>
          <mc:AlternateContent>
            <mc:Choice xmlns:a14="http://schemas.microsoft.com/office/drawing/2010/main" Requires="a14">
              <p:sp>
                <p:nvSpPr>
                  <p:cNvPr id="680" name=""/>
                  <p:cNvSpPr txBox="1"/>
                  <p:nvPr/>
                </p:nvSpPr>
                <p:spPr>
                  <a:xfrm>
                    <a:off x="3530520" y="2019240"/>
                    <a:ext cx="2976840" cy="511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k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81" name=""/>
              <p:cNvSpPr/>
              <p:nvPr/>
            </p:nvSpPr>
            <p:spPr>
              <a:xfrm>
                <a:off x="277200" y="1628640"/>
                <a:ext cx="738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5086"/>
                    </a:solidFill>
                    <a:latin typeface="Arial"/>
                  </a:rPr>
                  <a:t>La stabilité asymptotique est assurée s’il existe 2 ensembles invariants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2" name=""/>
                  <p:cNvSpPr txBox="1"/>
                  <p:nvPr/>
                </p:nvSpPr>
                <p:spPr>
                  <a:xfrm>
                    <a:off x="577800" y="2019240"/>
                    <a:ext cx="944640" cy="511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83" name=""/>
              <p:cNvSpPr/>
              <p:nvPr/>
            </p:nvSpPr>
            <p:spPr>
              <a:xfrm>
                <a:off x="2072520" y="2060640"/>
                <a:ext cx="97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5086"/>
                    </a:solidFill>
                    <a:latin typeface="Arial"/>
                  </a:rPr>
                  <a:t>tels qu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230040" y="5229360"/>
            <a:ext cx="393840" cy="1143000"/>
            <a:chOff x="230040" y="5229360"/>
            <a:chExt cx="393840" cy="114300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230040" y="5862600"/>
                  <a:ext cx="39384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6" name=""/>
            <p:cNvSpPr/>
            <p:nvPr/>
          </p:nvSpPr>
          <p:spPr>
            <a:xfrm flipV="1">
              <a:off x="468360" y="5229360"/>
              <a:ext cx="142920" cy="57600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7451640" y="5013360"/>
            <a:ext cx="0" cy="71280"/>
          </a:xfrm>
          <a:prstGeom prst="line">
            <a:avLst/>
          </a:prstGeom>
          <a:ln w="9360">
            <a:solidFill>
              <a:srgbClr val="005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971640" y="4581360"/>
            <a:ext cx="647640" cy="1008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258920" y="4581360"/>
            <a:ext cx="6769080" cy="1008360"/>
            <a:chOff x="1258920" y="4581360"/>
            <a:chExt cx="6769080" cy="1008360"/>
          </a:xfrm>
        </p:grpSpPr>
        <p:sp>
          <p:nvSpPr>
            <p:cNvPr id="690" name=""/>
            <p:cNvSpPr/>
            <p:nvPr/>
          </p:nvSpPr>
          <p:spPr>
            <a:xfrm>
              <a:off x="1258920" y="4581360"/>
              <a:ext cx="676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258920" y="5589720"/>
              <a:ext cx="676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4140360" y="4076640"/>
            <a:ext cx="1231560" cy="1799280"/>
            <a:chOff x="4140360" y="4076640"/>
            <a:chExt cx="1231560" cy="1799280"/>
          </a:xfrm>
        </p:grpSpPr>
        <p:grpSp>
          <p:nvGrpSpPr>
            <p:cNvPr id="693" name=""/>
            <p:cNvGrpSpPr/>
            <p:nvPr/>
          </p:nvGrpSpPr>
          <p:grpSpPr>
            <a:xfrm>
              <a:off x="4140360" y="4143600"/>
              <a:ext cx="708120" cy="1732320"/>
              <a:chOff x="4140360" y="4143600"/>
              <a:chExt cx="708120" cy="1732320"/>
            </a:xfrm>
          </p:grpSpPr>
          <p:sp>
            <p:nvSpPr>
              <p:cNvPr id="694" name=""/>
              <p:cNvSpPr/>
              <p:nvPr/>
            </p:nvSpPr>
            <p:spPr>
              <a:xfrm>
                <a:off x="4140360" y="4143600"/>
                <a:ext cx="708120" cy="1732320"/>
              </a:xfrm>
              <a:prstGeom prst="ellipse">
                <a:avLst/>
              </a:prstGeom>
              <a:noFill/>
              <a:ln w="1908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462200" y="4967640"/>
                <a:ext cx="0" cy="8352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96" name=""/>
                  <p:cNvSpPr txBox="1"/>
                  <p:nvPr/>
                </p:nvSpPr>
                <p:spPr>
                  <a:xfrm>
                    <a:off x="4333320" y="5064120"/>
                    <a:ext cx="269280" cy="467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97" name=""/>
                <p:cNvSpPr txBox="1"/>
                <p:nvPr/>
              </p:nvSpPr>
              <p:spPr>
                <a:xfrm>
                  <a:off x="4841280" y="4076640"/>
                  <a:ext cx="530640" cy="40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98" name=""/>
            <p:cNvSpPr/>
            <p:nvPr/>
          </p:nvSpPr>
          <p:spPr>
            <a:xfrm flipH="1">
              <a:off x="4720680" y="4241880"/>
              <a:ext cx="127440" cy="16524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547280" y="5445000"/>
            <a:ext cx="981720" cy="1214640"/>
            <a:chOff x="1547280" y="5445000"/>
            <a:chExt cx="981720" cy="1214640"/>
          </a:xfrm>
        </p:grpSpPr>
        <mc:AlternateContent>
          <mc:Choice xmlns:a14="http://schemas.microsoft.com/office/drawing/2010/main" Requires="a14">
            <p:sp>
              <p:nvSpPr>
                <p:cNvPr id="700" name=""/>
                <p:cNvSpPr txBox="1"/>
                <p:nvPr/>
              </p:nvSpPr>
              <p:spPr>
                <a:xfrm>
                  <a:off x="2181240" y="6149880"/>
                  <a:ext cx="34776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01" name=""/>
            <p:cNvSpPr/>
            <p:nvPr/>
          </p:nvSpPr>
          <p:spPr>
            <a:xfrm flipH="1" flipV="1">
              <a:off x="1547280" y="5445000"/>
              <a:ext cx="847800" cy="64800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181080" y="836640"/>
            <a:ext cx="9144000" cy="931680"/>
            <a:chOff x="181080" y="836640"/>
            <a:chExt cx="9144000" cy="931680"/>
          </a:xfrm>
        </p:grpSpPr>
        <p:sp>
          <p:nvSpPr>
            <p:cNvPr id="703" name=""/>
            <p:cNvSpPr/>
            <p:nvPr/>
          </p:nvSpPr>
          <p:spPr>
            <a:xfrm>
              <a:off x="181080" y="8366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On choisit une fonction quelconque 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</a:rPr>
                <a:t>k,x</a:t>
              </a: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fr-FR" sz="1800" spc="-1" strike="noStrike">
                  <a:solidFill>
                    <a:srgbClr val="005086"/>
                  </a:solidFill>
                  <a:latin typeface="Times New Roman"/>
                </a:rPr>
                <a:t> </a:t>
              </a: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et on construit l'ensemble qui lui est associé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3313080" y="1268280"/>
                  <a:ext cx="28702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&lt;</m:t>
                          </m:r>
                          <m:r>
                            <m:t xml:space="preserve">Λ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5" name=""/>
          <p:cNvSpPr/>
          <p:nvPr/>
        </p:nvSpPr>
        <p:spPr>
          <a:xfrm>
            <a:off x="325800" y="30290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086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625320" y="2981160"/>
                <a:ext cx="3286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Λ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7" name=""/>
          <p:cNvSpPr/>
          <p:nvPr/>
        </p:nvSpPr>
        <p:spPr>
          <a:xfrm>
            <a:off x="5418720" y="3057480"/>
            <a:ext cx="33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086"/>
                </a:solidFill>
                <a:latin typeface="Arial"/>
              </a:rPr>
              <a:t>est le domaine exacte de la 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24360" y="3162240"/>
            <a:ext cx="360360" cy="122400"/>
          </a:xfrm>
          <a:prstGeom prst="rightArrow">
            <a:avLst>
              <a:gd name="adj1" fmla="val 50000"/>
              <a:gd name="adj2" fmla="val 73603"/>
            </a:avLst>
          </a:prstGeom>
          <a:solidFill>
            <a:srgbClr val="005996"/>
          </a:solidFill>
          <a:ln w="9360">
            <a:solidFill>
              <a:srgbClr val="0059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4336920" y="2997360"/>
                <a:ext cx="9558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E1D-83E4-415A-9E02-32A4A1B7CD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0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2500"/>
                            </p:stCondLst>
                            <p:childTnLst>
                              <p:par>
                                <p:cTn id="7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68560" y="949320"/>
            <a:ext cx="739800" cy="2232000"/>
          </a:xfrm>
          <a:prstGeom prst="ellipse">
            <a:avLst/>
          </a:prstGeom>
          <a:noFill/>
          <a:ln w="2844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157640" y="2028960"/>
            <a:ext cx="4626000" cy="504720"/>
            <a:chOff x="4157640" y="2028960"/>
            <a:chExt cx="4626000" cy="504720"/>
          </a:xfrm>
        </p:grpSpPr>
        <p:sp>
          <p:nvSpPr>
            <p:cNvPr id="712" name=""/>
            <p:cNvSpPr/>
            <p:nvPr/>
          </p:nvSpPr>
          <p:spPr>
            <a:xfrm>
              <a:off x="4248360" y="2060640"/>
              <a:ext cx="4535280" cy="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3" name=""/>
                <p:cNvSpPr txBox="1"/>
                <p:nvPr/>
              </p:nvSpPr>
              <p:spPr>
                <a:xfrm>
                  <a:off x="4157640" y="2101680"/>
                  <a:ext cx="20016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14" name=""/>
            <p:cNvSpPr/>
            <p:nvPr/>
          </p:nvSpPr>
          <p:spPr>
            <a:xfrm>
              <a:off x="4254480" y="2028960"/>
              <a:ext cx="0" cy="72720"/>
            </a:xfrm>
            <a:prstGeom prst="line">
              <a:avLst/>
            </a:prstGeom>
            <a:ln w="2844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4637160" y="76320"/>
                <a:ext cx="44719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⊂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6" name=""/>
          <p:cNvGrpSpPr/>
          <p:nvPr/>
        </p:nvGrpSpPr>
        <p:grpSpPr>
          <a:xfrm>
            <a:off x="4248000" y="692280"/>
            <a:ext cx="4896000" cy="2736720"/>
            <a:chOff x="4248000" y="692280"/>
            <a:chExt cx="4896000" cy="2736720"/>
          </a:xfrm>
        </p:grpSpPr>
        <p:sp>
          <p:nvSpPr>
            <p:cNvPr id="717" name=""/>
            <p:cNvSpPr/>
            <p:nvPr/>
          </p:nvSpPr>
          <p:spPr>
            <a:xfrm>
              <a:off x="4248000" y="692280"/>
              <a:ext cx="489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248000" y="3429000"/>
              <a:ext cx="489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726000" y="692280"/>
            <a:ext cx="1025280" cy="27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067280" y="1197000"/>
                <a:ext cx="3110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1" name=""/>
          <p:cNvGrpSpPr/>
          <p:nvPr/>
        </p:nvGrpSpPr>
        <p:grpSpPr>
          <a:xfrm>
            <a:off x="3024360" y="2421000"/>
            <a:ext cx="720720" cy="563400"/>
            <a:chOff x="3024360" y="2421000"/>
            <a:chExt cx="720720" cy="563400"/>
          </a:xfrm>
        </p:grpSpPr>
        <mc:AlternateContent>
          <mc:Choice xmlns:a14="http://schemas.microsoft.com/office/drawing/2010/main" Requires="a14">
            <p:sp>
              <p:nvSpPr>
                <p:cNvPr id="722" name=""/>
                <p:cNvSpPr txBox="1"/>
                <p:nvPr/>
              </p:nvSpPr>
              <p:spPr>
                <a:xfrm>
                  <a:off x="3024360" y="2565360"/>
                  <a:ext cx="2538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3" name=""/>
            <p:cNvSpPr/>
            <p:nvPr/>
          </p:nvSpPr>
          <p:spPr>
            <a:xfrm flipV="1">
              <a:off x="3384720" y="2421000"/>
              <a:ext cx="360360" cy="21600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4086360" y="1628640"/>
            <a:ext cx="433080" cy="1008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319640" y="1628640"/>
            <a:ext cx="4529160" cy="1008360"/>
            <a:chOff x="4319640" y="1628640"/>
            <a:chExt cx="4529160" cy="1008360"/>
          </a:xfrm>
        </p:grpSpPr>
        <p:sp>
          <p:nvSpPr>
            <p:cNvPr id="726" name=""/>
            <p:cNvSpPr/>
            <p:nvPr/>
          </p:nvSpPr>
          <p:spPr>
            <a:xfrm>
              <a:off x="4319640" y="1628640"/>
              <a:ext cx="4529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19640" y="2637000"/>
              <a:ext cx="4529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3995640" y="115920"/>
            <a:ext cx="936360" cy="1512360"/>
            <a:chOff x="3995640" y="115920"/>
            <a:chExt cx="936360" cy="1512360"/>
          </a:xfrm>
        </p:grpSpPr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3995640" y="115920"/>
                  <a:ext cx="721080" cy="37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⊂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0" name=""/>
            <p:cNvSpPr/>
            <p:nvPr/>
          </p:nvSpPr>
          <p:spPr>
            <a:xfrm>
              <a:off x="4196160" y="459720"/>
              <a:ext cx="735840" cy="116856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4376880" y="5234040"/>
            <a:ext cx="4649760" cy="1440"/>
          </a:xfrm>
          <a:prstGeom prst="line">
            <a:avLst/>
          </a:prstGeom>
          <a:ln w="9360">
            <a:solidFill>
              <a:srgbClr val="0050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8317080" y="1306440"/>
            <a:ext cx="377280" cy="1368000"/>
            <a:chOff x="8317080" y="1306440"/>
            <a:chExt cx="377280" cy="1368000"/>
          </a:xfrm>
        </p:grpSpPr>
        <p:sp>
          <p:nvSpPr>
            <p:cNvPr id="733" name=""/>
            <p:cNvSpPr/>
            <p:nvPr/>
          </p:nvSpPr>
          <p:spPr>
            <a:xfrm>
              <a:off x="8317080" y="1306440"/>
              <a:ext cx="377280" cy="1368000"/>
            </a:xfrm>
            <a:prstGeom prst="ellipse">
              <a:avLst/>
            </a:prstGeom>
            <a:noFill/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544600" y="1988640"/>
              <a:ext cx="0" cy="138960"/>
            </a:xfrm>
            <a:prstGeom prst="line">
              <a:avLst/>
            </a:prstGeom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3879720" y="4006800"/>
            <a:ext cx="1123560" cy="2354400"/>
            <a:chOff x="3879720" y="4006800"/>
            <a:chExt cx="1123560" cy="2354400"/>
          </a:xfrm>
        </p:grpSpPr>
        <p:grpSp>
          <p:nvGrpSpPr>
            <p:cNvPr id="736" name=""/>
            <p:cNvGrpSpPr/>
            <p:nvPr/>
          </p:nvGrpSpPr>
          <p:grpSpPr>
            <a:xfrm>
              <a:off x="3879720" y="4129200"/>
              <a:ext cx="765720" cy="2232000"/>
              <a:chOff x="3879720" y="4129200"/>
              <a:chExt cx="765720" cy="2232000"/>
            </a:xfrm>
          </p:grpSpPr>
          <p:sp>
            <p:nvSpPr>
              <p:cNvPr id="737" name=""/>
              <p:cNvSpPr/>
              <p:nvPr/>
            </p:nvSpPr>
            <p:spPr>
              <a:xfrm>
                <a:off x="3879720" y="4129200"/>
                <a:ext cx="765720" cy="2232000"/>
              </a:xfrm>
              <a:prstGeom prst="ellipse">
                <a:avLst/>
              </a:prstGeom>
              <a:noFill/>
              <a:ln w="2844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38" name=""/>
                  <p:cNvSpPr txBox="1"/>
                  <p:nvPr/>
                </p:nvSpPr>
                <p:spPr>
                  <a:xfrm>
                    <a:off x="4186080" y="5281560"/>
                    <a:ext cx="212400" cy="43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39" name=""/>
              <p:cNvSpPr/>
              <p:nvPr/>
            </p:nvSpPr>
            <p:spPr>
              <a:xfrm>
                <a:off x="4288320" y="5208480"/>
                <a:ext cx="0" cy="7308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 flipH="1">
              <a:off x="4491720" y="4271760"/>
              <a:ext cx="153000" cy="7164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1" name=""/>
                <p:cNvSpPr txBox="1"/>
                <p:nvPr/>
              </p:nvSpPr>
              <p:spPr>
                <a:xfrm>
                  <a:off x="4594680" y="4006800"/>
                  <a:ext cx="40860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2" name=""/>
          <p:cNvGrpSpPr/>
          <p:nvPr/>
        </p:nvGrpSpPr>
        <p:grpSpPr>
          <a:xfrm>
            <a:off x="5292720" y="4149720"/>
            <a:ext cx="1150560" cy="2072520"/>
            <a:chOff x="5292720" y="4149720"/>
            <a:chExt cx="1150560" cy="2072520"/>
          </a:xfrm>
        </p:grpSpPr>
        <p:grpSp>
          <p:nvGrpSpPr>
            <p:cNvPr id="743" name=""/>
            <p:cNvGrpSpPr/>
            <p:nvPr/>
          </p:nvGrpSpPr>
          <p:grpSpPr>
            <a:xfrm>
              <a:off x="5292720" y="4361400"/>
              <a:ext cx="666000" cy="1860840"/>
              <a:chOff x="5292720" y="4361400"/>
              <a:chExt cx="666000" cy="1860840"/>
            </a:xfrm>
          </p:grpSpPr>
          <p:sp>
            <p:nvSpPr>
              <p:cNvPr id="744" name=""/>
              <p:cNvSpPr/>
              <p:nvPr/>
            </p:nvSpPr>
            <p:spPr>
              <a:xfrm>
                <a:off x="5292720" y="4361400"/>
                <a:ext cx="666000" cy="1860840"/>
              </a:xfrm>
              <a:prstGeom prst="ellipse">
                <a:avLst/>
              </a:prstGeom>
              <a:noFill/>
              <a:ln w="1908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595480" y="5246640"/>
                <a:ext cx="0" cy="8964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6" name=""/>
                  <p:cNvSpPr txBox="1"/>
                  <p:nvPr/>
                </p:nvSpPr>
                <p:spPr>
                  <a:xfrm>
                    <a:off x="5483520" y="5350320"/>
                    <a:ext cx="233280" cy="502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47" name=""/>
                <p:cNvSpPr txBox="1"/>
                <p:nvPr/>
              </p:nvSpPr>
              <p:spPr>
                <a:xfrm>
                  <a:off x="5958720" y="4149720"/>
                  <a:ext cx="4845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8" name=""/>
            <p:cNvSpPr/>
            <p:nvPr/>
          </p:nvSpPr>
          <p:spPr>
            <a:xfrm flipH="1">
              <a:off x="5899680" y="4527360"/>
              <a:ext cx="119880" cy="17784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4284720" y="3840120"/>
            <a:ext cx="4753080" cy="2736720"/>
            <a:chOff x="4284720" y="3840120"/>
            <a:chExt cx="4753080" cy="2736720"/>
          </a:xfrm>
        </p:grpSpPr>
        <p:sp>
          <p:nvSpPr>
            <p:cNvPr id="750" name=""/>
            <p:cNvSpPr/>
            <p:nvPr/>
          </p:nvSpPr>
          <p:spPr>
            <a:xfrm>
              <a:off x="4284720" y="3840120"/>
              <a:ext cx="4753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284720" y="6576840"/>
              <a:ext cx="4753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3728880" y="3840120"/>
            <a:ext cx="1130400" cy="27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233960" y="4416480"/>
                <a:ext cx="255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4" name=""/>
          <p:cNvGrpSpPr/>
          <p:nvPr/>
        </p:nvGrpSpPr>
        <p:grpSpPr>
          <a:xfrm>
            <a:off x="3276720" y="3429000"/>
            <a:ext cx="574560" cy="792000"/>
            <a:chOff x="3276720" y="3429000"/>
            <a:chExt cx="574560" cy="792000"/>
          </a:xfrm>
        </p:grpSpPr>
        <mc:AlternateContent>
          <mc:Choice xmlns:a14="http://schemas.microsoft.com/office/drawing/2010/main" Requires="a14">
            <p:sp>
              <p:nvSpPr>
                <p:cNvPr id="755" name=""/>
                <p:cNvSpPr txBox="1"/>
                <p:nvPr/>
              </p:nvSpPr>
              <p:spPr>
                <a:xfrm>
                  <a:off x="3276720" y="3429000"/>
                  <a:ext cx="26676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6" name=""/>
            <p:cNvSpPr/>
            <p:nvPr/>
          </p:nvSpPr>
          <p:spPr>
            <a:xfrm>
              <a:off x="3562200" y="3789360"/>
              <a:ext cx="289080" cy="43164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4089240" y="4776840"/>
            <a:ext cx="460440" cy="1008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4376880" y="4776840"/>
            <a:ext cx="4803480" cy="1008000"/>
            <a:chOff x="4376880" y="4776840"/>
            <a:chExt cx="4803480" cy="1008000"/>
          </a:xfrm>
        </p:grpSpPr>
        <p:sp>
          <p:nvSpPr>
            <p:cNvPr id="759" name=""/>
            <p:cNvSpPr/>
            <p:nvPr/>
          </p:nvSpPr>
          <p:spPr>
            <a:xfrm>
              <a:off x="4376880" y="4776840"/>
              <a:ext cx="4803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376880" y="5784840"/>
              <a:ext cx="48034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093080" y="4005360"/>
            <a:ext cx="1510920" cy="2375280"/>
            <a:chOff x="7093080" y="4005360"/>
            <a:chExt cx="1510920" cy="2375280"/>
          </a:xfrm>
        </p:grpSpPr>
        <p:grpSp>
          <p:nvGrpSpPr>
            <p:cNvPr id="762" name=""/>
            <p:cNvGrpSpPr/>
            <p:nvPr/>
          </p:nvGrpSpPr>
          <p:grpSpPr>
            <a:xfrm>
              <a:off x="7093080" y="4093920"/>
              <a:ext cx="868320" cy="2286720"/>
              <a:chOff x="7093080" y="4093920"/>
              <a:chExt cx="868320" cy="2286720"/>
            </a:xfrm>
          </p:grpSpPr>
          <p:sp>
            <p:nvSpPr>
              <p:cNvPr id="763" name=""/>
              <p:cNvSpPr/>
              <p:nvPr/>
            </p:nvSpPr>
            <p:spPr>
              <a:xfrm>
                <a:off x="7093080" y="4093920"/>
                <a:ext cx="868320" cy="2286720"/>
              </a:xfrm>
              <a:prstGeom prst="ellipse">
                <a:avLst/>
              </a:prstGeom>
              <a:noFill/>
              <a:ln w="1260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488000" y="5181480"/>
                <a:ext cx="0" cy="11052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65" name=""/>
                  <p:cNvSpPr txBox="1"/>
                  <p:nvPr/>
                </p:nvSpPr>
                <p:spPr>
                  <a:xfrm>
                    <a:off x="7329600" y="5308920"/>
                    <a:ext cx="330480" cy="61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7953120" y="4005360"/>
                  <a:ext cx="650880" cy="53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7" name=""/>
            <p:cNvSpPr/>
            <p:nvPr/>
          </p:nvSpPr>
          <p:spPr>
            <a:xfrm flipH="1">
              <a:off x="7804440" y="4223520"/>
              <a:ext cx="156600" cy="21816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4716360" y="6093000"/>
                <a:ext cx="289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9" name=""/>
          <p:cNvSpPr/>
          <p:nvPr/>
        </p:nvSpPr>
        <p:spPr>
          <a:xfrm flipH="1" flipV="1">
            <a:off x="4500720" y="5516280"/>
            <a:ext cx="358560" cy="649080"/>
          </a:xfrm>
          <a:prstGeom prst="line">
            <a:avLst/>
          </a:prstGeom>
          <a:ln w="9360">
            <a:solidFill>
              <a:srgbClr val="0059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216000" y="3792600"/>
            <a:ext cx="2987640" cy="931680"/>
            <a:chOff x="216000" y="3792600"/>
            <a:chExt cx="2987640" cy="931680"/>
          </a:xfrm>
        </p:grpSpPr>
        <p:sp>
          <p:nvSpPr>
            <p:cNvPr id="771" name=""/>
            <p:cNvSpPr/>
            <p:nvPr/>
          </p:nvSpPr>
          <p:spPr>
            <a:xfrm>
              <a:off x="216000" y="3792600"/>
              <a:ext cx="29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Fonction quelconque 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Times New Roman"/>
                </a:rPr>
                <a:t>k,x</a:t>
              </a: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2" name=""/>
                <p:cNvSpPr txBox="1"/>
                <p:nvPr/>
              </p:nvSpPr>
              <p:spPr>
                <a:xfrm>
                  <a:off x="250920" y="4224240"/>
                  <a:ext cx="28702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:</m:t>
                          </m:r>
                          <m:r>
                            <m:t xml:space="preserve"> </m:t>
                          </m:r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&lt;</m:t>
                          </m:r>
                          <m:r>
                            <m:t xml:space="preserve">Λ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3" name=""/>
          <p:cNvGrpSpPr/>
          <p:nvPr/>
        </p:nvGrpSpPr>
        <p:grpSpPr>
          <a:xfrm>
            <a:off x="145080" y="4724280"/>
            <a:ext cx="3414600" cy="1190880"/>
            <a:chOff x="145080" y="4724280"/>
            <a:chExt cx="3414600" cy="1190880"/>
          </a:xfrm>
        </p:grpSpPr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428400" y="5403960"/>
                  <a:ext cx="258444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N</m:t>
                      </m:r>
                      <m:r>
                        <m:t xml:space="preserve">⊂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Λ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⊂</m:t>
                      </m:r>
                      <m:r>
                        <m:t xml:space="preserve"> </m:t>
                      </m:r>
                      <m:r>
                        <m:t xml:space="preserve">S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5" name=""/>
            <p:cNvSpPr/>
            <p:nvPr/>
          </p:nvSpPr>
          <p:spPr>
            <a:xfrm>
              <a:off x="145080" y="4724280"/>
              <a:ext cx="34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Il existe 2 ensembles invariant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6" name=""/>
                <p:cNvSpPr txBox="1"/>
                <p:nvPr/>
              </p:nvSpPr>
              <p:spPr>
                <a:xfrm>
                  <a:off x="610920" y="5057640"/>
                  <a:ext cx="6922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S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7" name=""/>
            <p:cNvSpPr/>
            <p:nvPr/>
          </p:nvSpPr>
          <p:spPr>
            <a:xfrm>
              <a:off x="1762920" y="508464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tels qu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241200" y="5877000"/>
                <a:ext cx="2862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9" name=""/>
          <p:cNvSpPr/>
          <p:nvPr/>
        </p:nvSpPr>
        <p:spPr>
          <a:xfrm>
            <a:off x="185400" y="189000"/>
            <a:ext cx="339624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5086"/>
                </a:solidFill>
                <a:latin typeface="Arial"/>
              </a:rPr>
              <a:t>Méthode de Lyapun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5086"/>
                </a:solidFill>
                <a:latin typeface="Arial"/>
              </a:rPr>
              <a:t>18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86480" y="3178080"/>
            <a:ext cx="2431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086"/>
                </a:solidFill>
                <a:latin typeface="Arial"/>
              </a:rPr>
              <a:t>Notre appro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109080" y="1098720"/>
            <a:ext cx="3672360" cy="1540800"/>
            <a:chOff x="109080" y="1098720"/>
            <a:chExt cx="3672360" cy="1540800"/>
          </a:xfrm>
        </p:grpSpPr>
        <p:sp>
          <p:nvSpPr>
            <p:cNvPr id="782" name=""/>
            <p:cNvSpPr/>
            <p:nvPr/>
          </p:nvSpPr>
          <p:spPr>
            <a:xfrm>
              <a:off x="109080" y="1098720"/>
              <a:ext cx="3247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k,x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fr-FR" sz="1800" spc="-1" strike="noStrike">
                  <a:solidFill>
                    <a:srgbClr val="005086"/>
                  </a:solidFill>
                  <a:latin typeface="Arial"/>
                </a:rPr>
                <a:t> définie positiv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5086"/>
                  </a:solidFill>
                  <a:latin typeface="Arial"/>
                </a:rPr>
                <a:t>et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« </a:t>
              </a:r>
              <a:r>
                <a:rPr b="1" lang="fr-FR" sz="1800" spc="-1" strike="noStrike">
                  <a:solidFill>
                    <a:srgbClr val="ff0000"/>
                  </a:solidFill>
                  <a:latin typeface="Arial"/>
                </a:rPr>
                <a:t>décrescente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 »</a:t>
              </a: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5086"/>
                  </a:solidFill>
                  <a:latin typeface="Arial"/>
                </a:rPr>
                <a:t>sur un ensemble invariant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2360" y="2179800"/>
              <a:ext cx="222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</a:rPr>
                <a:t>k,x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fr-FR" sz="2400" spc="-1" strike="noStrike">
                  <a:solidFill>
                    <a:srgbClr val="005086"/>
                  </a:solidFill>
                  <a:latin typeface="Times New Roman"/>
                </a:rPr>
                <a:t>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r>
                <a:rPr b="1" lang="fr-FR" sz="1800" spc="-1" strike="noStrike">
                  <a:solidFill>
                    <a:srgbClr val="005086"/>
                  </a:solidFill>
                  <a:latin typeface="Arial"/>
                </a:rPr>
                <a:t> sur </a:t>
              </a:r>
              <a:r>
                <a:rPr b="1" i="1" lang="fr-FR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"/>
                <p:cNvSpPr txBox="1"/>
                <p:nvPr/>
              </p:nvSpPr>
              <p:spPr>
                <a:xfrm>
                  <a:off x="2197080" y="1316160"/>
                  <a:ext cx="1584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≤</m:t>
                      </m:r>
                      <m:r>
                        <m:t xml:space="preserve">ψ</m:t>
                      </m:r>
                      <m:r>
                        <m:t xml:space="preserve">(</m:t>
                      </m:r>
                      <m:d>
                        <m:dPr>
                          <m:begChr m:val="‖"/>
                          <m:endChr m:val="‖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5372280" y="1173240"/>
                <a:ext cx="495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6877080" y="1479600"/>
                <a:ext cx="576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7" name=""/>
          <p:cNvGrpSpPr/>
          <p:nvPr/>
        </p:nvGrpSpPr>
        <p:grpSpPr>
          <a:xfrm>
            <a:off x="5292720" y="911160"/>
            <a:ext cx="1130400" cy="2085480"/>
            <a:chOff x="5292720" y="911160"/>
            <a:chExt cx="1130400" cy="2085480"/>
          </a:xfrm>
        </p:grpSpPr>
        <p:grpSp>
          <p:nvGrpSpPr>
            <p:cNvPr id="788" name=""/>
            <p:cNvGrpSpPr/>
            <p:nvPr/>
          </p:nvGrpSpPr>
          <p:grpSpPr>
            <a:xfrm>
              <a:off x="5292720" y="1134360"/>
              <a:ext cx="665640" cy="1862280"/>
              <a:chOff x="5292720" y="1134360"/>
              <a:chExt cx="665640" cy="1862280"/>
            </a:xfrm>
          </p:grpSpPr>
          <p:sp>
            <p:nvSpPr>
              <p:cNvPr id="789" name=""/>
              <p:cNvSpPr/>
              <p:nvPr/>
            </p:nvSpPr>
            <p:spPr>
              <a:xfrm>
                <a:off x="5292720" y="1134360"/>
                <a:ext cx="665640" cy="1862280"/>
              </a:xfrm>
              <a:prstGeom prst="ellipse">
                <a:avLst/>
              </a:prstGeom>
              <a:noFill/>
              <a:ln w="1908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595120" y="2020320"/>
                <a:ext cx="0" cy="9000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91" name=""/>
                  <p:cNvSpPr txBox="1"/>
                  <p:nvPr/>
                </p:nvSpPr>
                <p:spPr>
                  <a:xfrm>
                    <a:off x="5483520" y="2124000"/>
                    <a:ext cx="233280" cy="502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92" name=""/>
                <p:cNvSpPr txBox="1"/>
                <p:nvPr/>
              </p:nvSpPr>
              <p:spPr>
                <a:xfrm>
                  <a:off x="5978520" y="911160"/>
                  <a:ext cx="44460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3" name=""/>
            <p:cNvSpPr/>
            <p:nvPr/>
          </p:nvSpPr>
          <p:spPr>
            <a:xfrm flipH="1">
              <a:off x="5899320" y="1300680"/>
              <a:ext cx="119880" cy="17784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6877080" y="765000"/>
            <a:ext cx="1224000" cy="2447640"/>
            <a:chOff x="6877080" y="765000"/>
            <a:chExt cx="1224000" cy="2447640"/>
          </a:xfrm>
        </p:grpSpPr>
        <p:grpSp>
          <p:nvGrpSpPr>
            <p:cNvPr id="795" name=""/>
            <p:cNvGrpSpPr/>
            <p:nvPr/>
          </p:nvGrpSpPr>
          <p:grpSpPr>
            <a:xfrm>
              <a:off x="6877080" y="925560"/>
              <a:ext cx="588960" cy="2287080"/>
              <a:chOff x="6877080" y="925560"/>
              <a:chExt cx="588960" cy="2287080"/>
            </a:xfrm>
          </p:grpSpPr>
          <p:sp>
            <p:nvSpPr>
              <p:cNvPr id="796" name=""/>
              <p:cNvSpPr/>
              <p:nvPr/>
            </p:nvSpPr>
            <p:spPr>
              <a:xfrm>
                <a:off x="6877080" y="925560"/>
                <a:ext cx="588960" cy="2287080"/>
              </a:xfrm>
              <a:prstGeom prst="ellipse">
                <a:avLst/>
              </a:prstGeom>
              <a:noFill/>
              <a:ln w="1260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144920" y="2013480"/>
                <a:ext cx="0" cy="11052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98" name=""/>
                  <p:cNvSpPr txBox="1"/>
                  <p:nvPr/>
                </p:nvSpPr>
                <p:spPr>
                  <a:xfrm>
                    <a:off x="7037640" y="2140920"/>
                    <a:ext cx="223920" cy="617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99" name=""/>
                <p:cNvSpPr txBox="1"/>
                <p:nvPr/>
              </p:nvSpPr>
              <p:spPr>
                <a:xfrm>
                  <a:off x="7431120" y="765000"/>
                  <a:ext cx="669960" cy="62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0" name=""/>
            <p:cNvSpPr/>
            <p:nvPr/>
          </p:nvSpPr>
          <p:spPr>
            <a:xfrm flipH="1">
              <a:off x="7359480" y="1054080"/>
              <a:ext cx="106560" cy="21924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8532720" y="4508640"/>
            <a:ext cx="377640" cy="1368000"/>
            <a:chOff x="8532720" y="4508640"/>
            <a:chExt cx="377640" cy="1368000"/>
          </a:xfrm>
        </p:grpSpPr>
        <p:sp>
          <p:nvSpPr>
            <p:cNvPr id="802" name=""/>
            <p:cNvSpPr/>
            <p:nvPr/>
          </p:nvSpPr>
          <p:spPr>
            <a:xfrm>
              <a:off x="8532720" y="4508640"/>
              <a:ext cx="377640" cy="1368000"/>
            </a:xfrm>
            <a:prstGeom prst="ellipse">
              <a:avLst/>
            </a:prstGeom>
            <a:noFill/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760240" y="5190840"/>
              <a:ext cx="0" cy="138960"/>
            </a:xfrm>
            <a:prstGeom prst="line">
              <a:avLst/>
            </a:prstGeom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4754520" y="2924280"/>
                <a:ext cx="5382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5" name=""/>
          <p:cNvSpPr/>
          <p:nvPr/>
        </p:nvSpPr>
        <p:spPr>
          <a:xfrm flipH="1" flipV="1">
            <a:off x="4427640" y="2923920"/>
            <a:ext cx="288720" cy="144360"/>
          </a:xfrm>
          <a:prstGeom prst="line">
            <a:avLst/>
          </a:prstGeom>
          <a:ln w="9360">
            <a:solidFill>
              <a:srgbClr val="0059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8B0-786B-4CC1-BD55-D7976694AC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500"/>
                            </p:stCondLst>
                            <p:childTnLst>
                              <p:par>
                                <p:cTn id="7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500"/>
                            </p:stCondLst>
                            <p:childTnLst>
                              <p:par>
                                <p:cTn id="7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3000"/>
                            </p:stCondLst>
                            <p:childTnLst>
                              <p:par>
                                <p:cTn id="7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00"/>
                            </p:stCondLst>
                            <p:childTnLst>
                              <p:par>
                                <p:cTn id="8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500"/>
                            </p:stCondLst>
                            <p:childTnLst>
                              <p:par>
                                <p:cTn id="8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500"/>
                            </p:stCondLst>
                            <p:childTnLst>
                              <p:par>
                                <p:cTn id="8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000"/>
                            </p:stCondLst>
                            <p:childTnLst>
                              <p:par>
                                <p:cTn id="8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8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000"/>
                            </p:stCondLst>
                            <p:childTnLst>
                              <p:par>
                                <p:cTn id="8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5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3000"/>
                            </p:stCondLst>
                            <p:childTnLst>
                              <p:par>
                                <p:cTn id="8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500"/>
                            </p:stCondLst>
                            <p:childTnLst>
                              <p:par>
                                <p:cTn id="8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erci pour votre atten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7D3-264A-49F7-BE73-5860369C40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lan de la présent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99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996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99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996"/>
                </a:solidFill>
                <a:latin typeface="Arial"/>
              </a:rPr>
              <a:t>Position du problème</a:t>
            </a: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99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86"/>
                </a:solidFill>
                <a:latin typeface="Arial"/>
              </a:rPr>
              <a:t>Solution du problème</a:t>
            </a: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599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86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08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FE9-DC41-4945-94B6-D2FCADD51B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2600"/>
            <a:ext cx="8229600" cy="1471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ème de la stabilité des systèmes discrets non-linéaires dans le cadre des ensembles asymptotiquement contractif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7200" y="3141720"/>
            <a:ext cx="5213160" cy="952560"/>
            <a:chOff x="187200" y="3141720"/>
            <a:chExt cx="5213160" cy="952560"/>
          </a:xfrm>
        </p:grpSpPr>
        <p:sp>
          <p:nvSpPr>
            <p:cNvPr id="219" name=""/>
            <p:cNvSpPr/>
            <p:nvPr/>
          </p:nvSpPr>
          <p:spPr>
            <a:xfrm>
              <a:off x="187200" y="3726000"/>
              <a:ext cx="13586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960:</a:t>
              </a: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 Hah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69040" y="3141720"/>
              <a:ext cx="183132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086"/>
                  </a:solidFill>
                  <a:latin typeface="Arial"/>
                </a:rPr>
                <a:t>Etat de l'a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547640" y="3726000"/>
            <a:ext cx="1969200" cy="368280"/>
            <a:chOff x="1547640" y="3726000"/>
            <a:chExt cx="1969200" cy="368280"/>
          </a:xfrm>
        </p:grpSpPr>
        <p:sp>
          <p:nvSpPr>
            <p:cNvPr id="222" name=""/>
            <p:cNvSpPr/>
            <p:nvPr/>
          </p:nvSpPr>
          <p:spPr>
            <a:xfrm>
              <a:off x="2080440" y="3726000"/>
              <a:ext cx="14364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962:</a:t>
              </a: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 Wei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47640" y="3851280"/>
              <a:ext cx="504720" cy="144360"/>
            </a:xfrm>
            <a:prstGeom prst="rightArrow">
              <a:avLst>
                <a:gd name="adj1" fmla="val 50000"/>
                <a:gd name="adj2" fmla="val 87406"/>
              </a:avLst>
            </a:prstGeom>
            <a:solidFill>
              <a:srgbClr val="005996"/>
            </a:solidFill>
            <a:ln w="9360">
              <a:solidFill>
                <a:srgbClr val="0059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538440" y="3726000"/>
            <a:ext cx="3243240" cy="368280"/>
            <a:chOff x="3538440" y="3726000"/>
            <a:chExt cx="3243240" cy="368280"/>
          </a:xfrm>
        </p:grpSpPr>
        <p:sp>
          <p:nvSpPr>
            <p:cNvPr id="225" name=""/>
            <p:cNvSpPr/>
            <p:nvPr/>
          </p:nvSpPr>
          <p:spPr>
            <a:xfrm>
              <a:off x="4063680" y="3726000"/>
              <a:ext cx="271800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1964:</a:t>
              </a: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 Kalman et Bertra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38440" y="3860640"/>
              <a:ext cx="504720" cy="144720"/>
            </a:xfrm>
            <a:prstGeom prst="rightArrow">
              <a:avLst>
                <a:gd name="adj1" fmla="val 50000"/>
                <a:gd name="adj2" fmla="val 87189"/>
              </a:avLst>
            </a:prstGeom>
            <a:solidFill>
              <a:srgbClr val="005996"/>
            </a:solidFill>
            <a:ln w="9360">
              <a:solidFill>
                <a:srgbClr val="0059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804000" y="3726000"/>
            <a:ext cx="2112120" cy="368280"/>
            <a:chOff x="6804000" y="3726000"/>
            <a:chExt cx="2112120" cy="368280"/>
          </a:xfrm>
        </p:grpSpPr>
        <p:sp>
          <p:nvSpPr>
            <p:cNvPr id="228" name=""/>
            <p:cNvSpPr/>
            <p:nvPr/>
          </p:nvSpPr>
          <p:spPr>
            <a:xfrm>
              <a:off x="7266240" y="3726000"/>
              <a:ext cx="1649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1964:</a:t>
              </a: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 Halana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04000" y="3867120"/>
              <a:ext cx="433440" cy="144720"/>
            </a:xfrm>
            <a:prstGeom prst="rightArrow">
              <a:avLst>
                <a:gd name="adj1" fmla="val 50000"/>
                <a:gd name="adj2" fmla="val 74876"/>
              </a:avLst>
            </a:prstGeom>
            <a:solidFill>
              <a:srgbClr val="005996"/>
            </a:solidFill>
            <a:ln w="9360">
              <a:solidFill>
                <a:srgbClr val="0059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835280" y="1600200"/>
            <a:ext cx="5078160" cy="1252440"/>
            <a:chOff x="1835280" y="1600200"/>
            <a:chExt cx="5078160" cy="125244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1835280" y="2320920"/>
                  <a:ext cx="507816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∈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3066840" y="1600200"/>
              <a:ext cx="275472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086"/>
                  </a:solidFill>
                  <a:latin typeface="Arial"/>
                </a:rPr>
                <a:t>Systèmes étudié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971640" y="4367160"/>
            <a:ext cx="7129440" cy="1585800"/>
            <a:chOff x="971640" y="4367160"/>
            <a:chExt cx="7129440" cy="1585800"/>
          </a:xfrm>
        </p:grpSpPr>
        <p:sp>
          <p:nvSpPr>
            <p:cNvPr id="234" name=""/>
            <p:cNvSpPr/>
            <p:nvPr/>
          </p:nvSpPr>
          <p:spPr>
            <a:xfrm>
              <a:off x="2253600" y="4367160"/>
              <a:ext cx="448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Arial"/>
                </a:rPr>
                <a:t>Limitation de la méthode de Lyapuno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42920" y="4676760"/>
              <a:ext cx="67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Elle n'est pas applicable dans le cadre des ensembles dépendants du tem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71640" y="4368600"/>
              <a:ext cx="7129440" cy="1584360"/>
            </a:xfrm>
            <a:prstGeom prst="wedgeRectCallout">
              <a:avLst>
                <a:gd name="adj1" fmla="val -925"/>
                <a:gd name="adj2" fmla="val -64226"/>
              </a:avLst>
            </a:prstGeom>
            <a:noFill/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261-5FF2-4B50-A1BC-54E944D2EA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539640" y="2125800"/>
            <a:ext cx="7112160" cy="721800"/>
            <a:chOff x="539640" y="2125800"/>
            <a:chExt cx="7112160" cy="721800"/>
          </a:xfrm>
        </p:grpSpPr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2139840" y="2163600"/>
                  <a:ext cx="5511960" cy="6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]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9" name=""/>
            <p:cNvSpPr/>
            <p:nvPr/>
          </p:nvSpPr>
          <p:spPr>
            <a:xfrm>
              <a:off x="539640" y="2125800"/>
              <a:ext cx="198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5086"/>
                  </a:solidFill>
                  <a:latin typeface="Arial"/>
                </a:rPr>
                <a:t>Exemp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87200" y="4365720"/>
            <a:ext cx="7264440" cy="433440"/>
            <a:chOff x="187200" y="4365720"/>
            <a:chExt cx="7264440" cy="433440"/>
          </a:xfrm>
        </p:grpSpPr>
        <p:sp>
          <p:nvSpPr>
            <p:cNvPr id="241" name=""/>
            <p:cNvSpPr/>
            <p:nvPr/>
          </p:nvSpPr>
          <p:spPr>
            <a:xfrm>
              <a:off x="187200" y="43657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086"/>
                  </a:solidFill>
                  <a:latin typeface="Arial"/>
                </a:rPr>
                <a:t>Soi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826920" y="4365720"/>
                  <a:ext cx="84456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43" name=""/>
            <p:cNvSpPr/>
            <p:nvPr/>
          </p:nvSpPr>
          <p:spPr>
            <a:xfrm>
              <a:off x="1835280" y="4365720"/>
              <a:ext cx="56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5086"/>
                  </a:solidFill>
                  <a:latin typeface="Arial"/>
                </a:rPr>
                <a:t>une fonction de Lyapunov candidate pour le systè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08000" y="2781360"/>
            <a:ext cx="9144000" cy="1592280"/>
            <a:chOff x="108000" y="2781360"/>
            <a:chExt cx="9144000" cy="1592280"/>
          </a:xfrm>
        </p:grpSpPr>
        <p:sp>
          <p:nvSpPr>
            <p:cNvPr id="245" name=""/>
            <p:cNvSpPr/>
            <p:nvPr/>
          </p:nvSpPr>
          <p:spPr>
            <a:xfrm>
              <a:off x="108000" y="2781360"/>
              <a:ext cx="91440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Arial"/>
                </a:rPr>
                <a:t>Critère de Lyapunov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fr-FR" sz="1800" spc="-1" strike="noStrike">
                  <a:solidFill>
                    <a:srgbClr val="005996"/>
                  </a:solidFill>
                  <a:latin typeface="Arial"/>
                </a:rPr>
                <a:t>: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S’il existe un voisinage connexe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 de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Arial"/>
                </a:rPr>
                <a:t>x=0</a:t>
              </a: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 et une fonction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2416320" y="3573360"/>
                  <a:ext cx="6426000" cy="53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∀</m:t>
                      </m:r>
                      <m:r>
                        <m:t xml:space="preserve">x</m:t>
                      </m:r>
                      <m:r>
                        <m:t xml:space="preserve">∈</m:t>
                      </m:r>
                      <m:r>
                        <m:t xml:space="preserve"> 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3017880" y="3141720"/>
                  <a:ext cx="10191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3963240" y="3213000"/>
              <a:ext cx="314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éfinie positive sur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tels qu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1040" y="4005360"/>
              <a:ext cx="36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lors le point d’équilibre est stab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403280" y="4900680"/>
                <a:ext cx="60483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911160" y="5445000"/>
                <a:ext cx="73882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 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: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2987640" y="1557360"/>
            <a:ext cx="2879640" cy="63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086"/>
                </a:solidFill>
                <a:latin typeface="Arial"/>
              </a:rPr>
              <a:t>Problémat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27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ème de la stabilité des systèmes discrets non-linéaires dans le cadre des ensembles asymptotiquement contractif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187-FE41-4ED3-9AF3-0FAF6029A2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ème de la stabilité des systèmes discrets non-linéaires dans le cadre des ensembles asymptotiquement contractif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2246400"/>
            <a:ext cx="78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 : </a:t>
            </a:r>
            <a:r>
              <a:rPr b="0" lang="en-US" sz="2400" spc="-1" strike="noStrike">
                <a:solidFill>
                  <a:srgbClr val="005996"/>
                </a:solidFill>
                <a:latin typeface="Arial"/>
              </a:rPr>
              <a:t>Le point d'équilibre </a:t>
            </a:r>
            <a:r>
              <a:rPr b="0" i="1" lang="en-US" sz="2400" spc="-1" strike="noStrike">
                <a:solidFill>
                  <a:srgbClr val="005996"/>
                </a:solidFill>
                <a:latin typeface="Times New Roman"/>
              </a:rPr>
              <a:t>x=0</a:t>
            </a:r>
            <a:r>
              <a:rPr b="0" lang="en-US" sz="2400" spc="-1" strike="noStrike">
                <a:solidFill>
                  <a:srgbClr val="005996"/>
                </a:solidFill>
                <a:latin typeface="Arial"/>
              </a:rPr>
              <a:t> est s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87640" y="1413000"/>
            <a:ext cx="2879640" cy="63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blémat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79280" y="1773360"/>
            <a:ext cx="8964720" cy="4424400"/>
            <a:chOff x="179280" y="1773360"/>
            <a:chExt cx="8964720" cy="4424400"/>
          </a:xfrm>
        </p:grpSpPr>
        <p:grpSp>
          <p:nvGrpSpPr>
            <p:cNvPr id="258" name=""/>
            <p:cNvGrpSpPr/>
            <p:nvPr/>
          </p:nvGrpSpPr>
          <p:grpSpPr>
            <a:xfrm>
              <a:off x="2447640" y="1773360"/>
              <a:ext cx="5543280" cy="3023640"/>
              <a:chOff x="2447640" y="1773360"/>
              <a:chExt cx="5543280" cy="302364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2447640" y="1773360"/>
                <a:ext cx="5543280" cy="958680"/>
                <a:chOff x="2447640" y="1773360"/>
                <a:chExt cx="5543280" cy="9586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2501280" y="1869120"/>
                  <a:ext cx="5489640" cy="7664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>
                  <a:off x="2447640" y="1773360"/>
                  <a:ext cx="5436000" cy="958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317400" y="2758320"/>
                <a:ext cx="4222800" cy="2038680"/>
                <a:chOff x="3317400" y="2758320"/>
                <a:chExt cx="4222800" cy="2038680"/>
              </a:xfrm>
            </p:grpSpPr>
            <p:pic>
              <p:nvPicPr>
                <p:cNvPr id="26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198120" y="2997720"/>
                  <a:ext cx="1342080" cy="1484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17400" y="2758320"/>
                  <a:ext cx="2606760" cy="20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65" name=""/>
            <p:cNvGrpSpPr/>
            <p:nvPr/>
          </p:nvGrpSpPr>
          <p:grpSpPr>
            <a:xfrm>
              <a:off x="179280" y="4508640"/>
              <a:ext cx="8964720" cy="1689120"/>
              <a:chOff x="179280" y="4508640"/>
              <a:chExt cx="8964720" cy="1689120"/>
            </a:xfrm>
          </p:grpSpPr>
          <p:sp>
            <p:nvSpPr>
              <p:cNvPr id="266" name=""/>
              <p:cNvSpPr/>
              <p:nvPr/>
            </p:nvSpPr>
            <p:spPr>
              <a:xfrm>
                <a:off x="1006920" y="4724640"/>
                <a:ext cx="150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5086"/>
                    </a:solidFill>
                    <a:latin typeface="Arial"/>
                  </a:rPr>
                  <a:t>Question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79280" y="5372280"/>
                <a:ext cx="8964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5086"/>
                    </a:solidFill>
                    <a:latin typeface="Arial"/>
                  </a:rPr>
                  <a:t>Pourquoi les critères de Lyapunov ne sont pas applicables dans ce cas?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4560" y="4508640"/>
                <a:ext cx="430200" cy="826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FCE-BE55-4C84-9340-152B57B102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ème de la stabilité des systèmes discrets non-linéaires dans le cadre des ensembles asymptotiquement contractif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0720" y="184464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ca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36320" y="2421000"/>
            <a:ext cx="8215560" cy="1608120"/>
            <a:chOff x="436320" y="2421000"/>
            <a:chExt cx="8215560" cy="1608120"/>
          </a:xfrm>
        </p:grpSpPr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691920" y="2948040"/>
                  <a:ext cx="685008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  <m:r>
                            <m:t xml:space="preserve">R</m:t>
                          </m:r>
                          <m:r>
                            <m:t xml:space="preserve">: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d>
                      <m:limLow>
                        <m:e>
                          <m:r>
                            <m:t xml:space="preserve">→</m:t>
                          </m:r>
                        </m:e>
                        <m:lim>
                          <m:r>
                            <m:t xml:space="preserve">k</m:t>
                          </m:r>
                          <m:r>
                            <m:t xml:space="preserve">→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lim>
                      </m:limLow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3" name=""/>
            <p:cNvSpPr/>
            <p:nvPr/>
          </p:nvSpPr>
          <p:spPr>
            <a:xfrm>
              <a:off x="436320" y="2421000"/>
              <a:ext cx="821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086"/>
                  </a:solidFill>
                  <a:latin typeface="Arial"/>
                </a:rPr>
                <a:t>L'ensembl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5086"/>
                  </a:solidFill>
                  <a:latin typeface="Arial"/>
                </a:rPr>
                <a:t>dans lequel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5086"/>
                  </a:solidFill>
                  <a:latin typeface="Arial"/>
                </a:rPr>
                <a:t>est asymptotiquement contracti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987640" y="1413000"/>
            <a:ext cx="2879640" cy="63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oblémat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50920" y="4149720"/>
            <a:ext cx="8569080" cy="1938240"/>
            <a:chOff x="250920" y="4149720"/>
            <a:chExt cx="8569080" cy="1938240"/>
          </a:xfrm>
        </p:grpSpPr>
        <p:sp>
          <p:nvSpPr>
            <p:cNvPr id="276" name=""/>
            <p:cNvSpPr/>
            <p:nvPr/>
          </p:nvSpPr>
          <p:spPr>
            <a:xfrm>
              <a:off x="250920" y="4149720"/>
              <a:ext cx="856908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5086"/>
                  </a:solidFill>
                  <a:latin typeface="Arial"/>
                </a:rPr>
                <a:t>Conséquenc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5086"/>
                  </a:solidFill>
                  <a:latin typeface="Arial"/>
                </a:rPr>
                <a:t>L'ensemble</a:t>
              </a:r>
              <a:r>
                <a:rPr b="0" lang="fr-FR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fr-FR" sz="2400" spc="-1" strike="noStrike">
                  <a:solidFill>
                    <a:srgbClr val="005086"/>
                  </a:solidFill>
                  <a:latin typeface="Arial"/>
                </a:rPr>
                <a:t>n’est pas positivement invariant par rapport</a:t>
              </a:r>
              <a:r>
                <a:rPr b="0" lang="fr-FR" sz="2400" spc="-1" strike="noStrike">
                  <a:solidFill>
                    <a:srgbClr val="005996"/>
                  </a:solidFill>
                  <a:latin typeface="Arial"/>
                </a:rPr>
                <a:t> 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5996"/>
                  </a:solidFill>
                  <a:latin typeface="Arial"/>
                </a:rPr>
                <a:t>           </a:t>
              </a:r>
              <a:r>
                <a:rPr b="0" lang="fr-FR" sz="2400" spc="-1" strike="noStrike">
                  <a:solidFill>
                    <a:srgbClr val="005996"/>
                  </a:solidFill>
                  <a:latin typeface="Arial"/>
                </a:rPr>
                <a:t>c-à-d il n’existe aucun 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fr-FR" sz="2400" spc="-1" strike="noStrike">
                  <a:solidFill>
                    <a:srgbClr val="005086"/>
                  </a:solidFill>
                  <a:latin typeface="Arial"/>
                </a:rPr>
                <a:t>tel que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324000" y="5014800"/>
                  <a:ext cx="84456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2700360" y="5548320"/>
                  <a:ext cx="452916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  <m:r>
                            <m:t xml:space="preserve">R</m:t>
                          </m:r>
                          <m:r>
                            <m:t xml:space="preserve">: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≤</m:t>
                          </m:r>
                          <m:r>
                            <m:t xml:space="preserve">α</m:t>
                          </m:r>
                        </m:e>
                      </m:d>
                      <m:r>
                        <m:t xml:space="preserve">⊂</m:t>
                      </m:r>
                      <m:r>
                        <m:t xml:space="preserve"> </m:t>
                      </m:r>
                      <m:r>
                        <m:t xml:space="preserve">S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4356000" y="4916520"/>
                  <a:ext cx="100800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R</m:t>
                          </m:r>
                        </m:e>
                        <m:sup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876840" y="2421000"/>
                <a:ext cx="1008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8B9-7E74-4F56-80B2-A30E9B9CA9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258920" y="2755800"/>
            <a:ext cx="6553080" cy="0"/>
          </a:xfrm>
          <a:prstGeom prst="line">
            <a:avLst/>
          </a:prstGeom>
          <a:ln w="9360">
            <a:solidFill>
              <a:srgbClr val="0050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24720" y="2679840"/>
            <a:ext cx="71640" cy="144360"/>
          </a:xfrm>
          <a:prstGeom prst="ellipse">
            <a:avLst/>
          </a:prstGeom>
          <a:noFill/>
          <a:ln w="93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551560" y="2443320"/>
            <a:ext cx="244440" cy="596880"/>
            <a:chOff x="5551560" y="2443320"/>
            <a:chExt cx="244440" cy="596880"/>
          </a:xfrm>
        </p:grpSpPr>
        <p:sp>
          <p:nvSpPr>
            <p:cNvPr id="284" name=""/>
            <p:cNvSpPr/>
            <p:nvPr/>
          </p:nvSpPr>
          <p:spPr>
            <a:xfrm>
              <a:off x="5551560" y="2443320"/>
              <a:ext cx="244440" cy="596880"/>
            </a:xfrm>
            <a:prstGeom prst="ellipse">
              <a:avLst/>
            </a:prstGeom>
            <a:noFill/>
            <a:ln w="1260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98800" y="2741040"/>
              <a:ext cx="0" cy="60480"/>
            </a:xfrm>
            <a:prstGeom prst="line">
              <a:avLst/>
            </a:prstGeom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443640" y="2514600"/>
            <a:ext cx="144360" cy="433440"/>
            <a:chOff x="6443640" y="2514600"/>
            <a:chExt cx="144360" cy="433440"/>
          </a:xfrm>
        </p:grpSpPr>
        <p:sp>
          <p:nvSpPr>
            <p:cNvPr id="287" name=""/>
            <p:cNvSpPr/>
            <p:nvPr/>
          </p:nvSpPr>
          <p:spPr>
            <a:xfrm>
              <a:off x="6443640" y="2514600"/>
              <a:ext cx="144360" cy="433440"/>
            </a:xfrm>
            <a:prstGeom prst="ellipse">
              <a:avLst/>
            </a:prstGeom>
            <a:noFill/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16360" y="2730600"/>
              <a:ext cx="0" cy="73080"/>
            </a:xfrm>
            <a:prstGeom prst="line">
              <a:avLst/>
            </a:prstGeom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020000" y="2587680"/>
            <a:ext cx="144360" cy="287280"/>
            <a:chOff x="7020000" y="2587680"/>
            <a:chExt cx="144360" cy="287280"/>
          </a:xfrm>
        </p:grpSpPr>
        <p:sp>
          <p:nvSpPr>
            <p:cNvPr id="290" name=""/>
            <p:cNvSpPr/>
            <p:nvPr/>
          </p:nvSpPr>
          <p:spPr>
            <a:xfrm>
              <a:off x="7020000" y="2587680"/>
              <a:ext cx="144360" cy="287280"/>
            </a:xfrm>
            <a:prstGeom prst="ellipse">
              <a:avLst/>
            </a:prstGeom>
            <a:noFill/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92720" y="2730600"/>
              <a:ext cx="0" cy="73080"/>
            </a:xfrm>
            <a:prstGeom prst="line">
              <a:avLst/>
            </a:prstGeom>
            <a:ln w="93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55640" y="1528920"/>
            <a:ext cx="1528920" cy="2353680"/>
            <a:chOff x="755640" y="1528920"/>
            <a:chExt cx="1528920" cy="2353680"/>
          </a:xfrm>
        </p:grpSpPr>
        <p:grpSp>
          <p:nvGrpSpPr>
            <p:cNvPr id="293" name=""/>
            <p:cNvGrpSpPr/>
            <p:nvPr/>
          </p:nvGrpSpPr>
          <p:grpSpPr>
            <a:xfrm>
              <a:off x="755640" y="1650960"/>
              <a:ext cx="1079640" cy="2231640"/>
              <a:chOff x="755640" y="1650960"/>
              <a:chExt cx="1079640" cy="2231640"/>
            </a:xfrm>
          </p:grpSpPr>
          <p:sp>
            <p:nvSpPr>
              <p:cNvPr id="294" name=""/>
              <p:cNvSpPr/>
              <p:nvPr/>
            </p:nvSpPr>
            <p:spPr>
              <a:xfrm>
                <a:off x="755640" y="1650960"/>
                <a:ext cx="1079640" cy="2231640"/>
              </a:xfrm>
              <a:prstGeom prst="ellipse">
                <a:avLst/>
              </a:prstGeom>
              <a:noFill/>
              <a:ln w="381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5" name=""/>
                  <p:cNvSpPr txBox="1"/>
                  <p:nvPr/>
                </p:nvSpPr>
                <p:spPr>
                  <a:xfrm>
                    <a:off x="1187640" y="2802960"/>
                    <a:ext cx="299880" cy="43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96" name=""/>
              <p:cNvSpPr/>
              <p:nvPr/>
            </p:nvSpPr>
            <p:spPr>
              <a:xfrm>
                <a:off x="1332000" y="2729880"/>
                <a:ext cx="0" cy="7272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 flipH="1">
              <a:off x="1619280" y="1793520"/>
              <a:ext cx="216000" cy="7128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1817640" y="1528920"/>
                  <a:ext cx="466920" cy="36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9" name=""/>
          <p:cNvGrpSpPr/>
          <p:nvPr/>
        </p:nvGrpSpPr>
        <p:grpSpPr>
          <a:xfrm>
            <a:off x="2843280" y="1673280"/>
            <a:ext cx="1168200" cy="1834560"/>
            <a:chOff x="2843280" y="1673280"/>
            <a:chExt cx="1168200" cy="1834560"/>
          </a:xfrm>
        </p:grpSpPr>
        <p:grpSp>
          <p:nvGrpSpPr>
            <p:cNvPr id="300" name=""/>
            <p:cNvGrpSpPr/>
            <p:nvPr/>
          </p:nvGrpSpPr>
          <p:grpSpPr>
            <a:xfrm>
              <a:off x="2843280" y="1996920"/>
              <a:ext cx="792000" cy="1510920"/>
              <a:chOff x="2843280" y="1996920"/>
              <a:chExt cx="792000" cy="1510920"/>
            </a:xfrm>
          </p:grpSpPr>
          <p:sp>
            <p:nvSpPr>
              <p:cNvPr id="301" name=""/>
              <p:cNvSpPr/>
              <p:nvPr/>
            </p:nvSpPr>
            <p:spPr>
              <a:xfrm>
                <a:off x="2843280" y="1996920"/>
                <a:ext cx="792000" cy="1510920"/>
              </a:xfrm>
              <a:prstGeom prst="ellipse">
                <a:avLst/>
              </a:prstGeom>
              <a:noFill/>
              <a:ln w="2844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03280" y="2715480"/>
                <a:ext cx="0" cy="7272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3" name=""/>
                  <p:cNvSpPr txBox="1"/>
                  <p:nvPr/>
                </p:nvSpPr>
                <p:spPr>
                  <a:xfrm>
                    <a:off x="3070080" y="2799720"/>
                    <a:ext cx="277560" cy="40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3564000" y="1673280"/>
                  <a:ext cx="44748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 flipH="1">
              <a:off x="3492360" y="1960200"/>
              <a:ext cx="216000" cy="26640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264200" y="1738440"/>
            <a:ext cx="901440" cy="1517040"/>
            <a:chOff x="4264200" y="1738440"/>
            <a:chExt cx="901440" cy="1517040"/>
          </a:xfrm>
        </p:grpSpPr>
        <p:grpSp>
          <p:nvGrpSpPr>
            <p:cNvPr id="307" name=""/>
            <p:cNvGrpSpPr/>
            <p:nvPr/>
          </p:nvGrpSpPr>
          <p:grpSpPr>
            <a:xfrm>
              <a:off x="4264200" y="2247840"/>
              <a:ext cx="576000" cy="1007640"/>
              <a:chOff x="4264200" y="2247840"/>
              <a:chExt cx="576000" cy="1007640"/>
            </a:xfrm>
          </p:grpSpPr>
          <p:sp>
            <p:nvSpPr>
              <p:cNvPr id="308" name=""/>
              <p:cNvSpPr/>
              <p:nvPr/>
            </p:nvSpPr>
            <p:spPr>
              <a:xfrm>
                <a:off x="4264200" y="2247840"/>
                <a:ext cx="576000" cy="1007640"/>
              </a:xfrm>
              <a:prstGeom prst="ellipse">
                <a:avLst/>
              </a:prstGeom>
              <a:noFill/>
              <a:ln w="1908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510080" y="2750760"/>
                <a:ext cx="0" cy="7272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0" name=""/>
                  <p:cNvSpPr txBox="1"/>
                  <p:nvPr/>
                </p:nvSpPr>
                <p:spPr>
                  <a:xfrm>
                    <a:off x="4365720" y="2776320"/>
                    <a:ext cx="301680" cy="40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4757760" y="1738440"/>
                  <a:ext cx="407880" cy="33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"/>
            <p:cNvSpPr/>
            <p:nvPr/>
          </p:nvSpPr>
          <p:spPr>
            <a:xfrm flipH="1">
              <a:off x="4643280" y="2031840"/>
              <a:ext cx="277920" cy="29952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187280" y="2176560"/>
            <a:ext cx="6626160" cy="1152000"/>
            <a:chOff x="1187280" y="2176560"/>
            <a:chExt cx="6626160" cy="1152000"/>
          </a:xfrm>
        </p:grpSpPr>
        <p:sp>
          <p:nvSpPr>
            <p:cNvPr id="314" name=""/>
            <p:cNvSpPr/>
            <p:nvPr/>
          </p:nvSpPr>
          <p:spPr>
            <a:xfrm>
              <a:off x="1187280" y="2176560"/>
              <a:ext cx="649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9040" y="3328560"/>
              <a:ext cx="649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042920" y="2174760"/>
                <a:ext cx="36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021120" y="2306520"/>
                <a:ext cx="4618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376880" y="2370240"/>
                <a:ext cx="36036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9" name=""/>
          <p:cNvGrpSpPr/>
          <p:nvPr/>
        </p:nvGrpSpPr>
        <p:grpSpPr>
          <a:xfrm>
            <a:off x="219240" y="3178080"/>
            <a:ext cx="1688760" cy="1187280"/>
            <a:chOff x="219240" y="3178080"/>
            <a:chExt cx="1688760" cy="1187280"/>
          </a:xfrm>
        </p:grpSpPr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219240" y="3765240"/>
                  <a:ext cx="168876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;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≤</m:t>
                          </m:r>
                          <m:r>
                            <m:t xml:space="preserve">α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"/>
            <p:cNvSpPr/>
            <p:nvPr/>
          </p:nvSpPr>
          <p:spPr>
            <a:xfrm flipV="1">
              <a:off x="1104840" y="3178080"/>
              <a:ext cx="142560" cy="57600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5435640" y="2176560"/>
            <a:ext cx="504720" cy="1150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16360" y="2176560"/>
            <a:ext cx="647640" cy="1150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11640" y="2176560"/>
            <a:ext cx="647640" cy="1150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700360" y="3184560"/>
            <a:ext cx="345600" cy="1157040"/>
            <a:chOff x="2700360" y="3184560"/>
            <a:chExt cx="345600" cy="1157040"/>
          </a:xfrm>
        </p:grpSpPr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2700360" y="3801960"/>
                  <a:ext cx="323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7" name=""/>
            <p:cNvSpPr/>
            <p:nvPr/>
          </p:nvSpPr>
          <p:spPr>
            <a:xfrm flipV="1">
              <a:off x="2903400" y="3184560"/>
              <a:ext cx="142560" cy="57600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936960" y="3184560"/>
            <a:ext cx="345600" cy="1157040"/>
            <a:chOff x="3936960" y="3184560"/>
            <a:chExt cx="345600" cy="1157040"/>
          </a:xfrm>
        </p:grpSpPr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3936960" y="3801960"/>
                  <a:ext cx="323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0" name=""/>
            <p:cNvSpPr/>
            <p:nvPr/>
          </p:nvSpPr>
          <p:spPr>
            <a:xfrm flipV="1">
              <a:off x="4140000" y="3184560"/>
              <a:ext cx="142560" cy="57600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148360" y="3040200"/>
            <a:ext cx="345600" cy="1157040"/>
            <a:chOff x="5148360" y="3040200"/>
            <a:chExt cx="345600" cy="1157040"/>
          </a:xfrm>
        </p:grpSpPr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5148360" y="3657600"/>
                  <a:ext cx="323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3" name=""/>
            <p:cNvSpPr/>
            <p:nvPr/>
          </p:nvSpPr>
          <p:spPr>
            <a:xfrm flipV="1">
              <a:off x="5351400" y="3040200"/>
              <a:ext cx="142560" cy="57600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052880" y="1239840"/>
            <a:ext cx="4559400" cy="1220760"/>
            <a:chOff x="4052880" y="1239840"/>
            <a:chExt cx="4559400" cy="1220760"/>
          </a:xfrm>
        </p:grpSpPr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5513400" y="2168640"/>
                  <a:ext cx="34920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36" name=""/>
            <p:cNvGrpSpPr/>
            <p:nvPr/>
          </p:nvGrpSpPr>
          <p:grpSpPr>
            <a:xfrm>
              <a:off x="4052880" y="1239840"/>
              <a:ext cx="4559400" cy="1008000"/>
              <a:chOff x="4052880" y="1239840"/>
              <a:chExt cx="4559400" cy="1008000"/>
            </a:xfrm>
          </p:grpSpPr>
          <p:sp>
            <p:nvSpPr>
              <p:cNvPr id="337" name=""/>
              <p:cNvSpPr/>
              <p:nvPr/>
            </p:nvSpPr>
            <p:spPr>
              <a:xfrm flipV="1">
                <a:off x="5724360" y="1672920"/>
                <a:ext cx="216000" cy="574920"/>
              </a:xfrm>
              <a:prstGeom prst="line">
                <a:avLst/>
              </a:prstGeom>
              <a:ln w="9360">
                <a:solidFill>
                  <a:srgbClr val="00599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8" name=""/>
                  <p:cNvSpPr txBox="1"/>
                  <p:nvPr/>
                </p:nvSpPr>
                <p:spPr>
                  <a:xfrm>
                    <a:off x="4052880" y="1239840"/>
                    <a:ext cx="4559400" cy="45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∉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Δv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t xml:space="preserve">?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car  </m:t>
                        </m:r>
                        <m:r>
                          <m:t xml:space="preserve">Δv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si 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24000" y="1052640"/>
                <a:ext cx="30956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Δv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0" name=""/>
          <p:cNvGrpSpPr/>
          <p:nvPr/>
        </p:nvGrpSpPr>
        <p:grpSpPr>
          <a:xfrm>
            <a:off x="971640" y="2176560"/>
            <a:ext cx="576000" cy="1152360"/>
            <a:chOff x="971640" y="2176560"/>
            <a:chExt cx="576000" cy="1152360"/>
          </a:xfrm>
        </p:grpSpPr>
        <p:sp>
          <p:nvSpPr>
            <p:cNvPr id="341" name=""/>
            <p:cNvSpPr/>
            <p:nvPr/>
          </p:nvSpPr>
          <p:spPr>
            <a:xfrm>
              <a:off x="971640" y="2176560"/>
              <a:ext cx="576000" cy="1152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971640" y="2536200"/>
              <a:ext cx="31392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1128600" y="2465280"/>
                  <a:ext cx="131400" cy="21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4" name=""/>
          <p:cNvGrpSpPr/>
          <p:nvPr/>
        </p:nvGrpSpPr>
        <p:grpSpPr>
          <a:xfrm>
            <a:off x="5795640" y="2968560"/>
            <a:ext cx="937080" cy="933120"/>
            <a:chOff x="5795640" y="2968560"/>
            <a:chExt cx="937080" cy="933120"/>
          </a:xfrm>
        </p:grpSpPr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6156360" y="3544560"/>
                  <a:ext cx="57636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6" name=""/>
            <p:cNvSpPr/>
            <p:nvPr/>
          </p:nvSpPr>
          <p:spPr>
            <a:xfrm flipH="1" flipV="1">
              <a:off x="5795640" y="2968560"/>
              <a:ext cx="431640" cy="57600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372360" y="2176560"/>
            <a:ext cx="287280" cy="1150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48360" y="2176560"/>
            <a:ext cx="287640" cy="1150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95640" y="260280"/>
            <a:ext cx="5184720" cy="63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prétation géométr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474920" y="5303880"/>
            <a:ext cx="6553080" cy="0"/>
          </a:xfrm>
          <a:prstGeom prst="line">
            <a:avLst/>
          </a:prstGeom>
          <a:ln w="9360">
            <a:solidFill>
              <a:srgbClr val="0050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95280" y="4522680"/>
            <a:ext cx="1655640" cy="1571760"/>
            <a:chOff x="395280" y="4522680"/>
            <a:chExt cx="1655640" cy="1571760"/>
          </a:xfrm>
        </p:grpSpPr>
        <p:grpSp>
          <p:nvGrpSpPr>
            <p:cNvPr id="352" name=""/>
            <p:cNvGrpSpPr/>
            <p:nvPr/>
          </p:nvGrpSpPr>
          <p:grpSpPr>
            <a:xfrm>
              <a:off x="971640" y="4522680"/>
              <a:ext cx="1079280" cy="1571760"/>
              <a:chOff x="971640" y="4522680"/>
              <a:chExt cx="1079280" cy="1571760"/>
            </a:xfrm>
          </p:grpSpPr>
          <p:sp>
            <p:nvSpPr>
              <p:cNvPr id="353" name=""/>
              <p:cNvSpPr/>
              <p:nvPr/>
            </p:nvSpPr>
            <p:spPr>
              <a:xfrm>
                <a:off x="971640" y="4522680"/>
                <a:ext cx="1079280" cy="1571760"/>
              </a:xfrm>
              <a:prstGeom prst="ellipse">
                <a:avLst/>
              </a:prstGeom>
              <a:noFill/>
              <a:ln w="381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4" name=""/>
                  <p:cNvSpPr txBox="1"/>
                  <p:nvPr/>
                </p:nvSpPr>
                <p:spPr>
                  <a:xfrm>
                    <a:off x="1403280" y="5334120"/>
                    <a:ext cx="299520" cy="303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5" name=""/>
              <p:cNvSpPr/>
              <p:nvPr/>
            </p:nvSpPr>
            <p:spPr>
              <a:xfrm>
                <a:off x="1547640" y="5282640"/>
                <a:ext cx="0" cy="51120"/>
              </a:xfrm>
              <a:prstGeom prst="line">
                <a:avLst/>
              </a:prstGeom>
              <a:ln w="9360">
                <a:solidFill>
                  <a:srgbClr val="0050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 flipV="1">
              <a:off x="684360" y="5013000"/>
              <a:ext cx="287280" cy="237960"/>
            </a:xfrm>
            <a:prstGeom prst="line">
              <a:avLst/>
            </a:prstGeom>
            <a:ln w="9360">
              <a:solidFill>
                <a:srgbClr val="005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395280" y="4941720"/>
                  <a:ext cx="36972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8" name=""/>
          <p:cNvGrpSpPr/>
          <p:nvPr/>
        </p:nvGrpSpPr>
        <p:grpSpPr>
          <a:xfrm>
            <a:off x="1403280" y="4724280"/>
            <a:ext cx="6625800" cy="1152360"/>
            <a:chOff x="1403280" y="4724280"/>
            <a:chExt cx="6625800" cy="1152360"/>
          </a:xfrm>
        </p:grpSpPr>
        <p:sp>
          <p:nvSpPr>
            <p:cNvPr id="359" name=""/>
            <p:cNvSpPr/>
            <p:nvPr/>
          </p:nvSpPr>
          <p:spPr>
            <a:xfrm>
              <a:off x="1403280" y="4724280"/>
              <a:ext cx="649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35040" y="5876640"/>
              <a:ext cx="649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24000" y="5554800"/>
            <a:ext cx="1689120" cy="1187280"/>
            <a:chOff x="324000" y="5554800"/>
            <a:chExt cx="1689120" cy="1187280"/>
          </a:xfrm>
        </p:grpSpPr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324000" y="6141960"/>
                  <a:ext cx="1689120" cy="60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α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;</m:t>
                          </m:r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≤</m:t>
                          </m:r>
                          <m:r>
                            <m:t xml:space="preserve">α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63" name=""/>
            <p:cNvSpPr/>
            <p:nvPr/>
          </p:nvSpPr>
          <p:spPr>
            <a:xfrm flipV="1">
              <a:off x="1209960" y="5554800"/>
              <a:ext cx="142920" cy="576000"/>
            </a:xfrm>
            <a:prstGeom prst="line">
              <a:avLst/>
            </a:prstGeom>
            <a:ln w="9360">
              <a:solidFill>
                <a:srgbClr val="0059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186920" y="4724280"/>
            <a:ext cx="576720" cy="1152720"/>
            <a:chOff x="1186920" y="4724280"/>
            <a:chExt cx="576720" cy="1152720"/>
          </a:xfrm>
        </p:grpSpPr>
        <p:sp>
          <p:nvSpPr>
            <p:cNvPr id="365" name=""/>
            <p:cNvSpPr/>
            <p:nvPr/>
          </p:nvSpPr>
          <p:spPr>
            <a:xfrm>
              <a:off x="1187280" y="4724280"/>
              <a:ext cx="576360" cy="1152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flipV="1">
              <a:off x="1186920" y="5084640"/>
              <a:ext cx="314280" cy="2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7" name=""/>
                <p:cNvSpPr txBox="1"/>
                <p:nvPr/>
              </p:nvSpPr>
              <p:spPr>
                <a:xfrm>
                  <a:off x="1344240" y="5013360"/>
                  <a:ext cx="1314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8" name=""/>
          <p:cNvGrpSpPr/>
          <p:nvPr/>
        </p:nvGrpSpPr>
        <p:grpSpPr>
          <a:xfrm>
            <a:off x="1474920" y="4508640"/>
            <a:ext cx="6625800" cy="1584000"/>
            <a:chOff x="1474920" y="4508640"/>
            <a:chExt cx="6625800" cy="1584000"/>
          </a:xfrm>
        </p:grpSpPr>
        <p:sp>
          <p:nvSpPr>
            <p:cNvPr id="369" name=""/>
            <p:cNvSpPr/>
            <p:nvPr/>
          </p:nvSpPr>
          <p:spPr>
            <a:xfrm>
              <a:off x="1474920" y="4508640"/>
              <a:ext cx="6494040" cy="0"/>
            </a:xfrm>
            <a:prstGeom prst="line">
              <a:avLst/>
            </a:prstGeom>
            <a:ln w="2844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06680" y="6092640"/>
              <a:ext cx="6494040" cy="0"/>
            </a:xfrm>
            <a:prstGeom prst="line">
              <a:avLst/>
            </a:prstGeom>
            <a:ln w="2844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D7B5-F02A-4D67-82D3-5A99F03FA6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846160" y="1700280"/>
            <a:ext cx="25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ème pos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68360" y="2708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08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5086"/>
                </a:solidFill>
                <a:latin typeface="Arial"/>
              </a:rPr>
              <a:t>Indiquer si la méthode de Lyapunov résout  réell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08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5086"/>
                </a:solidFill>
                <a:latin typeface="Arial"/>
              </a:rPr>
              <a:t>la question de la stabilité dans le cadre des ensemb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508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5086"/>
                </a:solidFill>
                <a:latin typeface="Arial"/>
              </a:rPr>
              <a:t>asymptotiquement contractif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ème de la stabilité des systèmes discrets non-linéaires dans le cadre des ensembles asymptotiquement contractif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AA0-326C-47FB-9984-29ECFB8B67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ème de la stabilité des systèmes discrets non-linéaires dans le cadre des ensembles asymptotiquement contractif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64920" y="125424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éponse au problè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37400" y="1844640"/>
            <a:ext cx="58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086"/>
                </a:solidFill>
                <a:latin typeface="Arial"/>
              </a:rPr>
              <a:t>Proposition de deux approches différ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763640" y="2349360"/>
            <a:ext cx="4714560" cy="1262520"/>
            <a:chOff x="1763640" y="2349360"/>
            <a:chExt cx="4714560" cy="1262520"/>
          </a:xfrm>
        </p:grpSpPr>
        <p:sp>
          <p:nvSpPr>
            <p:cNvPr id="378" name=""/>
            <p:cNvSpPr/>
            <p:nvPr/>
          </p:nvSpPr>
          <p:spPr>
            <a:xfrm>
              <a:off x="1763640" y="2349360"/>
              <a:ext cx="47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Arial"/>
                </a:rPr>
                <a:t>Approche 1:</a:t>
              </a:r>
              <a:r>
                <a:rPr b="0" lang="fr-FR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005996"/>
                  </a:solidFill>
                  <a:latin typeface="Arial"/>
                </a:rPr>
                <a:t>Méthode de Lyapuno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22440" y="3213000"/>
              <a:ext cx="168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996"/>
                  </a:solidFill>
                  <a:latin typeface="Arial"/>
                </a:rPr>
                <a:t>Deux critèr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7440" y="2923920"/>
              <a:ext cx="287280" cy="358920"/>
            </a:xfrm>
            <a:prstGeom prst="downArrow">
              <a:avLst>
                <a:gd name="adj1" fmla="val 50000"/>
                <a:gd name="adj2" fmla="val 31234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216000" y="3492360"/>
            <a:ext cx="5724000" cy="1881000"/>
            <a:chOff x="216000" y="3492360"/>
            <a:chExt cx="5724000" cy="1881000"/>
          </a:xfrm>
        </p:grpSpPr>
        <p:sp>
          <p:nvSpPr>
            <p:cNvPr id="382" name=""/>
            <p:cNvSpPr/>
            <p:nvPr/>
          </p:nvSpPr>
          <p:spPr>
            <a:xfrm rot="2161200">
              <a:off x="3264480" y="3573360"/>
              <a:ext cx="416520" cy="431640"/>
            </a:xfrm>
            <a:prstGeom prst="downArrow">
              <a:avLst>
                <a:gd name="adj1" fmla="val 50000"/>
                <a:gd name="adj2" fmla="val 25908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77560" y="3931920"/>
              <a:ext cx="476244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ritère 1: Utilisation de deux fonction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996"/>
                  </a:solidFill>
                  <a:latin typeface="Arial"/>
                </a:rPr>
                <a:t>définit la frontière de l'ensemble considér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996"/>
                  </a:solidFill>
                  <a:latin typeface="Arial"/>
                </a:rPr>
                <a:t>une fonction définie 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216000" y="4292280"/>
                  <a:ext cx="990720" cy="48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256320" y="4892400"/>
                  <a:ext cx="90972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6" name=""/>
          <p:cNvGrpSpPr/>
          <p:nvPr/>
        </p:nvGrpSpPr>
        <p:grpSpPr>
          <a:xfrm>
            <a:off x="5187960" y="3342960"/>
            <a:ext cx="3687840" cy="1897560"/>
            <a:chOff x="5187960" y="3342960"/>
            <a:chExt cx="3687840" cy="1897560"/>
          </a:xfrm>
        </p:grpSpPr>
        <p:sp>
          <p:nvSpPr>
            <p:cNvPr id="387" name=""/>
            <p:cNvSpPr/>
            <p:nvPr/>
          </p:nvSpPr>
          <p:spPr>
            <a:xfrm rot="19044600">
              <a:off x="5266800" y="3430080"/>
              <a:ext cx="411480" cy="393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88000" y="3357720"/>
              <a:ext cx="318780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ritère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996"/>
                  </a:solidFill>
                  <a:latin typeface="Arial"/>
                </a:rPr>
                <a:t>Si l’ensemble est invariant par rapport à                seule cette fonction est nécessaire pour le test de la stabilité asymptotiqu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7215120" y="4005360"/>
                  <a:ext cx="79236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0" name=""/>
            <p:cNvSpPr/>
            <p:nvPr/>
          </p:nvSpPr>
          <p:spPr>
            <a:xfrm>
              <a:off x="5859360" y="4653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">
            <a:hlinkClick r:id="" action="ppaction://hlinkshowjump?jump=nextslide"/>
          </p:cNvPr>
          <p:cNvSpPr/>
          <p:nvPr/>
        </p:nvSpPr>
        <p:spPr>
          <a:xfrm>
            <a:off x="324000" y="566100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>
            <a:hlinkClick r:id="rId1" action="ppaction://hlinksldjump"/>
          </p:cNvPr>
          <p:cNvSpPr/>
          <p:nvPr/>
        </p:nvSpPr>
        <p:spPr>
          <a:xfrm>
            <a:off x="8317080" y="5229360"/>
            <a:ext cx="502920" cy="57600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736">
                <a:moveTo>
                  <a:pt x="0" y="0"/>
                </a:moveTo>
                <a:lnTo>
                  <a:pt x="21600" y="0"/>
                </a:lnTo>
                <a:lnTo>
                  <a:pt x="21600" y="24736"/>
                </a:lnTo>
                <a:lnTo>
                  <a:pt x="0" y="24736"/>
                </a:lnTo>
                <a:close/>
              </a:path>
              <a:path fill="lightenLess" w="21600" h="247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36">
                <a:moveTo>
                  <a:pt x="21600" y="0"/>
                </a:moveTo>
                <a:lnTo>
                  <a:pt x="21600" y="24736"/>
                </a:lnTo>
                <a:lnTo>
                  <a:pt x="20200" y="23336"/>
                </a:lnTo>
                <a:lnTo>
                  <a:pt x="20200" y="1400"/>
                </a:lnTo>
                <a:close/>
              </a:path>
              <a:path fill="darkenLess" w="21600" h="24736">
                <a:moveTo>
                  <a:pt x="21600" y="24736"/>
                </a:moveTo>
                <a:lnTo>
                  <a:pt x="0" y="24736"/>
                </a:lnTo>
                <a:lnTo>
                  <a:pt x="1400" y="23336"/>
                </a:lnTo>
                <a:lnTo>
                  <a:pt x="20200" y="23336"/>
                </a:lnTo>
                <a:close/>
              </a:path>
              <a:path fill="lighten" w="21600" h="24736">
                <a:moveTo>
                  <a:pt x="0" y="247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36"/>
                </a:lnTo>
                <a:close/>
              </a:path>
              <a:path fill="darken" w="21600" h="24736">
                <a:moveTo>
                  <a:pt x="3794" y="5362"/>
                </a:moveTo>
                <a:lnTo>
                  <a:pt x="17806" y="12368"/>
                </a:lnTo>
                <a:lnTo>
                  <a:pt x="3794" y="19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>
            <a:hlinkClick r:id="rId2" action="ppaction://hlinksldjump"/>
          </p:cNvPr>
          <p:cNvSpPr/>
          <p:nvPr/>
        </p:nvSpPr>
        <p:spPr>
          <a:xfrm>
            <a:off x="8244000" y="141300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3794"/>
                </a:moveTo>
                <a:lnTo>
                  <a:pt x="19366" y="10800"/>
                </a:lnTo>
                <a:lnTo>
                  <a:pt x="535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>
            <a:hlinkClick r:id="rId3" action="ppaction://hlinksldjump"/>
          </p:cNvPr>
          <p:cNvSpPr/>
          <p:nvPr/>
        </p:nvSpPr>
        <p:spPr>
          <a:xfrm>
            <a:off x="8244000" y="134136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3794"/>
                </a:moveTo>
                <a:lnTo>
                  <a:pt x="19992" y="10800"/>
                </a:lnTo>
                <a:lnTo>
                  <a:pt x="597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847-81FC-4D1A-8A0D-AC983AF012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6:35:12Z</dcterms:created>
  <dc:creator>rbouyekh</dc:creator>
  <dc:description/>
  <dc:language>en-US</dc:language>
  <cp:lastModifiedBy>rbouyekh</cp:lastModifiedBy>
  <dcterms:modified xsi:type="dcterms:W3CDTF">2010-12-08T13:36:49Z</dcterms:modified>
  <cp:revision>193</cp:revision>
  <dc:subject/>
  <dc:title>Utilisation  de nouvelles méthodes non classiques pour l'analyse des systèmes discrets non-linéaires et des systèmes à événements discrets</dc:title>
</cp:coreProperties>
</file>